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C8CF-637E-418D-A669-6D718D34A80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569E-0FB1-4C43-AE39-2387DC7C209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76DA-5FCD-425A-B232-A4E907566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FAE3-FA47-4366-AB97-DB8CD554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7D59-6ABD-4D9E-8E47-9B350B38E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FB99-8858-4399-B106-33FC07D64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DF54-6EBB-438D-BB65-967FAC48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2EC7-B695-45AE-B1E1-A8B6DA59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6359-78A5-4B61-AEFE-EC4C0368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6C99-521E-430C-B90B-5FEB5102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DC8C-40B0-4F4F-949E-93D9EF56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F4EF-7973-4D2A-B308-D521E38C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2D3D-359C-4129-AB7A-B4A95FA9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F409-2E3F-4AE4-B7AF-ADC01C35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B086-EF42-46BB-BB43-A1AB10C5C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97160" y="1981080"/>
            <a:ext cx="579096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外婆家的小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1829880" y="58672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0666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初读课文，了解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请同学们默读课文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读完课文，你们觉得外婆家的小屋神奇吗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你们最喜欢哪几个自然段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23"/>
          <p:cNvPicPr/>
          <p:nvPr/>
        </p:nvPicPr>
        <p:blipFill>
          <a:blip r:embed="rId1"/>
          <a:stretch/>
        </p:blipFill>
        <p:spPr>
          <a:xfrm>
            <a:off x="1371600" y="990720"/>
            <a:ext cx="59626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24"/>
          <p:cNvPicPr/>
          <p:nvPr/>
        </p:nvPicPr>
        <p:blipFill>
          <a:blip r:embed="rId1"/>
          <a:stretch/>
        </p:blipFill>
        <p:spPr>
          <a:xfrm>
            <a:off x="596880" y="1352520"/>
            <a:ext cx="79502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96048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品读课文，感受神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品读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然段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自由读，能不能带着喜欢的感情多读几遍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在朗读课文时用审美的情趣体会感悟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同桌交流，并谈出自己的见解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来到春天的小院落里，你看到了什么？想到了什么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533520" y="9140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品读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然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自由朗读，夏天来了，作者首先看到了什么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大家已经朗读完了这一段，谁能回答一下课后的问题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联系生活，丰富想象：你能联系家乡秋天的一处景物，像书上所说的那样有趣吗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重读课文，感知内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外婆家的小屋在春天变成了花园；夏天，翠竹园是我们的天堂。下面请同学读读第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自然段，看看秋天和冬天的小屋还有什么？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自读，要求读准字音，读通课文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交流感悟，丰富想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默读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然段，边读边想，这两段分别写了什么？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男女同学分季节读句子，由老师来评议。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把自己最喜欢的句子背诵下来，评出小背诵家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总结拓展，情感升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抄写词语表中的词语和自己最喜欢的句子。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联系家乡的一处景物，仿照书上说的写一段话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1"/>
          <p:cNvSpPr/>
          <p:nvPr/>
        </p:nvSpPr>
        <p:spPr>
          <a:xfrm>
            <a:off x="1152360" y="5283360"/>
            <a:ext cx="62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比一比：看谁填得快又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80880" y="24382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  ）花坛           （         ）大丽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  ）席子            （        ）翠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  ）凉茶             （       ）蜜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4"/>
          <p:cNvSpPr txBox="1"/>
          <p:nvPr/>
        </p:nvSpPr>
        <p:spPr>
          <a:xfrm>
            <a:off x="2438280" y="2514600"/>
            <a:ext cx="3657600" cy="2209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谢谢指导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学习目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认识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个生字，能写这些生字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通过课文的学习激发热爱家乡，热爱祖国的思想感情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体会含义深刻的句子的意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ED08-13EE-4E08-A52A-E5C3E2B9375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80880" y="19051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欣赏小屋，育情导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同学们，这儿有几幅图画，想让同学欣赏一下，并说说是什么景色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6"/>
          <p:cNvSpPr/>
          <p:nvPr/>
        </p:nvSpPr>
        <p:spPr>
          <a:xfrm>
            <a:off x="1798560" y="335268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小屋"/>
          <p:cNvPicPr/>
          <p:nvPr/>
        </p:nvPicPr>
        <p:blipFill>
          <a:blip r:embed="rId1"/>
          <a:stretch/>
        </p:blipFill>
        <p:spPr>
          <a:xfrm>
            <a:off x="1162080" y="1295280"/>
            <a:ext cx="2743200" cy="3657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小屋2"/>
          <p:cNvPicPr/>
          <p:nvPr/>
        </p:nvPicPr>
        <p:blipFill>
          <a:blip r:embed="rId2"/>
          <a:stretch/>
        </p:blipFill>
        <p:spPr>
          <a:xfrm>
            <a:off x="5113440" y="1295280"/>
            <a:ext cx="26096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小吴"/>
          <p:cNvPicPr/>
          <p:nvPr/>
        </p:nvPicPr>
        <p:blipFill>
          <a:blip r:embed="rId1"/>
          <a:stretch/>
        </p:blipFill>
        <p:spPr>
          <a:xfrm>
            <a:off x="2438280" y="1066680"/>
            <a:ext cx="3772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小屋3"/>
          <p:cNvPicPr/>
          <p:nvPr/>
        </p:nvPicPr>
        <p:blipFill>
          <a:blip r:embed="rId1"/>
          <a:stretch/>
        </p:blipFill>
        <p:spPr>
          <a:xfrm>
            <a:off x="1447920" y="1371600"/>
            <a:ext cx="58672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小屋4"/>
          <p:cNvPicPr/>
          <p:nvPr/>
        </p:nvPicPr>
        <p:blipFill>
          <a:blip r:embed="rId1"/>
          <a:stretch/>
        </p:blipFill>
        <p:spPr>
          <a:xfrm>
            <a:off x="2133720" y="685800"/>
            <a:ext cx="4286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讨论：你喜欢小屋吗？说说喜欢的理由。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这就是外婆家的小屋，美丽而温馨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今天我们来学习第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课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外婆家的小屋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685800"/>
            <a:ext cx="8686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学习生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婆    座    院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似    密    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舒    席    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烤    雪    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5T14:09:5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46:06Z</dcterms:modified>
  <cp:revision>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