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5.gif" ContentType="image/gif"/>
  <Override PartName="/ppt/media/image24.gif" ContentType="image/gif"/>
  <Override PartName="/ppt/media/image22.png" ContentType="image/png"/>
  <Override PartName="/ppt/media/image21.jpeg" ContentType="image/jpeg"/>
  <Override PartName="/ppt/media/chimes.wav" ContentType="audio/x-wav"/>
  <Override PartName="/ppt/media/image5.jpeg" ContentType="image/jpeg"/>
  <Override PartName="/ppt/media/image26.jpeg" ContentType="image/jpeg"/>
  <Override PartName="/ppt/media/image12.jpeg" ContentType="image/jpeg"/>
  <Override PartName="/ppt/media/image10.gif" ContentType="image/gif"/>
  <Override PartName="/ppt/media/image13.jpeg" ContentType="image/jpeg"/>
  <Override PartName="/ppt/media/coin.wav" ContentType="audio/x-wav"/>
  <Override PartName="/ppt/media/image7.gif" ContentType="image/gif"/>
  <Override PartName="/ppt/media/image33.wmf" ContentType="image/x-wmf"/>
  <Override PartName="/ppt/media/image29.jpeg" ContentType="image/jpeg"/>
  <Override PartName="/ppt/media/image11.jpeg" ContentType="image/jpeg"/>
  <Override PartName="/ppt/media/image28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6.png" ContentType="image/png"/>
  <Override PartName="/ppt/media/image9.wmf" ContentType="image/x-wmf"/>
  <Override PartName="/ppt/media/image8.gif" ContentType="image/gif"/>
  <Override PartName="/ppt/media/image18.jpeg" ContentType="image/jpeg"/>
  <Override PartName="/ppt/media/image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3.gif" ContentType="image/gif"/>
  <Override PartName="/ppt/media/image19.jpeg" ContentType="image/jpeg"/>
  <Override PartName="/ppt/media/image20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02CA-69EB-440A-8FDB-CED8B7100A1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FA38-A6D5-4317-8949-5F3D2BE231E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8764-2698-4CC3-8B23-37AF21C50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B6BF-B498-4633-94FA-761A9E61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B4D85-35DC-4E18-BAC3-35AF5E7E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CF2C3A-3028-4A2A-9714-4AB6280E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B0BC5-3865-4AB7-987E-4074B36E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279C0B-8199-47CC-BC9A-531F2111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E358A5-10CD-40FD-B564-34E46B75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FBBBC8-1122-4455-9C02-05BF302B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D42D0B-98BE-409B-80F3-273F6886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0EF12-2603-4DEA-802E-4D1D4CBE6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61FA2-9C81-4511-83A6-069944BB2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8FFCAB-EC79-47E2-BA4F-C219EF95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B0D2-524F-4C62-B4F1-4BE057862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5E0817-D12E-423B-863D-1B94AD36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A17E7C-0317-427B-B75D-B2011144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469988-6004-4FC9-B8AC-BBBE7073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D5896D-F57F-4104-B396-0C150659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244B75-B344-4E8B-BDB8-4294A6ED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8904DA-7AA4-400B-B998-3CCFCD6B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BAB3D7-D890-497C-9EF3-65AF71A4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D2DB76-E472-452F-8623-833079F4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79AC19-4BE0-436F-86D7-CF97E59F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47BF88-4C20-4EB8-9953-F137F6F4D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9ECB-D0EA-4268-9F56-3000DFEB3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AB4CF3-A57E-4A75-98E7-DE6CE8E0E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9D0A41-1434-4B63-9197-869F7D986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86A9B-46D6-4F48-8A95-4DE48AF1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C4199-8BE6-49D5-9CA4-09AC194F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103AF-EFC1-43AE-B451-1D415BA6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A31A3-7D21-45DD-8FD6-8E8607A8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C46BB-D953-4483-ABBD-89899546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EE281-C62E-492C-8024-516D1DD8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C8477-D889-466C-A029-B5043897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C0B94-D394-4D45-8C00-C1108E02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13FB-CB18-4F49-8E2C-C52DE9739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AD1E3-1AEB-4E63-BDDB-D5679243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3E5F7A-C7FA-4B6A-B61E-734BB8A84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78BF4-CC33-4BCD-9510-3F2A2EC19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EB6288-1D38-42A1-B49D-B8AC61CFE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366F6B-D9BF-40A6-B076-9B9D4409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BF1C4A-5535-4BD5-9FC6-604B5379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098CCC-9093-4B23-8073-1A4C32EC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B44F04-FAFD-48F5-A3A2-A90FFC2D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50FA69-C4BB-4ED6-90FF-E846CD7B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B1F85-44D2-48BA-9F0E-A0C0DE26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1D1E-D341-4114-8E9C-85131E27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676559-3958-4E43-8725-362901BB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56DAE3-D5DB-4A6A-9A16-803B6D78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8D27DA-B423-4DBF-A56B-F4930558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57F3C1-C63E-4E9A-BFF8-3A42627FD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5B902A-104B-4C14-BA84-8EE8E9BE2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E05153-7B10-4B17-ACAC-4B07E5BEC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B23F19-A104-4DC6-8A8F-0552BA9A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B6B1CF-20AC-45B2-AC9D-F353A3C1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2A5160-CFFB-4FEC-A818-C608A21A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BF10B6-7A7C-4DD8-91C6-C384FEFE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76E0-9EE5-4936-930E-FC680DEF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9A4602-E1FC-4937-B520-5764BAD6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92290A-B1A5-4015-BEEE-9C7B0C50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D96F3A-7C92-4B11-A7F2-41CF0828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B280C9-5A1C-4FCB-A34F-1EAE66A9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263FA3-F1DE-4FD8-9221-986D269D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65B375-40DE-4E02-AA12-0D7A19B50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D7AB38-ECB5-40CC-B741-EA3D0CAF8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7F3B-7F3F-439F-9382-8198FEE1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57D0-EE99-4AFF-913D-BAB90BF1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9773-2BF4-4811-BE06-05AC88F2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6679-554D-4B10-9AB6-2AC216A4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0D89-E4BA-4489-9A85-C66165B4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D158-7438-4786-8FB2-26771E78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BEC4D-4824-4627-A037-5F8770BA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80D0-D10F-487B-B974-8B6BE83C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FEC8-3D8A-4B03-A28B-90B63F677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D106-6B76-47E4-8B12-8239AA0D1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99590-E9C5-4DAB-A64C-CD58AB5F3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47D6B-B191-4122-B9FB-1C51E44C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DF0DD-EF30-4C4A-84E3-27563FC1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264A3-A361-4D6E-A502-77D74DC5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5FF39-85C3-4BB7-9443-C735D219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2F1B-B7BE-490A-8991-0BB18CD5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E2DF2-6EEC-44F9-BCBB-A5460228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52CD6-8662-4A28-90AB-B25ED923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0F1B5-9664-4CE2-B19E-E406B6F1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62F8B-BC86-4A01-BBF9-0AEB738C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A0476-8C8A-41D8-80A3-4D2FCCAE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7F0FE-14A4-401F-A8F1-0EE3BC4E5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5004F-3C9E-45F5-A103-789226152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CC3A7-9EB2-4448-B9A1-1AEC36BF7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91C82-F643-4E6C-A87A-70C441D8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17C16-1C40-46FC-8A43-8157EA8B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9078-4F69-4BC4-9FD4-74217E54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06611-B3B2-4888-BABF-3AD72759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32697-C3FB-46D5-8BDF-208A8441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C9CBF-29DD-4A8A-B867-77F4CBC4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2FD34-1C86-40CE-8BB7-D76A1CFF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BC02F-D84A-48E5-896C-F780C1B7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19650-230C-4437-BC32-B47EA870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77487-DFF2-432D-803D-21C153AB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45AEF-C831-43A2-BA4E-EFF74CAEF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387E2-5F0B-499D-AE79-EB75267AF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7D4B2-1E37-4BD3-92D6-ABA44DE99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7547-0AF1-4392-B272-A8CDE41C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0CC5B-FB3B-4154-BB52-B57C6827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1ED5D-1E91-4AEB-930F-EE3D8430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0B62E-5BAA-4BAC-9D94-3742F9C1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9A322-1076-4F46-92FB-40180375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1FB74-2407-4ACF-A6AF-6A17DF24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97365-75D5-437D-B9C2-1D6073D2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F47F0-BEDA-484F-8D2B-1FC585DF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28C11-E788-4171-9A05-85FE9FD3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6ECF0-5E17-4113-A008-79F966AA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3F820-FB58-4FFB-88A8-0FA53101F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92C8-38D6-495F-8F25-67213853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B5B31-0F74-427B-9B1F-E8A4D4D7F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E9E5A-26FB-488B-A87E-D0FCE009F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F02FA-28AA-4BCD-BB69-98E61D5E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D473C-378F-4716-AC45-B2A6113B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D7F26-69CE-4476-A4FF-2B0048AB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F1F55-E499-4BAA-A1A5-0045EDB6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A5F64-1FCA-4EE8-86D3-D4682428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A96A1-6191-4242-87CA-2D3B3150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B439F-EA1A-49AD-ABD9-B78AEE4C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FEAFC-2DAC-4E4D-9B03-7E319157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99A3-3F5C-475F-8090-2DE1C521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558E6-5284-45DD-B0CE-49D6D8F6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3C96E-00FD-4CA6-B688-2E3530553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D8DD4-E930-405D-80C8-8F7E86366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8B0DC-A889-4286-B59B-819D29A68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79F70-DC6B-4D91-9A1C-966B3CEE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05258-EA1B-467B-940B-32A5A1CB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18EA5-EFCE-41D9-980F-7E2D9FA4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DF3FC-0CB9-4274-980F-8B76F0BC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23771-9997-4B32-B7DD-4B85DFB2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76EBA-D9E0-4F05-AD45-12F2D244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3E79-2104-4E22-A022-B588CA76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54A54-7990-4A8A-A6B7-353B74DB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E9580-D600-42A8-A178-01390945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0C027-4970-47A3-AB15-0E342C19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88A1C-8B40-44B5-B712-77FDDBA55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A0AED-EF62-487D-B5FA-B2BE36F71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EE4F2-5935-401A-9C41-F4D7EBEBA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7A999-467A-4A8D-A03F-53639A8B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CCA40-5B5D-4596-845C-C2EFD84B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F94FF-172B-4A87-93D4-157AEA79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137E6-0C70-4352-A279-7FFDBAFD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9BD7-49A3-48E5-B26D-2526AFEB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672BF-870B-4FCE-940D-BDFC5F08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FFE43-AE3A-420A-AC72-0DE90C0B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C5382-037D-4455-B8C6-F88C33B8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ACEEF-7FD0-4690-B8AA-BF9451BF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CBDDC-9CC6-48A7-B62A-887755B4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F0359-2795-4F57-BF2E-17A7F5DA8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00047-35EC-417C-B478-9C235EAFD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533DAF-D8B7-4BD0-A0B9-BF261AEA6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3787F-444B-4C9E-89C4-EBFECD47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D6A818-6784-4C5E-9640-23019E3C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348E-D7F3-4346-9310-ECA2B3A4A8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2265-DBC1-4EDC-B2F0-35D546972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49B2-0DAF-4A94-8ACD-9488E151B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6200-7EFD-49CF-8E75-4BDB45F8C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5C65-EB8A-474C-B829-DF37C56BE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317C-8293-4D63-826C-C2E039472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5A86-FCC9-47C2-97B3-2C3125B10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C739-6CF2-4839-B31E-7F60F95E2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3CFA-6862-4806-AD1F-AB08B5EF3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469E-58B8-403D-B856-EC1036642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3C6A-A7C6-4AA1-BA89-E3C4E6B08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6290-9D46-4FF2-A10B-52DAB3468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6C88-AFD9-4373-812E-6E148F3B8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" Target="slide9.xml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WordArt 5"/>
          <p:cNvSpPr txBox="1"/>
          <p:nvPr/>
        </p:nvSpPr>
        <p:spPr>
          <a:xfrm>
            <a:off x="5076720" y="4437000"/>
            <a:ext cx="2743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中宋"/>
              </a:rPr>
              <a:t>小画家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solidFill>
                <a:srgbClr val="ff66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541" name="WordArt 9"/>
          <p:cNvSpPr txBox="1"/>
          <p:nvPr/>
        </p:nvSpPr>
        <p:spPr>
          <a:xfrm>
            <a:off x="1211400" y="4475160"/>
            <a:ext cx="3733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雪地里的</a:t>
            </a:r>
            <a:endParaRPr b="1" lang="en-US" sz="1800" spc="1" strike="noStrike">
              <a:ln w="1260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542" name="矩形 3"/>
          <p:cNvSpPr/>
          <p:nvPr/>
        </p:nvSpPr>
        <p:spPr>
          <a:xfrm>
            <a:off x="1726200" y="609300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3" descr="边框1"/>
          <p:cNvPicPr/>
          <p:nvPr/>
        </p:nvPicPr>
        <p:blipFill>
          <a:blip r:embed="rId1"/>
          <a:stretch/>
        </p:blipFill>
        <p:spPr>
          <a:xfrm>
            <a:off x="539640" y="260280"/>
            <a:ext cx="2743200" cy="107316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4"/>
          <p:cNvSpPr/>
          <p:nvPr/>
        </p:nvSpPr>
        <p:spPr>
          <a:xfrm>
            <a:off x="468360" y="33336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隶书"/>
              </a:rPr>
              <a:t>学一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5"/>
          <p:cNvSpPr/>
          <p:nvPr/>
        </p:nvSpPr>
        <p:spPr>
          <a:xfrm>
            <a:off x="973080" y="1340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2844720" y="12675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4718160" y="12675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8"/>
          <p:cNvSpPr/>
          <p:nvPr/>
        </p:nvSpPr>
        <p:spPr>
          <a:xfrm>
            <a:off x="973080" y="28868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9"/>
          <p:cNvSpPr/>
          <p:nvPr/>
        </p:nvSpPr>
        <p:spPr>
          <a:xfrm>
            <a:off x="4767120" y="27802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0"/>
          <p:cNvSpPr/>
          <p:nvPr/>
        </p:nvSpPr>
        <p:spPr>
          <a:xfrm>
            <a:off x="2844720" y="45428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1"/>
          <p:cNvSpPr/>
          <p:nvPr/>
        </p:nvSpPr>
        <p:spPr>
          <a:xfrm>
            <a:off x="1117440" y="45428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2"/>
          <p:cNvSpPr/>
          <p:nvPr/>
        </p:nvSpPr>
        <p:spPr>
          <a:xfrm>
            <a:off x="929880" y="27813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睡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3"/>
          <p:cNvSpPr/>
          <p:nvPr/>
        </p:nvSpPr>
        <p:spPr>
          <a:xfrm>
            <a:off x="3235680" y="27813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目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4"/>
          <p:cNvSpPr/>
          <p:nvPr/>
        </p:nvSpPr>
        <p:spPr>
          <a:xfrm>
            <a:off x="5810040" y="2781360"/>
            <a:ext cx="2375280" cy="17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目字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13"/>
          <p:cNvSpPr/>
          <p:nvPr/>
        </p:nvSpPr>
        <p:spPr>
          <a:xfrm>
            <a:off x="2976480" y="5214960"/>
            <a:ext cx="19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眼   睛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3" descr="边框1"/>
          <p:cNvPicPr/>
          <p:nvPr/>
        </p:nvPicPr>
        <p:blipFill>
          <a:blip r:embed="rId1"/>
          <a:stretch/>
        </p:blipFill>
        <p:spPr>
          <a:xfrm>
            <a:off x="468360" y="260280"/>
            <a:ext cx="2743200" cy="1073160"/>
          </a:xfrm>
          <a:prstGeom prst="rect">
            <a:avLst/>
          </a:prstGeom>
          <a:ln w="0">
            <a:noFill/>
          </a:ln>
        </p:spPr>
      </p:pic>
      <p:sp>
        <p:nvSpPr>
          <p:cNvPr id="668" name="Text Box 4"/>
          <p:cNvSpPr/>
          <p:nvPr/>
        </p:nvSpPr>
        <p:spPr>
          <a:xfrm>
            <a:off x="395280" y="33336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隶书"/>
              </a:rPr>
              <a:t>学一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5"/>
          <p:cNvSpPr/>
          <p:nvPr/>
        </p:nvSpPr>
        <p:spPr>
          <a:xfrm>
            <a:off x="973080" y="1340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6"/>
          <p:cNvSpPr/>
          <p:nvPr/>
        </p:nvSpPr>
        <p:spPr>
          <a:xfrm>
            <a:off x="2844720" y="12675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7"/>
          <p:cNvSpPr/>
          <p:nvPr/>
        </p:nvSpPr>
        <p:spPr>
          <a:xfrm>
            <a:off x="4718160" y="12675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8"/>
          <p:cNvSpPr/>
          <p:nvPr/>
        </p:nvSpPr>
        <p:spPr>
          <a:xfrm>
            <a:off x="973080" y="28868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9"/>
          <p:cNvSpPr/>
          <p:nvPr/>
        </p:nvSpPr>
        <p:spPr>
          <a:xfrm>
            <a:off x="4767120" y="27802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10"/>
          <p:cNvSpPr/>
          <p:nvPr/>
        </p:nvSpPr>
        <p:spPr>
          <a:xfrm>
            <a:off x="2844720" y="45428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11"/>
          <p:cNvSpPr/>
          <p:nvPr/>
        </p:nvSpPr>
        <p:spPr>
          <a:xfrm>
            <a:off x="1117440" y="45428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12" descr="d181"/>
          <p:cNvPicPr/>
          <p:nvPr/>
        </p:nvPicPr>
        <p:blipFill>
          <a:blip r:embed="rId2"/>
          <a:stretch/>
        </p:blipFill>
        <p:spPr>
          <a:xfrm>
            <a:off x="7392960" y="4336920"/>
            <a:ext cx="1751040" cy="2521080"/>
          </a:xfrm>
          <a:prstGeom prst="rect">
            <a:avLst/>
          </a:prstGeom>
          <a:ln w="0">
            <a:noFill/>
          </a:ln>
        </p:spPr>
      </p:pic>
      <p:sp>
        <p:nvSpPr>
          <p:cNvPr id="677" name="Text Box 13"/>
          <p:cNvSpPr/>
          <p:nvPr/>
        </p:nvSpPr>
        <p:spPr>
          <a:xfrm>
            <a:off x="929880" y="27813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蛙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14"/>
          <p:cNvSpPr/>
          <p:nvPr/>
        </p:nvSpPr>
        <p:spPr>
          <a:xfrm>
            <a:off x="3241800" y="27813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虫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15"/>
          <p:cNvSpPr/>
          <p:nvPr/>
        </p:nvSpPr>
        <p:spPr>
          <a:xfrm>
            <a:off x="5810040" y="2781360"/>
            <a:ext cx="23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ff"/>
                </a:solidFill>
                <a:latin typeface="Arial"/>
              </a:rPr>
              <a:t>虫字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4"/>
          <p:cNvSpPr/>
          <p:nvPr/>
        </p:nvSpPr>
        <p:spPr>
          <a:xfrm>
            <a:off x="2985840" y="5072040"/>
            <a:ext cx="222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蚂    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2" descr="MCj03487170000[1]"/>
          <p:cNvPicPr/>
          <p:nvPr/>
        </p:nvPicPr>
        <p:blipFill>
          <a:blip r:embed="rId1"/>
          <a:stretch/>
        </p:blipFill>
        <p:spPr>
          <a:xfrm>
            <a:off x="1692360" y="0"/>
            <a:ext cx="590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3" descr="MCj03487170000[1]"/>
          <p:cNvPicPr/>
          <p:nvPr/>
        </p:nvPicPr>
        <p:blipFill>
          <a:blip r:embed="rId2"/>
          <a:stretch/>
        </p:blipFill>
        <p:spPr>
          <a:xfrm rot="20536800">
            <a:off x="286920" y="417240"/>
            <a:ext cx="681120" cy="79200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4" descr="MCj03487170000[1]"/>
          <p:cNvPicPr/>
          <p:nvPr/>
        </p:nvPicPr>
        <p:blipFill>
          <a:blip r:embed="rId3"/>
          <a:stretch/>
        </p:blipFill>
        <p:spPr>
          <a:xfrm rot="1392000">
            <a:off x="8100720" y="5084280"/>
            <a:ext cx="681120" cy="79236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5" descr="MCj03487170000[1]"/>
          <p:cNvPicPr/>
          <p:nvPr/>
        </p:nvPicPr>
        <p:blipFill>
          <a:blip r:embed="rId4"/>
          <a:stretch/>
        </p:blipFill>
        <p:spPr>
          <a:xfrm rot="17983200">
            <a:off x="650880" y="4651200"/>
            <a:ext cx="681120" cy="79200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6" descr="MCj03487170000[1]"/>
          <p:cNvPicPr/>
          <p:nvPr/>
        </p:nvPicPr>
        <p:blipFill>
          <a:blip r:embed="rId5"/>
          <a:stretch/>
        </p:blipFill>
        <p:spPr>
          <a:xfrm rot="1873800">
            <a:off x="8100720" y="1197000"/>
            <a:ext cx="681120" cy="792000"/>
          </a:xfrm>
          <a:prstGeom prst="rect">
            <a:avLst/>
          </a:prstGeom>
          <a:ln w="0">
            <a:noFill/>
          </a:ln>
        </p:spPr>
      </p:pic>
      <p:sp>
        <p:nvSpPr>
          <p:cNvPr id="686" name="未知"/>
          <p:cNvSpPr/>
          <p:nvPr/>
        </p:nvSpPr>
        <p:spPr>
          <a:xfrm>
            <a:off x="1908000" y="189000"/>
            <a:ext cx="5616720" cy="5327640"/>
          </a:xfrm>
          <a:custGeom>
            <a:avLst/>
            <a:gdLst/>
            <a:ahLst/>
            <a:rect l="l" t="t" r="r" b="b"/>
            <a:pathLst>
              <a:path w="3538" h="3356">
                <a:moveTo>
                  <a:pt x="1088" y="2177"/>
                </a:moveTo>
                <a:lnTo>
                  <a:pt x="771" y="2903"/>
                </a:lnTo>
                <a:lnTo>
                  <a:pt x="499" y="2767"/>
                </a:lnTo>
                <a:lnTo>
                  <a:pt x="499" y="2495"/>
                </a:lnTo>
                <a:lnTo>
                  <a:pt x="181" y="2404"/>
                </a:lnTo>
                <a:lnTo>
                  <a:pt x="272" y="2132"/>
                </a:lnTo>
                <a:lnTo>
                  <a:pt x="90" y="1950"/>
                </a:lnTo>
                <a:lnTo>
                  <a:pt x="0" y="1905"/>
                </a:lnTo>
                <a:lnTo>
                  <a:pt x="136" y="1678"/>
                </a:lnTo>
                <a:lnTo>
                  <a:pt x="317" y="1633"/>
                </a:lnTo>
                <a:lnTo>
                  <a:pt x="907" y="1814"/>
                </a:lnTo>
                <a:lnTo>
                  <a:pt x="1088" y="1633"/>
                </a:lnTo>
                <a:lnTo>
                  <a:pt x="907" y="1406"/>
                </a:lnTo>
                <a:lnTo>
                  <a:pt x="272" y="1542"/>
                </a:lnTo>
                <a:lnTo>
                  <a:pt x="0" y="1451"/>
                </a:lnTo>
                <a:lnTo>
                  <a:pt x="90" y="1225"/>
                </a:lnTo>
                <a:lnTo>
                  <a:pt x="453" y="1134"/>
                </a:lnTo>
                <a:lnTo>
                  <a:pt x="181" y="907"/>
                </a:lnTo>
                <a:lnTo>
                  <a:pt x="317" y="680"/>
                </a:lnTo>
                <a:lnTo>
                  <a:pt x="499" y="635"/>
                </a:lnTo>
                <a:lnTo>
                  <a:pt x="680" y="317"/>
                </a:lnTo>
                <a:lnTo>
                  <a:pt x="998" y="408"/>
                </a:lnTo>
                <a:lnTo>
                  <a:pt x="1179" y="1043"/>
                </a:lnTo>
                <a:lnTo>
                  <a:pt x="1406" y="1088"/>
                </a:lnTo>
                <a:lnTo>
                  <a:pt x="1497" y="816"/>
                </a:lnTo>
                <a:lnTo>
                  <a:pt x="998" y="317"/>
                </a:lnTo>
                <a:lnTo>
                  <a:pt x="1088" y="0"/>
                </a:lnTo>
                <a:lnTo>
                  <a:pt x="1360" y="136"/>
                </a:lnTo>
                <a:lnTo>
                  <a:pt x="1542" y="181"/>
                </a:lnTo>
                <a:lnTo>
                  <a:pt x="1633" y="0"/>
                </a:lnTo>
                <a:lnTo>
                  <a:pt x="1950" y="91"/>
                </a:lnTo>
                <a:lnTo>
                  <a:pt x="2132" y="91"/>
                </a:lnTo>
                <a:lnTo>
                  <a:pt x="2404" y="91"/>
                </a:lnTo>
                <a:lnTo>
                  <a:pt x="2358" y="453"/>
                </a:lnTo>
                <a:lnTo>
                  <a:pt x="1950" y="816"/>
                </a:lnTo>
                <a:lnTo>
                  <a:pt x="2041" y="1179"/>
                </a:lnTo>
                <a:lnTo>
                  <a:pt x="2494" y="952"/>
                </a:lnTo>
                <a:lnTo>
                  <a:pt x="2812" y="227"/>
                </a:lnTo>
                <a:lnTo>
                  <a:pt x="3084" y="499"/>
                </a:lnTo>
                <a:lnTo>
                  <a:pt x="3084" y="726"/>
                </a:lnTo>
                <a:lnTo>
                  <a:pt x="3311" y="726"/>
                </a:lnTo>
                <a:lnTo>
                  <a:pt x="3356" y="1088"/>
                </a:lnTo>
                <a:lnTo>
                  <a:pt x="3311" y="1225"/>
                </a:lnTo>
                <a:lnTo>
                  <a:pt x="3492" y="1270"/>
                </a:lnTo>
                <a:lnTo>
                  <a:pt x="3492" y="1497"/>
                </a:lnTo>
                <a:lnTo>
                  <a:pt x="3356" y="1633"/>
                </a:lnTo>
                <a:lnTo>
                  <a:pt x="2676" y="1406"/>
                </a:lnTo>
                <a:lnTo>
                  <a:pt x="2358" y="1633"/>
                </a:lnTo>
                <a:lnTo>
                  <a:pt x="2631" y="1905"/>
                </a:lnTo>
                <a:lnTo>
                  <a:pt x="3266" y="1723"/>
                </a:lnTo>
                <a:lnTo>
                  <a:pt x="3538" y="1860"/>
                </a:lnTo>
                <a:lnTo>
                  <a:pt x="3402" y="2132"/>
                </a:lnTo>
                <a:lnTo>
                  <a:pt x="3220" y="2268"/>
                </a:lnTo>
                <a:lnTo>
                  <a:pt x="3356" y="2449"/>
                </a:lnTo>
                <a:lnTo>
                  <a:pt x="3220" y="2631"/>
                </a:lnTo>
                <a:lnTo>
                  <a:pt x="2903" y="2585"/>
                </a:lnTo>
                <a:lnTo>
                  <a:pt x="2993" y="2812"/>
                </a:lnTo>
                <a:lnTo>
                  <a:pt x="2948" y="2948"/>
                </a:lnTo>
                <a:lnTo>
                  <a:pt x="2721" y="2994"/>
                </a:lnTo>
                <a:lnTo>
                  <a:pt x="2540" y="2676"/>
                </a:lnTo>
                <a:lnTo>
                  <a:pt x="2404" y="2268"/>
                </a:lnTo>
                <a:lnTo>
                  <a:pt x="2132" y="2086"/>
                </a:lnTo>
                <a:lnTo>
                  <a:pt x="1996" y="2313"/>
                </a:lnTo>
                <a:lnTo>
                  <a:pt x="1996" y="2585"/>
                </a:lnTo>
                <a:lnTo>
                  <a:pt x="2449" y="3084"/>
                </a:lnTo>
                <a:lnTo>
                  <a:pt x="2313" y="3356"/>
                </a:lnTo>
                <a:lnTo>
                  <a:pt x="1950" y="3130"/>
                </a:lnTo>
                <a:lnTo>
                  <a:pt x="1769" y="3356"/>
                </a:lnTo>
                <a:lnTo>
                  <a:pt x="1542" y="3311"/>
                </a:lnTo>
                <a:lnTo>
                  <a:pt x="1451" y="3175"/>
                </a:lnTo>
                <a:lnTo>
                  <a:pt x="1179" y="3311"/>
                </a:lnTo>
                <a:lnTo>
                  <a:pt x="998" y="3130"/>
                </a:lnTo>
                <a:lnTo>
                  <a:pt x="1088" y="2903"/>
                </a:lnTo>
                <a:lnTo>
                  <a:pt x="1497" y="2540"/>
                </a:lnTo>
                <a:lnTo>
                  <a:pt x="1451" y="2132"/>
                </a:lnTo>
                <a:lnTo>
                  <a:pt x="1224" y="2086"/>
                </a:lnTo>
                <a:lnTo>
                  <a:pt x="1088" y="2177"/>
                </a:lnTo>
                <a:close/>
              </a:path>
            </a:pathLst>
          </a:custGeom>
          <a:solidFill>
            <a:srgbClr val="4389fb"/>
          </a:solidFill>
          <a:ln w="12600">
            <a:solidFill>
              <a:srgbClr val="4389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8"/>
          <p:cNvSpPr/>
          <p:nvPr/>
        </p:nvSpPr>
        <p:spPr>
          <a:xfrm>
            <a:off x="2987640" y="1125360"/>
            <a:ext cx="410688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3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蛙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Picture 2" descr="MCj03487170000[1]"/>
          <p:cNvPicPr/>
          <p:nvPr/>
        </p:nvPicPr>
        <p:blipFill>
          <a:blip r:embed="rId1"/>
          <a:stretch/>
        </p:blipFill>
        <p:spPr>
          <a:xfrm>
            <a:off x="1692360" y="0"/>
            <a:ext cx="590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3" descr="MCj03487170000[1]"/>
          <p:cNvPicPr/>
          <p:nvPr/>
        </p:nvPicPr>
        <p:blipFill>
          <a:blip r:embed="rId2"/>
          <a:stretch/>
        </p:blipFill>
        <p:spPr>
          <a:xfrm rot="20536800">
            <a:off x="272520" y="444240"/>
            <a:ext cx="681120" cy="792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4" descr="MCj03487170000[1]"/>
          <p:cNvPicPr/>
          <p:nvPr/>
        </p:nvPicPr>
        <p:blipFill>
          <a:blip r:embed="rId3"/>
          <a:stretch/>
        </p:blipFill>
        <p:spPr>
          <a:xfrm rot="1392000">
            <a:off x="8100720" y="5084280"/>
            <a:ext cx="681120" cy="79236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5" descr="MCj03487170000[1]"/>
          <p:cNvPicPr/>
          <p:nvPr/>
        </p:nvPicPr>
        <p:blipFill>
          <a:blip r:embed="rId4"/>
          <a:stretch/>
        </p:blipFill>
        <p:spPr>
          <a:xfrm rot="17983200">
            <a:off x="610920" y="4149360"/>
            <a:ext cx="681120" cy="79236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6" descr="MCj03487170000[1]"/>
          <p:cNvPicPr/>
          <p:nvPr/>
        </p:nvPicPr>
        <p:blipFill>
          <a:blip r:embed="rId5"/>
          <a:stretch/>
        </p:blipFill>
        <p:spPr>
          <a:xfrm rot="1873800">
            <a:off x="8100720" y="1197000"/>
            <a:ext cx="681120" cy="792000"/>
          </a:xfrm>
          <a:prstGeom prst="rect">
            <a:avLst/>
          </a:prstGeom>
          <a:ln w="0">
            <a:noFill/>
          </a:ln>
        </p:spPr>
      </p:pic>
      <p:sp>
        <p:nvSpPr>
          <p:cNvPr id="693" name="未知"/>
          <p:cNvSpPr/>
          <p:nvPr/>
        </p:nvSpPr>
        <p:spPr>
          <a:xfrm>
            <a:off x="1908000" y="189000"/>
            <a:ext cx="5616720" cy="5327640"/>
          </a:xfrm>
          <a:custGeom>
            <a:avLst/>
            <a:gdLst/>
            <a:ahLst/>
            <a:rect l="l" t="t" r="r" b="b"/>
            <a:pathLst>
              <a:path w="3538" h="3356">
                <a:moveTo>
                  <a:pt x="1088" y="2177"/>
                </a:moveTo>
                <a:lnTo>
                  <a:pt x="771" y="2903"/>
                </a:lnTo>
                <a:lnTo>
                  <a:pt x="499" y="2767"/>
                </a:lnTo>
                <a:lnTo>
                  <a:pt x="499" y="2495"/>
                </a:lnTo>
                <a:lnTo>
                  <a:pt x="181" y="2404"/>
                </a:lnTo>
                <a:lnTo>
                  <a:pt x="272" y="2132"/>
                </a:lnTo>
                <a:lnTo>
                  <a:pt x="90" y="1950"/>
                </a:lnTo>
                <a:lnTo>
                  <a:pt x="0" y="1905"/>
                </a:lnTo>
                <a:lnTo>
                  <a:pt x="136" y="1678"/>
                </a:lnTo>
                <a:lnTo>
                  <a:pt x="317" y="1633"/>
                </a:lnTo>
                <a:lnTo>
                  <a:pt x="907" y="1814"/>
                </a:lnTo>
                <a:lnTo>
                  <a:pt x="1088" y="1633"/>
                </a:lnTo>
                <a:lnTo>
                  <a:pt x="907" y="1406"/>
                </a:lnTo>
                <a:lnTo>
                  <a:pt x="272" y="1542"/>
                </a:lnTo>
                <a:lnTo>
                  <a:pt x="0" y="1451"/>
                </a:lnTo>
                <a:lnTo>
                  <a:pt x="90" y="1225"/>
                </a:lnTo>
                <a:lnTo>
                  <a:pt x="453" y="1134"/>
                </a:lnTo>
                <a:lnTo>
                  <a:pt x="181" y="907"/>
                </a:lnTo>
                <a:lnTo>
                  <a:pt x="317" y="680"/>
                </a:lnTo>
                <a:lnTo>
                  <a:pt x="499" y="635"/>
                </a:lnTo>
                <a:lnTo>
                  <a:pt x="680" y="317"/>
                </a:lnTo>
                <a:lnTo>
                  <a:pt x="998" y="408"/>
                </a:lnTo>
                <a:lnTo>
                  <a:pt x="1179" y="1043"/>
                </a:lnTo>
                <a:lnTo>
                  <a:pt x="1406" y="1088"/>
                </a:lnTo>
                <a:lnTo>
                  <a:pt x="1497" y="816"/>
                </a:lnTo>
                <a:lnTo>
                  <a:pt x="998" y="317"/>
                </a:lnTo>
                <a:lnTo>
                  <a:pt x="1088" y="0"/>
                </a:lnTo>
                <a:lnTo>
                  <a:pt x="1360" y="136"/>
                </a:lnTo>
                <a:lnTo>
                  <a:pt x="1542" y="181"/>
                </a:lnTo>
                <a:lnTo>
                  <a:pt x="1633" y="0"/>
                </a:lnTo>
                <a:lnTo>
                  <a:pt x="1950" y="91"/>
                </a:lnTo>
                <a:lnTo>
                  <a:pt x="2132" y="91"/>
                </a:lnTo>
                <a:lnTo>
                  <a:pt x="2404" y="91"/>
                </a:lnTo>
                <a:lnTo>
                  <a:pt x="2358" y="453"/>
                </a:lnTo>
                <a:lnTo>
                  <a:pt x="1950" y="816"/>
                </a:lnTo>
                <a:lnTo>
                  <a:pt x="2041" y="1179"/>
                </a:lnTo>
                <a:lnTo>
                  <a:pt x="2494" y="952"/>
                </a:lnTo>
                <a:lnTo>
                  <a:pt x="2812" y="227"/>
                </a:lnTo>
                <a:lnTo>
                  <a:pt x="3084" y="499"/>
                </a:lnTo>
                <a:lnTo>
                  <a:pt x="3084" y="726"/>
                </a:lnTo>
                <a:lnTo>
                  <a:pt x="3311" y="726"/>
                </a:lnTo>
                <a:lnTo>
                  <a:pt x="3356" y="1088"/>
                </a:lnTo>
                <a:lnTo>
                  <a:pt x="3311" y="1225"/>
                </a:lnTo>
                <a:lnTo>
                  <a:pt x="3492" y="1270"/>
                </a:lnTo>
                <a:lnTo>
                  <a:pt x="3492" y="1497"/>
                </a:lnTo>
                <a:lnTo>
                  <a:pt x="3356" y="1633"/>
                </a:lnTo>
                <a:lnTo>
                  <a:pt x="2676" y="1406"/>
                </a:lnTo>
                <a:lnTo>
                  <a:pt x="2358" y="1633"/>
                </a:lnTo>
                <a:lnTo>
                  <a:pt x="2631" y="1905"/>
                </a:lnTo>
                <a:lnTo>
                  <a:pt x="3266" y="1723"/>
                </a:lnTo>
                <a:lnTo>
                  <a:pt x="3538" y="1860"/>
                </a:lnTo>
                <a:lnTo>
                  <a:pt x="3402" y="2132"/>
                </a:lnTo>
                <a:lnTo>
                  <a:pt x="3220" y="2268"/>
                </a:lnTo>
                <a:lnTo>
                  <a:pt x="3356" y="2449"/>
                </a:lnTo>
                <a:lnTo>
                  <a:pt x="3220" y="2631"/>
                </a:lnTo>
                <a:lnTo>
                  <a:pt x="2903" y="2585"/>
                </a:lnTo>
                <a:lnTo>
                  <a:pt x="2993" y="2812"/>
                </a:lnTo>
                <a:lnTo>
                  <a:pt x="2948" y="2948"/>
                </a:lnTo>
                <a:lnTo>
                  <a:pt x="2721" y="2994"/>
                </a:lnTo>
                <a:lnTo>
                  <a:pt x="2540" y="2676"/>
                </a:lnTo>
                <a:lnTo>
                  <a:pt x="2404" y="2268"/>
                </a:lnTo>
                <a:lnTo>
                  <a:pt x="2132" y="2086"/>
                </a:lnTo>
                <a:lnTo>
                  <a:pt x="1996" y="2313"/>
                </a:lnTo>
                <a:lnTo>
                  <a:pt x="1996" y="2585"/>
                </a:lnTo>
                <a:lnTo>
                  <a:pt x="2449" y="3084"/>
                </a:lnTo>
                <a:lnTo>
                  <a:pt x="2313" y="3356"/>
                </a:lnTo>
                <a:lnTo>
                  <a:pt x="1950" y="3130"/>
                </a:lnTo>
                <a:lnTo>
                  <a:pt x="1769" y="3356"/>
                </a:lnTo>
                <a:lnTo>
                  <a:pt x="1542" y="3311"/>
                </a:lnTo>
                <a:lnTo>
                  <a:pt x="1451" y="3175"/>
                </a:lnTo>
                <a:lnTo>
                  <a:pt x="1179" y="3311"/>
                </a:lnTo>
                <a:lnTo>
                  <a:pt x="998" y="3130"/>
                </a:lnTo>
                <a:lnTo>
                  <a:pt x="1088" y="2903"/>
                </a:lnTo>
                <a:lnTo>
                  <a:pt x="1497" y="2540"/>
                </a:lnTo>
                <a:lnTo>
                  <a:pt x="1451" y="2132"/>
                </a:lnTo>
                <a:lnTo>
                  <a:pt x="1224" y="2086"/>
                </a:lnTo>
                <a:lnTo>
                  <a:pt x="1088" y="2177"/>
                </a:lnTo>
                <a:close/>
              </a:path>
            </a:pathLst>
          </a:custGeom>
          <a:solidFill>
            <a:srgbClr val="4389fb"/>
          </a:solidFill>
          <a:ln w="12600">
            <a:solidFill>
              <a:srgbClr val="4389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8"/>
          <p:cNvSpPr/>
          <p:nvPr/>
        </p:nvSpPr>
        <p:spPr>
          <a:xfrm>
            <a:off x="2987640" y="1125360"/>
            <a:ext cx="410688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3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成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2" descr="MCj03487170000[1]"/>
          <p:cNvPicPr/>
          <p:nvPr/>
        </p:nvPicPr>
        <p:blipFill>
          <a:blip r:embed="rId1"/>
          <a:stretch/>
        </p:blipFill>
        <p:spPr>
          <a:xfrm>
            <a:off x="1692360" y="0"/>
            <a:ext cx="590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3" descr="MCj03487170000[1]"/>
          <p:cNvPicPr/>
          <p:nvPr/>
        </p:nvPicPr>
        <p:blipFill>
          <a:blip r:embed="rId2"/>
          <a:stretch/>
        </p:blipFill>
        <p:spPr>
          <a:xfrm rot="20536800">
            <a:off x="272520" y="444240"/>
            <a:ext cx="681120" cy="79200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4" descr="MCj03487170000[1]"/>
          <p:cNvPicPr/>
          <p:nvPr/>
        </p:nvPicPr>
        <p:blipFill>
          <a:blip r:embed="rId3"/>
          <a:stretch/>
        </p:blipFill>
        <p:spPr>
          <a:xfrm rot="1392000">
            <a:off x="8100720" y="5084280"/>
            <a:ext cx="681120" cy="79236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5" descr="MCj03487170000[1]"/>
          <p:cNvPicPr/>
          <p:nvPr/>
        </p:nvPicPr>
        <p:blipFill>
          <a:blip r:embed="rId4"/>
          <a:stretch/>
        </p:blipFill>
        <p:spPr>
          <a:xfrm rot="17983200">
            <a:off x="610920" y="4149360"/>
            <a:ext cx="681120" cy="79236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6" descr="MCj03487170000[1]"/>
          <p:cNvPicPr/>
          <p:nvPr/>
        </p:nvPicPr>
        <p:blipFill>
          <a:blip r:embed="rId5"/>
          <a:stretch/>
        </p:blipFill>
        <p:spPr>
          <a:xfrm rot="1873800">
            <a:off x="8100720" y="1197000"/>
            <a:ext cx="681120" cy="792000"/>
          </a:xfrm>
          <a:prstGeom prst="rect">
            <a:avLst/>
          </a:prstGeom>
          <a:ln w="0">
            <a:noFill/>
          </a:ln>
        </p:spPr>
      </p:pic>
      <p:sp>
        <p:nvSpPr>
          <p:cNvPr id="700" name="未知"/>
          <p:cNvSpPr/>
          <p:nvPr/>
        </p:nvSpPr>
        <p:spPr>
          <a:xfrm>
            <a:off x="1908000" y="189000"/>
            <a:ext cx="5616720" cy="5327640"/>
          </a:xfrm>
          <a:custGeom>
            <a:avLst/>
            <a:gdLst/>
            <a:ahLst/>
            <a:rect l="l" t="t" r="r" b="b"/>
            <a:pathLst>
              <a:path w="3538" h="3356">
                <a:moveTo>
                  <a:pt x="1088" y="2177"/>
                </a:moveTo>
                <a:lnTo>
                  <a:pt x="771" y="2903"/>
                </a:lnTo>
                <a:lnTo>
                  <a:pt x="499" y="2767"/>
                </a:lnTo>
                <a:lnTo>
                  <a:pt x="499" y="2495"/>
                </a:lnTo>
                <a:lnTo>
                  <a:pt x="181" y="2404"/>
                </a:lnTo>
                <a:lnTo>
                  <a:pt x="272" y="2132"/>
                </a:lnTo>
                <a:lnTo>
                  <a:pt x="90" y="1950"/>
                </a:lnTo>
                <a:lnTo>
                  <a:pt x="0" y="1905"/>
                </a:lnTo>
                <a:lnTo>
                  <a:pt x="136" y="1678"/>
                </a:lnTo>
                <a:lnTo>
                  <a:pt x="317" y="1633"/>
                </a:lnTo>
                <a:lnTo>
                  <a:pt x="907" y="1814"/>
                </a:lnTo>
                <a:lnTo>
                  <a:pt x="1088" y="1633"/>
                </a:lnTo>
                <a:lnTo>
                  <a:pt x="907" y="1406"/>
                </a:lnTo>
                <a:lnTo>
                  <a:pt x="272" y="1542"/>
                </a:lnTo>
                <a:lnTo>
                  <a:pt x="0" y="1451"/>
                </a:lnTo>
                <a:lnTo>
                  <a:pt x="90" y="1225"/>
                </a:lnTo>
                <a:lnTo>
                  <a:pt x="453" y="1134"/>
                </a:lnTo>
                <a:lnTo>
                  <a:pt x="181" y="907"/>
                </a:lnTo>
                <a:lnTo>
                  <a:pt x="317" y="680"/>
                </a:lnTo>
                <a:lnTo>
                  <a:pt x="499" y="635"/>
                </a:lnTo>
                <a:lnTo>
                  <a:pt x="680" y="317"/>
                </a:lnTo>
                <a:lnTo>
                  <a:pt x="998" y="408"/>
                </a:lnTo>
                <a:lnTo>
                  <a:pt x="1179" y="1043"/>
                </a:lnTo>
                <a:lnTo>
                  <a:pt x="1406" y="1088"/>
                </a:lnTo>
                <a:lnTo>
                  <a:pt x="1497" y="816"/>
                </a:lnTo>
                <a:lnTo>
                  <a:pt x="998" y="317"/>
                </a:lnTo>
                <a:lnTo>
                  <a:pt x="1088" y="0"/>
                </a:lnTo>
                <a:lnTo>
                  <a:pt x="1360" y="136"/>
                </a:lnTo>
                <a:lnTo>
                  <a:pt x="1542" y="181"/>
                </a:lnTo>
                <a:lnTo>
                  <a:pt x="1633" y="0"/>
                </a:lnTo>
                <a:lnTo>
                  <a:pt x="1950" y="91"/>
                </a:lnTo>
                <a:lnTo>
                  <a:pt x="2132" y="91"/>
                </a:lnTo>
                <a:lnTo>
                  <a:pt x="2404" y="91"/>
                </a:lnTo>
                <a:lnTo>
                  <a:pt x="2358" y="453"/>
                </a:lnTo>
                <a:lnTo>
                  <a:pt x="1950" y="816"/>
                </a:lnTo>
                <a:lnTo>
                  <a:pt x="2041" y="1179"/>
                </a:lnTo>
                <a:lnTo>
                  <a:pt x="2494" y="952"/>
                </a:lnTo>
                <a:lnTo>
                  <a:pt x="2812" y="227"/>
                </a:lnTo>
                <a:lnTo>
                  <a:pt x="3084" y="499"/>
                </a:lnTo>
                <a:lnTo>
                  <a:pt x="3084" y="726"/>
                </a:lnTo>
                <a:lnTo>
                  <a:pt x="3311" y="726"/>
                </a:lnTo>
                <a:lnTo>
                  <a:pt x="3356" y="1088"/>
                </a:lnTo>
                <a:lnTo>
                  <a:pt x="3311" y="1225"/>
                </a:lnTo>
                <a:lnTo>
                  <a:pt x="3492" y="1270"/>
                </a:lnTo>
                <a:lnTo>
                  <a:pt x="3492" y="1497"/>
                </a:lnTo>
                <a:lnTo>
                  <a:pt x="3356" y="1633"/>
                </a:lnTo>
                <a:lnTo>
                  <a:pt x="2676" y="1406"/>
                </a:lnTo>
                <a:lnTo>
                  <a:pt x="2358" y="1633"/>
                </a:lnTo>
                <a:lnTo>
                  <a:pt x="2631" y="1905"/>
                </a:lnTo>
                <a:lnTo>
                  <a:pt x="3266" y="1723"/>
                </a:lnTo>
                <a:lnTo>
                  <a:pt x="3538" y="1860"/>
                </a:lnTo>
                <a:lnTo>
                  <a:pt x="3402" y="2132"/>
                </a:lnTo>
                <a:lnTo>
                  <a:pt x="3220" y="2268"/>
                </a:lnTo>
                <a:lnTo>
                  <a:pt x="3356" y="2449"/>
                </a:lnTo>
                <a:lnTo>
                  <a:pt x="3220" y="2631"/>
                </a:lnTo>
                <a:lnTo>
                  <a:pt x="2903" y="2585"/>
                </a:lnTo>
                <a:lnTo>
                  <a:pt x="2993" y="2812"/>
                </a:lnTo>
                <a:lnTo>
                  <a:pt x="2948" y="2948"/>
                </a:lnTo>
                <a:lnTo>
                  <a:pt x="2721" y="2994"/>
                </a:lnTo>
                <a:lnTo>
                  <a:pt x="2540" y="2676"/>
                </a:lnTo>
                <a:lnTo>
                  <a:pt x="2404" y="2268"/>
                </a:lnTo>
                <a:lnTo>
                  <a:pt x="2132" y="2086"/>
                </a:lnTo>
                <a:lnTo>
                  <a:pt x="1996" y="2313"/>
                </a:lnTo>
                <a:lnTo>
                  <a:pt x="1996" y="2585"/>
                </a:lnTo>
                <a:lnTo>
                  <a:pt x="2449" y="3084"/>
                </a:lnTo>
                <a:lnTo>
                  <a:pt x="2313" y="3356"/>
                </a:lnTo>
                <a:lnTo>
                  <a:pt x="1950" y="3130"/>
                </a:lnTo>
                <a:lnTo>
                  <a:pt x="1769" y="3356"/>
                </a:lnTo>
                <a:lnTo>
                  <a:pt x="1542" y="3311"/>
                </a:lnTo>
                <a:lnTo>
                  <a:pt x="1451" y="3175"/>
                </a:lnTo>
                <a:lnTo>
                  <a:pt x="1179" y="3311"/>
                </a:lnTo>
                <a:lnTo>
                  <a:pt x="998" y="3130"/>
                </a:lnTo>
                <a:lnTo>
                  <a:pt x="1088" y="2903"/>
                </a:lnTo>
                <a:lnTo>
                  <a:pt x="1497" y="2540"/>
                </a:lnTo>
                <a:lnTo>
                  <a:pt x="1451" y="2132"/>
                </a:lnTo>
                <a:lnTo>
                  <a:pt x="1224" y="2086"/>
                </a:lnTo>
                <a:lnTo>
                  <a:pt x="1088" y="2177"/>
                </a:lnTo>
                <a:close/>
              </a:path>
            </a:pathLst>
          </a:custGeom>
          <a:solidFill>
            <a:srgbClr val="4389fb"/>
          </a:solidFill>
          <a:ln w="12600">
            <a:solidFill>
              <a:srgbClr val="4389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8"/>
          <p:cNvSpPr/>
          <p:nvPr/>
        </p:nvSpPr>
        <p:spPr>
          <a:xfrm>
            <a:off x="2987640" y="1125360"/>
            <a:ext cx="410688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3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加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Picture 2" descr="MCj03487170000[1]"/>
          <p:cNvPicPr/>
          <p:nvPr/>
        </p:nvPicPr>
        <p:blipFill>
          <a:blip r:embed="rId1"/>
          <a:stretch/>
        </p:blipFill>
        <p:spPr>
          <a:xfrm>
            <a:off x="1692360" y="0"/>
            <a:ext cx="590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3" descr="MCj03487170000[1]"/>
          <p:cNvPicPr/>
          <p:nvPr/>
        </p:nvPicPr>
        <p:blipFill>
          <a:blip r:embed="rId2"/>
          <a:stretch/>
        </p:blipFill>
        <p:spPr>
          <a:xfrm rot="20536800">
            <a:off x="272520" y="444240"/>
            <a:ext cx="681120" cy="79200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4" descr="MCj03487170000[1]"/>
          <p:cNvPicPr/>
          <p:nvPr/>
        </p:nvPicPr>
        <p:blipFill>
          <a:blip r:embed="rId3"/>
          <a:stretch/>
        </p:blipFill>
        <p:spPr>
          <a:xfrm rot="1392000">
            <a:off x="8100720" y="5084280"/>
            <a:ext cx="681120" cy="79236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5" descr="MCj03487170000[1]"/>
          <p:cNvPicPr/>
          <p:nvPr/>
        </p:nvPicPr>
        <p:blipFill>
          <a:blip r:embed="rId4"/>
          <a:stretch/>
        </p:blipFill>
        <p:spPr>
          <a:xfrm rot="17983200">
            <a:off x="610920" y="4149360"/>
            <a:ext cx="681120" cy="79236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6" descr="MCj03487170000[1]"/>
          <p:cNvPicPr/>
          <p:nvPr/>
        </p:nvPicPr>
        <p:blipFill>
          <a:blip r:embed="rId5"/>
          <a:stretch/>
        </p:blipFill>
        <p:spPr>
          <a:xfrm rot="1873800">
            <a:off x="8100720" y="1197000"/>
            <a:ext cx="681120" cy="792000"/>
          </a:xfrm>
          <a:prstGeom prst="rect">
            <a:avLst/>
          </a:prstGeom>
          <a:ln w="0">
            <a:noFill/>
          </a:ln>
        </p:spPr>
      </p:pic>
      <p:sp>
        <p:nvSpPr>
          <p:cNvPr id="707" name="未知"/>
          <p:cNvSpPr/>
          <p:nvPr/>
        </p:nvSpPr>
        <p:spPr>
          <a:xfrm>
            <a:off x="1908000" y="189000"/>
            <a:ext cx="5616720" cy="5327640"/>
          </a:xfrm>
          <a:custGeom>
            <a:avLst/>
            <a:gdLst/>
            <a:ahLst/>
            <a:rect l="l" t="t" r="r" b="b"/>
            <a:pathLst>
              <a:path w="3538" h="3356">
                <a:moveTo>
                  <a:pt x="1088" y="2177"/>
                </a:moveTo>
                <a:lnTo>
                  <a:pt x="771" y="2903"/>
                </a:lnTo>
                <a:lnTo>
                  <a:pt x="499" y="2767"/>
                </a:lnTo>
                <a:lnTo>
                  <a:pt x="499" y="2495"/>
                </a:lnTo>
                <a:lnTo>
                  <a:pt x="181" y="2404"/>
                </a:lnTo>
                <a:lnTo>
                  <a:pt x="272" y="2132"/>
                </a:lnTo>
                <a:lnTo>
                  <a:pt x="90" y="1950"/>
                </a:lnTo>
                <a:lnTo>
                  <a:pt x="0" y="1905"/>
                </a:lnTo>
                <a:lnTo>
                  <a:pt x="136" y="1678"/>
                </a:lnTo>
                <a:lnTo>
                  <a:pt x="317" y="1633"/>
                </a:lnTo>
                <a:lnTo>
                  <a:pt x="907" y="1814"/>
                </a:lnTo>
                <a:lnTo>
                  <a:pt x="1088" y="1633"/>
                </a:lnTo>
                <a:lnTo>
                  <a:pt x="907" y="1406"/>
                </a:lnTo>
                <a:lnTo>
                  <a:pt x="272" y="1542"/>
                </a:lnTo>
                <a:lnTo>
                  <a:pt x="0" y="1451"/>
                </a:lnTo>
                <a:lnTo>
                  <a:pt x="90" y="1225"/>
                </a:lnTo>
                <a:lnTo>
                  <a:pt x="453" y="1134"/>
                </a:lnTo>
                <a:lnTo>
                  <a:pt x="181" y="907"/>
                </a:lnTo>
                <a:lnTo>
                  <a:pt x="317" y="680"/>
                </a:lnTo>
                <a:lnTo>
                  <a:pt x="499" y="635"/>
                </a:lnTo>
                <a:lnTo>
                  <a:pt x="680" y="317"/>
                </a:lnTo>
                <a:lnTo>
                  <a:pt x="998" y="408"/>
                </a:lnTo>
                <a:lnTo>
                  <a:pt x="1179" y="1043"/>
                </a:lnTo>
                <a:lnTo>
                  <a:pt x="1406" y="1088"/>
                </a:lnTo>
                <a:lnTo>
                  <a:pt x="1497" y="816"/>
                </a:lnTo>
                <a:lnTo>
                  <a:pt x="998" y="317"/>
                </a:lnTo>
                <a:lnTo>
                  <a:pt x="1088" y="0"/>
                </a:lnTo>
                <a:lnTo>
                  <a:pt x="1360" y="136"/>
                </a:lnTo>
                <a:lnTo>
                  <a:pt x="1542" y="181"/>
                </a:lnTo>
                <a:lnTo>
                  <a:pt x="1633" y="0"/>
                </a:lnTo>
                <a:lnTo>
                  <a:pt x="1950" y="91"/>
                </a:lnTo>
                <a:lnTo>
                  <a:pt x="2132" y="91"/>
                </a:lnTo>
                <a:lnTo>
                  <a:pt x="2404" y="91"/>
                </a:lnTo>
                <a:lnTo>
                  <a:pt x="2358" y="453"/>
                </a:lnTo>
                <a:lnTo>
                  <a:pt x="1950" y="816"/>
                </a:lnTo>
                <a:lnTo>
                  <a:pt x="2041" y="1179"/>
                </a:lnTo>
                <a:lnTo>
                  <a:pt x="2494" y="952"/>
                </a:lnTo>
                <a:lnTo>
                  <a:pt x="2812" y="227"/>
                </a:lnTo>
                <a:lnTo>
                  <a:pt x="3084" y="499"/>
                </a:lnTo>
                <a:lnTo>
                  <a:pt x="3084" y="726"/>
                </a:lnTo>
                <a:lnTo>
                  <a:pt x="3311" y="726"/>
                </a:lnTo>
                <a:lnTo>
                  <a:pt x="3356" y="1088"/>
                </a:lnTo>
                <a:lnTo>
                  <a:pt x="3311" y="1225"/>
                </a:lnTo>
                <a:lnTo>
                  <a:pt x="3492" y="1270"/>
                </a:lnTo>
                <a:lnTo>
                  <a:pt x="3492" y="1497"/>
                </a:lnTo>
                <a:lnTo>
                  <a:pt x="3356" y="1633"/>
                </a:lnTo>
                <a:lnTo>
                  <a:pt x="2676" y="1406"/>
                </a:lnTo>
                <a:lnTo>
                  <a:pt x="2358" y="1633"/>
                </a:lnTo>
                <a:lnTo>
                  <a:pt x="2631" y="1905"/>
                </a:lnTo>
                <a:lnTo>
                  <a:pt x="3266" y="1723"/>
                </a:lnTo>
                <a:lnTo>
                  <a:pt x="3538" y="1860"/>
                </a:lnTo>
                <a:lnTo>
                  <a:pt x="3402" y="2132"/>
                </a:lnTo>
                <a:lnTo>
                  <a:pt x="3220" y="2268"/>
                </a:lnTo>
                <a:lnTo>
                  <a:pt x="3356" y="2449"/>
                </a:lnTo>
                <a:lnTo>
                  <a:pt x="3220" y="2631"/>
                </a:lnTo>
                <a:lnTo>
                  <a:pt x="2903" y="2585"/>
                </a:lnTo>
                <a:lnTo>
                  <a:pt x="2993" y="2812"/>
                </a:lnTo>
                <a:lnTo>
                  <a:pt x="2948" y="2948"/>
                </a:lnTo>
                <a:lnTo>
                  <a:pt x="2721" y="2994"/>
                </a:lnTo>
                <a:lnTo>
                  <a:pt x="2540" y="2676"/>
                </a:lnTo>
                <a:lnTo>
                  <a:pt x="2404" y="2268"/>
                </a:lnTo>
                <a:lnTo>
                  <a:pt x="2132" y="2086"/>
                </a:lnTo>
                <a:lnTo>
                  <a:pt x="1996" y="2313"/>
                </a:lnTo>
                <a:lnTo>
                  <a:pt x="1996" y="2585"/>
                </a:lnTo>
                <a:lnTo>
                  <a:pt x="2449" y="3084"/>
                </a:lnTo>
                <a:lnTo>
                  <a:pt x="2313" y="3356"/>
                </a:lnTo>
                <a:lnTo>
                  <a:pt x="1950" y="3130"/>
                </a:lnTo>
                <a:lnTo>
                  <a:pt x="1769" y="3356"/>
                </a:lnTo>
                <a:lnTo>
                  <a:pt x="1542" y="3311"/>
                </a:lnTo>
                <a:lnTo>
                  <a:pt x="1451" y="3175"/>
                </a:lnTo>
                <a:lnTo>
                  <a:pt x="1179" y="3311"/>
                </a:lnTo>
                <a:lnTo>
                  <a:pt x="998" y="3130"/>
                </a:lnTo>
                <a:lnTo>
                  <a:pt x="1088" y="2903"/>
                </a:lnTo>
                <a:lnTo>
                  <a:pt x="1497" y="2540"/>
                </a:lnTo>
                <a:lnTo>
                  <a:pt x="1451" y="2132"/>
                </a:lnTo>
                <a:lnTo>
                  <a:pt x="1224" y="2086"/>
                </a:lnTo>
                <a:lnTo>
                  <a:pt x="1088" y="2177"/>
                </a:lnTo>
                <a:close/>
              </a:path>
            </a:pathLst>
          </a:custGeom>
          <a:solidFill>
            <a:srgbClr val="4389fb"/>
          </a:solidFill>
          <a:ln w="12600">
            <a:solidFill>
              <a:srgbClr val="4389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8"/>
          <p:cNvSpPr/>
          <p:nvPr/>
        </p:nvSpPr>
        <p:spPr>
          <a:xfrm>
            <a:off x="2987640" y="1125360"/>
            <a:ext cx="410688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3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洞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2" descr="MCj03487170000[1]"/>
          <p:cNvPicPr/>
          <p:nvPr/>
        </p:nvPicPr>
        <p:blipFill>
          <a:blip r:embed="rId1"/>
          <a:stretch/>
        </p:blipFill>
        <p:spPr>
          <a:xfrm>
            <a:off x="1692360" y="0"/>
            <a:ext cx="590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MCj03487170000[1]"/>
          <p:cNvPicPr/>
          <p:nvPr/>
        </p:nvPicPr>
        <p:blipFill>
          <a:blip r:embed="rId2"/>
          <a:stretch/>
        </p:blipFill>
        <p:spPr>
          <a:xfrm rot="20536800">
            <a:off x="272520" y="444240"/>
            <a:ext cx="681120" cy="79200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MCj03487170000[1]"/>
          <p:cNvPicPr/>
          <p:nvPr/>
        </p:nvPicPr>
        <p:blipFill>
          <a:blip r:embed="rId3"/>
          <a:stretch/>
        </p:blipFill>
        <p:spPr>
          <a:xfrm rot="1392000">
            <a:off x="8100720" y="5084280"/>
            <a:ext cx="681120" cy="79236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5" descr="MCj03487170000[1]"/>
          <p:cNvPicPr/>
          <p:nvPr/>
        </p:nvPicPr>
        <p:blipFill>
          <a:blip r:embed="rId4"/>
          <a:stretch/>
        </p:blipFill>
        <p:spPr>
          <a:xfrm rot="17983200">
            <a:off x="610920" y="4149360"/>
            <a:ext cx="681120" cy="79236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6" descr="MCj03487170000[1]"/>
          <p:cNvPicPr/>
          <p:nvPr/>
        </p:nvPicPr>
        <p:blipFill>
          <a:blip r:embed="rId5"/>
          <a:stretch/>
        </p:blipFill>
        <p:spPr>
          <a:xfrm rot="1873800">
            <a:off x="8100720" y="1197000"/>
            <a:ext cx="681120" cy="792000"/>
          </a:xfrm>
          <a:prstGeom prst="rect">
            <a:avLst/>
          </a:prstGeom>
          <a:ln w="0">
            <a:noFill/>
          </a:ln>
        </p:spPr>
      </p:pic>
      <p:sp>
        <p:nvSpPr>
          <p:cNvPr id="714" name="未知"/>
          <p:cNvSpPr/>
          <p:nvPr/>
        </p:nvSpPr>
        <p:spPr>
          <a:xfrm>
            <a:off x="1908000" y="189000"/>
            <a:ext cx="5616720" cy="5327640"/>
          </a:xfrm>
          <a:custGeom>
            <a:avLst/>
            <a:gdLst/>
            <a:ahLst/>
            <a:rect l="l" t="t" r="r" b="b"/>
            <a:pathLst>
              <a:path w="3538" h="3356">
                <a:moveTo>
                  <a:pt x="1088" y="2177"/>
                </a:moveTo>
                <a:lnTo>
                  <a:pt x="771" y="2903"/>
                </a:lnTo>
                <a:lnTo>
                  <a:pt x="499" y="2767"/>
                </a:lnTo>
                <a:lnTo>
                  <a:pt x="499" y="2495"/>
                </a:lnTo>
                <a:lnTo>
                  <a:pt x="181" y="2404"/>
                </a:lnTo>
                <a:lnTo>
                  <a:pt x="272" y="2132"/>
                </a:lnTo>
                <a:lnTo>
                  <a:pt x="90" y="1950"/>
                </a:lnTo>
                <a:lnTo>
                  <a:pt x="0" y="1905"/>
                </a:lnTo>
                <a:lnTo>
                  <a:pt x="136" y="1678"/>
                </a:lnTo>
                <a:lnTo>
                  <a:pt x="317" y="1633"/>
                </a:lnTo>
                <a:lnTo>
                  <a:pt x="907" y="1814"/>
                </a:lnTo>
                <a:lnTo>
                  <a:pt x="1088" y="1633"/>
                </a:lnTo>
                <a:lnTo>
                  <a:pt x="907" y="1406"/>
                </a:lnTo>
                <a:lnTo>
                  <a:pt x="272" y="1542"/>
                </a:lnTo>
                <a:lnTo>
                  <a:pt x="0" y="1451"/>
                </a:lnTo>
                <a:lnTo>
                  <a:pt x="90" y="1225"/>
                </a:lnTo>
                <a:lnTo>
                  <a:pt x="453" y="1134"/>
                </a:lnTo>
                <a:lnTo>
                  <a:pt x="181" y="907"/>
                </a:lnTo>
                <a:lnTo>
                  <a:pt x="317" y="680"/>
                </a:lnTo>
                <a:lnTo>
                  <a:pt x="499" y="635"/>
                </a:lnTo>
                <a:lnTo>
                  <a:pt x="680" y="317"/>
                </a:lnTo>
                <a:lnTo>
                  <a:pt x="998" y="408"/>
                </a:lnTo>
                <a:lnTo>
                  <a:pt x="1179" y="1043"/>
                </a:lnTo>
                <a:lnTo>
                  <a:pt x="1406" y="1088"/>
                </a:lnTo>
                <a:lnTo>
                  <a:pt x="1497" y="816"/>
                </a:lnTo>
                <a:lnTo>
                  <a:pt x="998" y="317"/>
                </a:lnTo>
                <a:lnTo>
                  <a:pt x="1088" y="0"/>
                </a:lnTo>
                <a:lnTo>
                  <a:pt x="1360" y="136"/>
                </a:lnTo>
                <a:lnTo>
                  <a:pt x="1542" y="181"/>
                </a:lnTo>
                <a:lnTo>
                  <a:pt x="1633" y="0"/>
                </a:lnTo>
                <a:lnTo>
                  <a:pt x="1950" y="91"/>
                </a:lnTo>
                <a:lnTo>
                  <a:pt x="2132" y="91"/>
                </a:lnTo>
                <a:lnTo>
                  <a:pt x="2404" y="91"/>
                </a:lnTo>
                <a:lnTo>
                  <a:pt x="2358" y="453"/>
                </a:lnTo>
                <a:lnTo>
                  <a:pt x="1950" y="816"/>
                </a:lnTo>
                <a:lnTo>
                  <a:pt x="2041" y="1179"/>
                </a:lnTo>
                <a:lnTo>
                  <a:pt x="2494" y="952"/>
                </a:lnTo>
                <a:lnTo>
                  <a:pt x="2812" y="227"/>
                </a:lnTo>
                <a:lnTo>
                  <a:pt x="3084" y="499"/>
                </a:lnTo>
                <a:lnTo>
                  <a:pt x="3084" y="726"/>
                </a:lnTo>
                <a:lnTo>
                  <a:pt x="3311" y="726"/>
                </a:lnTo>
                <a:lnTo>
                  <a:pt x="3356" y="1088"/>
                </a:lnTo>
                <a:lnTo>
                  <a:pt x="3311" y="1225"/>
                </a:lnTo>
                <a:lnTo>
                  <a:pt x="3492" y="1270"/>
                </a:lnTo>
                <a:lnTo>
                  <a:pt x="3492" y="1497"/>
                </a:lnTo>
                <a:lnTo>
                  <a:pt x="3356" y="1633"/>
                </a:lnTo>
                <a:lnTo>
                  <a:pt x="2676" y="1406"/>
                </a:lnTo>
                <a:lnTo>
                  <a:pt x="2358" y="1633"/>
                </a:lnTo>
                <a:lnTo>
                  <a:pt x="2631" y="1905"/>
                </a:lnTo>
                <a:lnTo>
                  <a:pt x="3266" y="1723"/>
                </a:lnTo>
                <a:lnTo>
                  <a:pt x="3538" y="1860"/>
                </a:lnTo>
                <a:lnTo>
                  <a:pt x="3402" y="2132"/>
                </a:lnTo>
                <a:lnTo>
                  <a:pt x="3220" y="2268"/>
                </a:lnTo>
                <a:lnTo>
                  <a:pt x="3356" y="2449"/>
                </a:lnTo>
                <a:lnTo>
                  <a:pt x="3220" y="2631"/>
                </a:lnTo>
                <a:lnTo>
                  <a:pt x="2903" y="2585"/>
                </a:lnTo>
                <a:lnTo>
                  <a:pt x="2993" y="2812"/>
                </a:lnTo>
                <a:lnTo>
                  <a:pt x="2948" y="2948"/>
                </a:lnTo>
                <a:lnTo>
                  <a:pt x="2721" y="2994"/>
                </a:lnTo>
                <a:lnTo>
                  <a:pt x="2540" y="2676"/>
                </a:lnTo>
                <a:lnTo>
                  <a:pt x="2404" y="2268"/>
                </a:lnTo>
                <a:lnTo>
                  <a:pt x="2132" y="2086"/>
                </a:lnTo>
                <a:lnTo>
                  <a:pt x="1996" y="2313"/>
                </a:lnTo>
                <a:lnTo>
                  <a:pt x="1996" y="2585"/>
                </a:lnTo>
                <a:lnTo>
                  <a:pt x="2449" y="3084"/>
                </a:lnTo>
                <a:lnTo>
                  <a:pt x="2313" y="3356"/>
                </a:lnTo>
                <a:lnTo>
                  <a:pt x="1950" y="3130"/>
                </a:lnTo>
                <a:lnTo>
                  <a:pt x="1769" y="3356"/>
                </a:lnTo>
                <a:lnTo>
                  <a:pt x="1542" y="3311"/>
                </a:lnTo>
                <a:lnTo>
                  <a:pt x="1451" y="3175"/>
                </a:lnTo>
                <a:lnTo>
                  <a:pt x="1179" y="3311"/>
                </a:lnTo>
                <a:lnTo>
                  <a:pt x="998" y="3130"/>
                </a:lnTo>
                <a:lnTo>
                  <a:pt x="1088" y="2903"/>
                </a:lnTo>
                <a:lnTo>
                  <a:pt x="1497" y="2540"/>
                </a:lnTo>
                <a:lnTo>
                  <a:pt x="1451" y="2132"/>
                </a:lnTo>
                <a:lnTo>
                  <a:pt x="1224" y="2086"/>
                </a:lnTo>
                <a:lnTo>
                  <a:pt x="1088" y="2177"/>
                </a:lnTo>
                <a:close/>
              </a:path>
            </a:pathLst>
          </a:custGeom>
          <a:solidFill>
            <a:srgbClr val="4389fb"/>
          </a:solidFill>
          <a:ln w="12600">
            <a:solidFill>
              <a:srgbClr val="4389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8"/>
          <p:cNvSpPr/>
          <p:nvPr/>
        </p:nvSpPr>
        <p:spPr>
          <a:xfrm>
            <a:off x="2987640" y="1125360"/>
            <a:ext cx="410688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3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参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2" descr="MCj03487170000[1]"/>
          <p:cNvPicPr/>
          <p:nvPr/>
        </p:nvPicPr>
        <p:blipFill>
          <a:blip r:embed="rId1"/>
          <a:stretch/>
        </p:blipFill>
        <p:spPr>
          <a:xfrm>
            <a:off x="1692360" y="0"/>
            <a:ext cx="590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3" descr="MCj03487170000[1]"/>
          <p:cNvPicPr/>
          <p:nvPr/>
        </p:nvPicPr>
        <p:blipFill>
          <a:blip r:embed="rId2"/>
          <a:stretch/>
        </p:blipFill>
        <p:spPr>
          <a:xfrm rot="20536800">
            <a:off x="272520" y="444240"/>
            <a:ext cx="681120" cy="79200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4" descr="MCj03487170000[1]"/>
          <p:cNvPicPr/>
          <p:nvPr/>
        </p:nvPicPr>
        <p:blipFill>
          <a:blip r:embed="rId3"/>
          <a:stretch/>
        </p:blipFill>
        <p:spPr>
          <a:xfrm rot="1392000">
            <a:off x="8100720" y="5084280"/>
            <a:ext cx="681120" cy="79236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5" descr="MCj03487170000[1]"/>
          <p:cNvPicPr/>
          <p:nvPr/>
        </p:nvPicPr>
        <p:blipFill>
          <a:blip r:embed="rId4"/>
          <a:stretch/>
        </p:blipFill>
        <p:spPr>
          <a:xfrm rot="17983200">
            <a:off x="610920" y="4149360"/>
            <a:ext cx="681120" cy="79236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6" descr="MCj03487170000[1]"/>
          <p:cNvPicPr/>
          <p:nvPr/>
        </p:nvPicPr>
        <p:blipFill>
          <a:blip r:embed="rId5"/>
          <a:stretch/>
        </p:blipFill>
        <p:spPr>
          <a:xfrm rot="1873800">
            <a:off x="8100720" y="1197000"/>
            <a:ext cx="681120" cy="792000"/>
          </a:xfrm>
          <a:prstGeom prst="rect">
            <a:avLst/>
          </a:prstGeom>
          <a:ln w="0">
            <a:noFill/>
          </a:ln>
        </p:spPr>
      </p:pic>
      <p:sp>
        <p:nvSpPr>
          <p:cNvPr id="721" name="未知"/>
          <p:cNvSpPr/>
          <p:nvPr/>
        </p:nvSpPr>
        <p:spPr>
          <a:xfrm>
            <a:off x="1908000" y="189000"/>
            <a:ext cx="5616720" cy="5327640"/>
          </a:xfrm>
          <a:custGeom>
            <a:avLst/>
            <a:gdLst/>
            <a:ahLst/>
            <a:rect l="l" t="t" r="r" b="b"/>
            <a:pathLst>
              <a:path w="3538" h="3356">
                <a:moveTo>
                  <a:pt x="1088" y="2177"/>
                </a:moveTo>
                <a:lnTo>
                  <a:pt x="771" y="2903"/>
                </a:lnTo>
                <a:lnTo>
                  <a:pt x="499" y="2767"/>
                </a:lnTo>
                <a:lnTo>
                  <a:pt x="499" y="2495"/>
                </a:lnTo>
                <a:lnTo>
                  <a:pt x="181" y="2404"/>
                </a:lnTo>
                <a:lnTo>
                  <a:pt x="272" y="2132"/>
                </a:lnTo>
                <a:lnTo>
                  <a:pt x="90" y="1950"/>
                </a:lnTo>
                <a:lnTo>
                  <a:pt x="0" y="1905"/>
                </a:lnTo>
                <a:lnTo>
                  <a:pt x="136" y="1678"/>
                </a:lnTo>
                <a:lnTo>
                  <a:pt x="317" y="1633"/>
                </a:lnTo>
                <a:lnTo>
                  <a:pt x="907" y="1814"/>
                </a:lnTo>
                <a:lnTo>
                  <a:pt x="1088" y="1633"/>
                </a:lnTo>
                <a:lnTo>
                  <a:pt x="907" y="1406"/>
                </a:lnTo>
                <a:lnTo>
                  <a:pt x="272" y="1542"/>
                </a:lnTo>
                <a:lnTo>
                  <a:pt x="0" y="1451"/>
                </a:lnTo>
                <a:lnTo>
                  <a:pt x="90" y="1225"/>
                </a:lnTo>
                <a:lnTo>
                  <a:pt x="453" y="1134"/>
                </a:lnTo>
                <a:lnTo>
                  <a:pt x="181" y="907"/>
                </a:lnTo>
                <a:lnTo>
                  <a:pt x="317" y="680"/>
                </a:lnTo>
                <a:lnTo>
                  <a:pt x="499" y="635"/>
                </a:lnTo>
                <a:lnTo>
                  <a:pt x="680" y="317"/>
                </a:lnTo>
                <a:lnTo>
                  <a:pt x="998" y="408"/>
                </a:lnTo>
                <a:lnTo>
                  <a:pt x="1179" y="1043"/>
                </a:lnTo>
                <a:lnTo>
                  <a:pt x="1406" y="1088"/>
                </a:lnTo>
                <a:lnTo>
                  <a:pt x="1497" y="816"/>
                </a:lnTo>
                <a:lnTo>
                  <a:pt x="998" y="317"/>
                </a:lnTo>
                <a:lnTo>
                  <a:pt x="1088" y="0"/>
                </a:lnTo>
                <a:lnTo>
                  <a:pt x="1360" y="136"/>
                </a:lnTo>
                <a:lnTo>
                  <a:pt x="1542" y="181"/>
                </a:lnTo>
                <a:lnTo>
                  <a:pt x="1633" y="0"/>
                </a:lnTo>
                <a:lnTo>
                  <a:pt x="1950" y="91"/>
                </a:lnTo>
                <a:lnTo>
                  <a:pt x="2132" y="91"/>
                </a:lnTo>
                <a:lnTo>
                  <a:pt x="2404" y="91"/>
                </a:lnTo>
                <a:lnTo>
                  <a:pt x="2358" y="453"/>
                </a:lnTo>
                <a:lnTo>
                  <a:pt x="1950" y="816"/>
                </a:lnTo>
                <a:lnTo>
                  <a:pt x="2041" y="1179"/>
                </a:lnTo>
                <a:lnTo>
                  <a:pt x="2494" y="952"/>
                </a:lnTo>
                <a:lnTo>
                  <a:pt x="2812" y="227"/>
                </a:lnTo>
                <a:lnTo>
                  <a:pt x="3084" y="499"/>
                </a:lnTo>
                <a:lnTo>
                  <a:pt x="3084" y="726"/>
                </a:lnTo>
                <a:lnTo>
                  <a:pt x="3311" y="726"/>
                </a:lnTo>
                <a:lnTo>
                  <a:pt x="3356" y="1088"/>
                </a:lnTo>
                <a:lnTo>
                  <a:pt x="3311" y="1225"/>
                </a:lnTo>
                <a:lnTo>
                  <a:pt x="3492" y="1270"/>
                </a:lnTo>
                <a:lnTo>
                  <a:pt x="3492" y="1497"/>
                </a:lnTo>
                <a:lnTo>
                  <a:pt x="3356" y="1633"/>
                </a:lnTo>
                <a:lnTo>
                  <a:pt x="2676" y="1406"/>
                </a:lnTo>
                <a:lnTo>
                  <a:pt x="2358" y="1633"/>
                </a:lnTo>
                <a:lnTo>
                  <a:pt x="2631" y="1905"/>
                </a:lnTo>
                <a:lnTo>
                  <a:pt x="3266" y="1723"/>
                </a:lnTo>
                <a:lnTo>
                  <a:pt x="3538" y="1860"/>
                </a:lnTo>
                <a:lnTo>
                  <a:pt x="3402" y="2132"/>
                </a:lnTo>
                <a:lnTo>
                  <a:pt x="3220" y="2268"/>
                </a:lnTo>
                <a:lnTo>
                  <a:pt x="3356" y="2449"/>
                </a:lnTo>
                <a:lnTo>
                  <a:pt x="3220" y="2631"/>
                </a:lnTo>
                <a:lnTo>
                  <a:pt x="2903" y="2585"/>
                </a:lnTo>
                <a:lnTo>
                  <a:pt x="2993" y="2812"/>
                </a:lnTo>
                <a:lnTo>
                  <a:pt x="2948" y="2948"/>
                </a:lnTo>
                <a:lnTo>
                  <a:pt x="2721" y="2994"/>
                </a:lnTo>
                <a:lnTo>
                  <a:pt x="2540" y="2676"/>
                </a:lnTo>
                <a:lnTo>
                  <a:pt x="2404" y="2268"/>
                </a:lnTo>
                <a:lnTo>
                  <a:pt x="2132" y="2086"/>
                </a:lnTo>
                <a:lnTo>
                  <a:pt x="1996" y="2313"/>
                </a:lnTo>
                <a:lnTo>
                  <a:pt x="1996" y="2585"/>
                </a:lnTo>
                <a:lnTo>
                  <a:pt x="2449" y="3084"/>
                </a:lnTo>
                <a:lnTo>
                  <a:pt x="2313" y="3356"/>
                </a:lnTo>
                <a:lnTo>
                  <a:pt x="1950" y="3130"/>
                </a:lnTo>
                <a:lnTo>
                  <a:pt x="1769" y="3356"/>
                </a:lnTo>
                <a:lnTo>
                  <a:pt x="1542" y="3311"/>
                </a:lnTo>
                <a:lnTo>
                  <a:pt x="1451" y="3175"/>
                </a:lnTo>
                <a:lnTo>
                  <a:pt x="1179" y="3311"/>
                </a:lnTo>
                <a:lnTo>
                  <a:pt x="998" y="3130"/>
                </a:lnTo>
                <a:lnTo>
                  <a:pt x="1088" y="2903"/>
                </a:lnTo>
                <a:lnTo>
                  <a:pt x="1497" y="2540"/>
                </a:lnTo>
                <a:lnTo>
                  <a:pt x="1451" y="2132"/>
                </a:lnTo>
                <a:lnTo>
                  <a:pt x="1224" y="2086"/>
                </a:lnTo>
                <a:lnTo>
                  <a:pt x="1088" y="2177"/>
                </a:lnTo>
                <a:close/>
              </a:path>
            </a:pathLst>
          </a:custGeom>
          <a:solidFill>
            <a:srgbClr val="4389fb"/>
          </a:solidFill>
          <a:ln w="12600">
            <a:solidFill>
              <a:srgbClr val="4389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8"/>
          <p:cNvSpPr/>
          <p:nvPr/>
        </p:nvSpPr>
        <p:spPr>
          <a:xfrm>
            <a:off x="2987640" y="1125360"/>
            <a:ext cx="410688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3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几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Picture 2" descr="MCj03487170000[1]"/>
          <p:cNvPicPr/>
          <p:nvPr/>
        </p:nvPicPr>
        <p:blipFill>
          <a:blip r:embed="rId1"/>
          <a:stretch/>
        </p:blipFill>
        <p:spPr>
          <a:xfrm>
            <a:off x="1692360" y="0"/>
            <a:ext cx="590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3" descr="MCj03487170000[1]"/>
          <p:cNvPicPr/>
          <p:nvPr/>
        </p:nvPicPr>
        <p:blipFill>
          <a:blip r:embed="rId2"/>
          <a:stretch/>
        </p:blipFill>
        <p:spPr>
          <a:xfrm rot="20536800">
            <a:off x="272520" y="444240"/>
            <a:ext cx="681120" cy="79200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4" descr="MCj03487170000[1]"/>
          <p:cNvPicPr/>
          <p:nvPr/>
        </p:nvPicPr>
        <p:blipFill>
          <a:blip r:embed="rId3"/>
          <a:stretch/>
        </p:blipFill>
        <p:spPr>
          <a:xfrm rot="1392000">
            <a:off x="8100720" y="5084280"/>
            <a:ext cx="681120" cy="79236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5" descr="MCj03487170000[1]"/>
          <p:cNvPicPr/>
          <p:nvPr/>
        </p:nvPicPr>
        <p:blipFill>
          <a:blip r:embed="rId4"/>
          <a:stretch/>
        </p:blipFill>
        <p:spPr>
          <a:xfrm rot="17983200">
            <a:off x="610920" y="4149360"/>
            <a:ext cx="681120" cy="79236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6" descr="MCj03487170000[1]"/>
          <p:cNvPicPr/>
          <p:nvPr/>
        </p:nvPicPr>
        <p:blipFill>
          <a:blip r:embed="rId5"/>
          <a:stretch/>
        </p:blipFill>
        <p:spPr>
          <a:xfrm rot="1873800">
            <a:off x="8100720" y="1197000"/>
            <a:ext cx="681120" cy="792000"/>
          </a:xfrm>
          <a:prstGeom prst="rect">
            <a:avLst/>
          </a:prstGeom>
          <a:ln w="0">
            <a:noFill/>
          </a:ln>
        </p:spPr>
      </p:pic>
      <p:sp>
        <p:nvSpPr>
          <p:cNvPr id="728" name="未知"/>
          <p:cNvSpPr/>
          <p:nvPr/>
        </p:nvSpPr>
        <p:spPr>
          <a:xfrm>
            <a:off x="1908000" y="189000"/>
            <a:ext cx="5616720" cy="5327640"/>
          </a:xfrm>
          <a:custGeom>
            <a:avLst/>
            <a:gdLst/>
            <a:ahLst/>
            <a:rect l="l" t="t" r="r" b="b"/>
            <a:pathLst>
              <a:path w="3538" h="3356">
                <a:moveTo>
                  <a:pt x="1088" y="2177"/>
                </a:moveTo>
                <a:lnTo>
                  <a:pt x="771" y="2903"/>
                </a:lnTo>
                <a:lnTo>
                  <a:pt x="499" y="2767"/>
                </a:lnTo>
                <a:lnTo>
                  <a:pt x="499" y="2495"/>
                </a:lnTo>
                <a:lnTo>
                  <a:pt x="181" y="2404"/>
                </a:lnTo>
                <a:lnTo>
                  <a:pt x="272" y="2132"/>
                </a:lnTo>
                <a:lnTo>
                  <a:pt x="90" y="1950"/>
                </a:lnTo>
                <a:lnTo>
                  <a:pt x="0" y="1905"/>
                </a:lnTo>
                <a:lnTo>
                  <a:pt x="136" y="1678"/>
                </a:lnTo>
                <a:lnTo>
                  <a:pt x="317" y="1633"/>
                </a:lnTo>
                <a:lnTo>
                  <a:pt x="907" y="1814"/>
                </a:lnTo>
                <a:lnTo>
                  <a:pt x="1088" y="1633"/>
                </a:lnTo>
                <a:lnTo>
                  <a:pt x="907" y="1406"/>
                </a:lnTo>
                <a:lnTo>
                  <a:pt x="272" y="1542"/>
                </a:lnTo>
                <a:lnTo>
                  <a:pt x="0" y="1451"/>
                </a:lnTo>
                <a:lnTo>
                  <a:pt x="90" y="1225"/>
                </a:lnTo>
                <a:lnTo>
                  <a:pt x="453" y="1134"/>
                </a:lnTo>
                <a:lnTo>
                  <a:pt x="181" y="907"/>
                </a:lnTo>
                <a:lnTo>
                  <a:pt x="317" y="680"/>
                </a:lnTo>
                <a:lnTo>
                  <a:pt x="499" y="635"/>
                </a:lnTo>
                <a:lnTo>
                  <a:pt x="680" y="317"/>
                </a:lnTo>
                <a:lnTo>
                  <a:pt x="998" y="408"/>
                </a:lnTo>
                <a:lnTo>
                  <a:pt x="1179" y="1043"/>
                </a:lnTo>
                <a:lnTo>
                  <a:pt x="1406" y="1088"/>
                </a:lnTo>
                <a:lnTo>
                  <a:pt x="1497" y="816"/>
                </a:lnTo>
                <a:lnTo>
                  <a:pt x="998" y="317"/>
                </a:lnTo>
                <a:lnTo>
                  <a:pt x="1088" y="0"/>
                </a:lnTo>
                <a:lnTo>
                  <a:pt x="1360" y="136"/>
                </a:lnTo>
                <a:lnTo>
                  <a:pt x="1542" y="181"/>
                </a:lnTo>
                <a:lnTo>
                  <a:pt x="1633" y="0"/>
                </a:lnTo>
                <a:lnTo>
                  <a:pt x="1950" y="91"/>
                </a:lnTo>
                <a:lnTo>
                  <a:pt x="2132" y="91"/>
                </a:lnTo>
                <a:lnTo>
                  <a:pt x="2404" y="91"/>
                </a:lnTo>
                <a:lnTo>
                  <a:pt x="2358" y="453"/>
                </a:lnTo>
                <a:lnTo>
                  <a:pt x="1950" y="816"/>
                </a:lnTo>
                <a:lnTo>
                  <a:pt x="2041" y="1179"/>
                </a:lnTo>
                <a:lnTo>
                  <a:pt x="2494" y="952"/>
                </a:lnTo>
                <a:lnTo>
                  <a:pt x="2812" y="227"/>
                </a:lnTo>
                <a:lnTo>
                  <a:pt x="3084" y="499"/>
                </a:lnTo>
                <a:lnTo>
                  <a:pt x="3084" y="726"/>
                </a:lnTo>
                <a:lnTo>
                  <a:pt x="3311" y="726"/>
                </a:lnTo>
                <a:lnTo>
                  <a:pt x="3356" y="1088"/>
                </a:lnTo>
                <a:lnTo>
                  <a:pt x="3311" y="1225"/>
                </a:lnTo>
                <a:lnTo>
                  <a:pt x="3492" y="1270"/>
                </a:lnTo>
                <a:lnTo>
                  <a:pt x="3492" y="1497"/>
                </a:lnTo>
                <a:lnTo>
                  <a:pt x="3356" y="1633"/>
                </a:lnTo>
                <a:lnTo>
                  <a:pt x="2676" y="1406"/>
                </a:lnTo>
                <a:lnTo>
                  <a:pt x="2358" y="1633"/>
                </a:lnTo>
                <a:lnTo>
                  <a:pt x="2631" y="1905"/>
                </a:lnTo>
                <a:lnTo>
                  <a:pt x="3266" y="1723"/>
                </a:lnTo>
                <a:lnTo>
                  <a:pt x="3538" y="1860"/>
                </a:lnTo>
                <a:lnTo>
                  <a:pt x="3402" y="2132"/>
                </a:lnTo>
                <a:lnTo>
                  <a:pt x="3220" y="2268"/>
                </a:lnTo>
                <a:lnTo>
                  <a:pt x="3356" y="2449"/>
                </a:lnTo>
                <a:lnTo>
                  <a:pt x="3220" y="2631"/>
                </a:lnTo>
                <a:lnTo>
                  <a:pt x="2903" y="2585"/>
                </a:lnTo>
                <a:lnTo>
                  <a:pt x="2993" y="2812"/>
                </a:lnTo>
                <a:lnTo>
                  <a:pt x="2948" y="2948"/>
                </a:lnTo>
                <a:lnTo>
                  <a:pt x="2721" y="2994"/>
                </a:lnTo>
                <a:lnTo>
                  <a:pt x="2540" y="2676"/>
                </a:lnTo>
                <a:lnTo>
                  <a:pt x="2404" y="2268"/>
                </a:lnTo>
                <a:lnTo>
                  <a:pt x="2132" y="2086"/>
                </a:lnTo>
                <a:lnTo>
                  <a:pt x="1996" y="2313"/>
                </a:lnTo>
                <a:lnTo>
                  <a:pt x="1996" y="2585"/>
                </a:lnTo>
                <a:lnTo>
                  <a:pt x="2449" y="3084"/>
                </a:lnTo>
                <a:lnTo>
                  <a:pt x="2313" y="3356"/>
                </a:lnTo>
                <a:lnTo>
                  <a:pt x="1950" y="3130"/>
                </a:lnTo>
                <a:lnTo>
                  <a:pt x="1769" y="3356"/>
                </a:lnTo>
                <a:lnTo>
                  <a:pt x="1542" y="3311"/>
                </a:lnTo>
                <a:lnTo>
                  <a:pt x="1451" y="3175"/>
                </a:lnTo>
                <a:lnTo>
                  <a:pt x="1179" y="3311"/>
                </a:lnTo>
                <a:lnTo>
                  <a:pt x="998" y="3130"/>
                </a:lnTo>
                <a:lnTo>
                  <a:pt x="1088" y="2903"/>
                </a:lnTo>
                <a:lnTo>
                  <a:pt x="1497" y="2540"/>
                </a:lnTo>
                <a:lnTo>
                  <a:pt x="1451" y="2132"/>
                </a:lnTo>
                <a:lnTo>
                  <a:pt x="1224" y="2086"/>
                </a:lnTo>
                <a:lnTo>
                  <a:pt x="1088" y="2177"/>
                </a:lnTo>
                <a:close/>
              </a:path>
            </a:pathLst>
          </a:custGeom>
          <a:solidFill>
            <a:srgbClr val="4389fb"/>
          </a:solidFill>
          <a:ln w="12600">
            <a:solidFill>
              <a:srgbClr val="4389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8"/>
          <p:cNvSpPr/>
          <p:nvPr/>
        </p:nvSpPr>
        <p:spPr>
          <a:xfrm>
            <a:off x="2987640" y="1125360"/>
            <a:ext cx="410688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3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Picture 2" descr="MCj03487170000[1]"/>
          <p:cNvPicPr/>
          <p:nvPr/>
        </p:nvPicPr>
        <p:blipFill>
          <a:blip r:embed="rId1"/>
          <a:stretch/>
        </p:blipFill>
        <p:spPr>
          <a:xfrm>
            <a:off x="1692360" y="0"/>
            <a:ext cx="590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3" descr="MCj03487170000[1]"/>
          <p:cNvPicPr/>
          <p:nvPr/>
        </p:nvPicPr>
        <p:blipFill>
          <a:blip r:embed="rId2"/>
          <a:stretch/>
        </p:blipFill>
        <p:spPr>
          <a:xfrm rot="20536800">
            <a:off x="272520" y="444240"/>
            <a:ext cx="681120" cy="79200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4" descr="MCj03487170000[1]"/>
          <p:cNvPicPr/>
          <p:nvPr/>
        </p:nvPicPr>
        <p:blipFill>
          <a:blip r:embed="rId3"/>
          <a:stretch/>
        </p:blipFill>
        <p:spPr>
          <a:xfrm rot="1392000">
            <a:off x="8100720" y="5084280"/>
            <a:ext cx="681120" cy="79236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5" descr="MCj03487170000[1]"/>
          <p:cNvPicPr/>
          <p:nvPr/>
        </p:nvPicPr>
        <p:blipFill>
          <a:blip r:embed="rId4"/>
          <a:stretch/>
        </p:blipFill>
        <p:spPr>
          <a:xfrm rot="17983200">
            <a:off x="610920" y="4149360"/>
            <a:ext cx="681120" cy="79236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6" descr="MCj03487170000[1]"/>
          <p:cNvPicPr/>
          <p:nvPr/>
        </p:nvPicPr>
        <p:blipFill>
          <a:blip r:embed="rId5"/>
          <a:stretch/>
        </p:blipFill>
        <p:spPr>
          <a:xfrm rot="1873800">
            <a:off x="8100720" y="1197000"/>
            <a:ext cx="681120" cy="792000"/>
          </a:xfrm>
          <a:prstGeom prst="rect">
            <a:avLst/>
          </a:prstGeom>
          <a:ln w="0">
            <a:noFill/>
          </a:ln>
        </p:spPr>
      </p:pic>
      <p:sp>
        <p:nvSpPr>
          <p:cNvPr id="735" name="未知"/>
          <p:cNvSpPr/>
          <p:nvPr/>
        </p:nvSpPr>
        <p:spPr>
          <a:xfrm>
            <a:off x="1908000" y="189000"/>
            <a:ext cx="5616720" cy="5327640"/>
          </a:xfrm>
          <a:custGeom>
            <a:avLst/>
            <a:gdLst/>
            <a:ahLst/>
            <a:rect l="l" t="t" r="r" b="b"/>
            <a:pathLst>
              <a:path w="3538" h="3356">
                <a:moveTo>
                  <a:pt x="1088" y="2177"/>
                </a:moveTo>
                <a:lnTo>
                  <a:pt x="771" y="2903"/>
                </a:lnTo>
                <a:lnTo>
                  <a:pt x="499" y="2767"/>
                </a:lnTo>
                <a:lnTo>
                  <a:pt x="499" y="2495"/>
                </a:lnTo>
                <a:lnTo>
                  <a:pt x="181" y="2404"/>
                </a:lnTo>
                <a:lnTo>
                  <a:pt x="272" y="2132"/>
                </a:lnTo>
                <a:lnTo>
                  <a:pt x="90" y="1950"/>
                </a:lnTo>
                <a:lnTo>
                  <a:pt x="0" y="1905"/>
                </a:lnTo>
                <a:lnTo>
                  <a:pt x="136" y="1678"/>
                </a:lnTo>
                <a:lnTo>
                  <a:pt x="317" y="1633"/>
                </a:lnTo>
                <a:lnTo>
                  <a:pt x="907" y="1814"/>
                </a:lnTo>
                <a:lnTo>
                  <a:pt x="1088" y="1633"/>
                </a:lnTo>
                <a:lnTo>
                  <a:pt x="907" y="1406"/>
                </a:lnTo>
                <a:lnTo>
                  <a:pt x="272" y="1542"/>
                </a:lnTo>
                <a:lnTo>
                  <a:pt x="0" y="1451"/>
                </a:lnTo>
                <a:lnTo>
                  <a:pt x="90" y="1225"/>
                </a:lnTo>
                <a:lnTo>
                  <a:pt x="453" y="1134"/>
                </a:lnTo>
                <a:lnTo>
                  <a:pt x="181" y="907"/>
                </a:lnTo>
                <a:lnTo>
                  <a:pt x="317" y="680"/>
                </a:lnTo>
                <a:lnTo>
                  <a:pt x="499" y="635"/>
                </a:lnTo>
                <a:lnTo>
                  <a:pt x="680" y="317"/>
                </a:lnTo>
                <a:lnTo>
                  <a:pt x="998" y="408"/>
                </a:lnTo>
                <a:lnTo>
                  <a:pt x="1179" y="1043"/>
                </a:lnTo>
                <a:lnTo>
                  <a:pt x="1406" y="1088"/>
                </a:lnTo>
                <a:lnTo>
                  <a:pt x="1497" y="816"/>
                </a:lnTo>
                <a:lnTo>
                  <a:pt x="998" y="317"/>
                </a:lnTo>
                <a:lnTo>
                  <a:pt x="1088" y="0"/>
                </a:lnTo>
                <a:lnTo>
                  <a:pt x="1360" y="136"/>
                </a:lnTo>
                <a:lnTo>
                  <a:pt x="1542" y="181"/>
                </a:lnTo>
                <a:lnTo>
                  <a:pt x="1633" y="0"/>
                </a:lnTo>
                <a:lnTo>
                  <a:pt x="1950" y="91"/>
                </a:lnTo>
                <a:lnTo>
                  <a:pt x="2132" y="91"/>
                </a:lnTo>
                <a:lnTo>
                  <a:pt x="2404" y="91"/>
                </a:lnTo>
                <a:lnTo>
                  <a:pt x="2358" y="453"/>
                </a:lnTo>
                <a:lnTo>
                  <a:pt x="1950" y="816"/>
                </a:lnTo>
                <a:lnTo>
                  <a:pt x="2041" y="1179"/>
                </a:lnTo>
                <a:lnTo>
                  <a:pt x="2494" y="952"/>
                </a:lnTo>
                <a:lnTo>
                  <a:pt x="2812" y="227"/>
                </a:lnTo>
                <a:lnTo>
                  <a:pt x="3084" y="499"/>
                </a:lnTo>
                <a:lnTo>
                  <a:pt x="3084" y="726"/>
                </a:lnTo>
                <a:lnTo>
                  <a:pt x="3311" y="726"/>
                </a:lnTo>
                <a:lnTo>
                  <a:pt x="3356" y="1088"/>
                </a:lnTo>
                <a:lnTo>
                  <a:pt x="3311" y="1225"/>
                </a:lnTo>
                <a:lnTo>
                  <a:pt x="3492" y="1270"/>
                </a:lnTo>
                <a:lnTo>
                  <a:pt x="3492" y="1497"/>
                </a:lnTo>
                <a:lnTo>
                  <a:pt x="3356" y="1633"/>
                </a:lnTo>
                <a:lnTo>
                  <a:pt x="2676" y="1406"/>
                </a:lnTo>
                <a:lnTo>
                  <a:pt x="2358" y="1633"/>
                </a:lnTo>
                <a:lnTo>
                  <a:pt x="2631" y="1905"/>
                </a:lnTo>
                <a:lnTo>
                  <a:pt x="3266" y="1723"/>
                </a:lnTo>
                <a:lnTo>
                  <a:pt x="3538" y="1860"/>
                </a:lnTo>
                <a:lnTo>
                  <a:pt x="3402" y="2132"/>
                </a:lnTo>
                <a:lnTo>
                  <a:pt x="3220" y="2268"/>
                </a:lnTo>
                <a:lnTo>
                  <a:pt x="3356" y="2449"/>
                </a:lnTo>
                <a:lnTo>
                  <a:pt x="3220" y="2631"/>
                </a:lnTo>
                <a:lnTo>
                  <a:pt x="2903" y="2585"/>
                </a:lnTo>
                <a:lnTo>
                  <a:pt x="2993" y="2812"/>
                </a:lnTo>
                <a:lnTo>
                  <a:pt x="2948" y="2948"/>
                </a:lnTo>
                <a:lnTo>
                  <a:pt x="2721" y="2994"/>
                </a:lnTo>
                <a:lnTo>
                  <a:pt x="2540" y="2676"/>
                </a:lnTo>
                <a:lnTo>
                  <a:pt x="2404" y="2268"/>
                </a:lnTo>
                <a:lnTo>
                  <a:pt x="2132" y="2086"/>
                </a:lnTo>
                <a:lnTo>
                  <a:pt x="1996" y="2313"/>
                </a:lnTo>
                <a:lnTo>
                  <a:pt x="1996" y="2585"/>
                </a:lnTo>
                <a:lnTo>
                  <a:pt x="2449" y="3084"/>
                </a:lnTo>
                <a:lnTo>
                  <a:pt x="2313" y="3356"/>
                </a:lnTo>
                <a:lnTo>
                  <a:pt x="1950" y="3130"/>
                </a:lnTo>
                <a:lnTo>
                  <a:pt x="1769" y="3356"/>
                </a:lnTo>
                <a:lnTo>
                  <a:pt x="1542" y="3311"/>
                </a:lnTo>
                <a:lnTo>
                  <a:pt x="1451" y="3175"/>
                </a:lnTo>
                <a:lnTo>
                  <a:pt x="1179" y="3311"/>
                </a:lnTo>
                <a:lnTo>
                  <a:pt x="998" y="3130"/>
                </a:lnTo>
                <a:lnTo>
                  <a:pt x="1088" y="2903"/>
                </a:lnTo>
                <a:lnTo>
                  <a:pt x="1497" y="2540"/>
                </a:lnTo>
                <a:lnTo>
                  <a:pt x="1451" y="2132"/>
                </a:lnTo>
                <a:lnTo>
                  <a:pt x="1224" y="2086"/>
                </a:lnTo>
                <a:lnTo>
                  <a:pt x="1088" y="2177"/>
                </a:lnTo>
                <a:close/>
              </a:path>
            </a:pathLst>
          </a:custGeom>
          <a:solidFill>
            <a:srgbClr val="4389fb"/>
          </a:solidFill>
          <a:ln w="12600">
            <a:solidFill>
              <a:srgbClr val="4389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8"/>
          <p:cNvSpPr/>
          <p:nvPr/>
        </p:nvSpPr>
        <p:spPr>
          <a:xfrm>
            <a:off x="2987640" y="1125360"/>
            <a:ext cx="410688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3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睡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图片 1" descr=""/>
          <p:cNvPicPr/>
          <p:nvPr/>
        </p:nvPicPr>
        <p:blipFill>
          <a:blip r:embed="rId1"/>
          <a:stretch/>
        </p:blipFill>
        <p:spPr>
          <a:xfrm>
            <a:off x="357120" y="0"/>
            <a:ext cx="8358120" cy="6777000"/>
          </a:xfrm>
          <a:prstGeom prst="rect">
            <a:avLst/>
          </a:prstGeom>
          <a:ln w="0">
            <a:noFill/>
          </a:ln>
        </p:spPr>
      </p:pic>
      <p:sp>
        <p:nvSpPr>
          <p:cNvPr id="544" name="TextBox 2"/>
          <p:cNvSpPr/>
          <p:nvPr/>
        </p:nvSpPr>
        <p:spPr>
          <a:xfrm>
            <a:off x="1484640" y="6149880"/>
            <a:ext cx="639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有的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有的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有的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还有的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3"/>
          <p:cNvSpPr/>
          <p:nvPr/>
        </p:nvSpPr>
        <p:spPr>
          <a:xfrm>
            <a:off x="2048040" y="2428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滑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4"/>
          <p:cNvSpPr/>
          <p:nvPr/>
        </p:nvSpPr>
        <p:spPr>
          <a:xfrm>
            <a:off x="6397920" y="2500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堆雪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5"/>
          <p:cNvSpPr/>
          <p:nvPr/>
        </p:nvSpPr>
        <p:spPr>
          <a:xfrm>
            <a:off x="2640600" y="55720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打雪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6"/>
          <p:cNvSpPr/>
          <p:nvPr/>
        </p:nvSpPr>
        <p:spPr>
          <a:xfrm>
            <a:off x="6833160" y="5643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滑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Picture 2" descr="MCj03487170000[1]"/>
          <p:cNvPicPr/>
          <p:nvPr/>
        </p:nvPicPr>
        <p:blipFill>
          <a:blip r:embed="rId1"/>
          <a:stretch/>
        </p:blipFill>
        <p:spPr>
          <a:xfrm>
            <a:off x="1692360" y="0"/>
            <a:ext cx="590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3" descr="MCj03487170000[1]"/>
          <p:cNvPicPr/>
          <p:nvPr/>
        </p:nvPicPr>
        <p:blipFill>
          <a:blip r:embed="rId2"/>
          <a:stretch/>
        </p:blipFill>
        <p:spPr>
          <a:xfrm rot="20536800">
            <a:off x="272520" y="444240"/>
            <a:ext cx="681120" cy="79200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4" descr="MCj03487170000[1]"/>
          <p:cNvPicPr/>
          <p:nvPr/>
        </p:nvPicPr>
        <p:blipFill>
          <a:blip r:embed="rId3"/>
          <a:stretch/>
        </p:blipFill>
        <p:spPr>
          <a:xfrm rot="1392000">
            <a:off x="8100720" y="5084280"/>
            <a:ext cx="681120" cy="79236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5" descr="MCj03487170000[1]"/>
          <p:cNvPicPr/>
          <p:nvPr/>
        </p:nvPicPr>
        <p:blipFill>
          <a:blip r:embed="rId4"/>
          <a:stretch/>
        </p:blipFill>
        <p:spPr>
          <a:xfrm rot="17983200">
            <a:off x="610920" y="4149360"/>
            <a:ext cx="681120" cy="79236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6" descr="MCj03487170000[1]"/>
          <p:cNvPicPr/>
          <p:nvPr/>
        </p:nvPicPr>
        <p:blipFill>
          <a:blip r:embed="rId5"/>
          <a:stretch/>
        </p:blipFill>
        <p:spPr>
          <a:xfrm rot="1873800">
            <a:off x="8100720" y="1197000"/>
            <a:ext cx="681120" cy="792000"/>
          </a:xfrm>
          <a:prstGeom prst="rect">
            <a:avLst/>
          </a:prstGeom>
          <a:ln w="0">
            <a:noFill/>
          </a:ln>
        </p:spPr>
      </p:pic>
      <p:sp>
        <p:nvSpPr>
          <p:cNvPr id="742" name="未知"/>
          <p:cNvSpPr/>
          <p:nvPr/>
        </p:nvSpPr>
        <p:spPr>
          <a:xfrm>
            <a:off x="1908000" y="189000"/>
            <a:ext cx="5616720" cy="5327640"/>
          </a:xfrm>
          <a:custGeom>
            <a:avLst/>
            <a:gdLst/>
            <a:ahLst/>
            <a:rect l="l" t="t" r="r" b="b"/>
            <a:pathLst>
              <a:path w="3538" h="3356">
                <a:moveTo>
                  <a:pt x="1088" y="2177"/>
                </a:moveTo>
                <a:lnTo>
                  <a:pt x="771" y="2903"/>
                </a:lnTo>
                <a:lnTo>
                  <a:pt x="499" y="2767"/>
                </a:lnTo>
                <a:lnTo>
                  <a:pt x="499" y="2495"/>
                </a:lnTo>
                <a:lnTo>
                  <a:pt x="181" y="2404"/>
                </a:lnTo>
                <a:lnTo>
                  <a:pt x="272" y="2132"/>
                </a:lnTo>
                <a:lnTo>
                  <a:pt x="90" y="1950"/>
                </a:lnTo>
                <a:lnTo>
                  <a:pt x="0" y="1905"/>
                </a:lnTo>
                <a:lnTo>
                  <a:pt x="136" y="1678"/>
                </a:lnTo>
                <a:lnTo>
                  <a:pt x="317" y="1633"/>
                </a:lnTo>
                <a:lnTo>
                  <a:pt x="907" y="1814"/>
                </a:lnTo>
                <a:lnTo>
                  <a:pt x="1088" y="1633"/>
                </a:lnTo>
                <a:lnTo>
                  <a:pt x="907" y="1406"/>
                </a:lnTo>
                <a:lnTo>
                  <a:pt x="272" y="1542"/>
                </a:lnTo>
                <a:lnTo>
                  <a:pt x="0" y="1451"/>
                </a:lnTo>
                <a:lnTo>
                  <a:pt x="90" y="1225"/>
                </a:lnTo>
                <a:lnTo>
                  <a:pt x="453" y="1134"/>
                </a:lnTo>
                <a:lnTo>
                  <a:pt x="181" y="907"/>
                </a:lnTo>
                <a:lnTo>
                  <a:pt x="317" y="680"/>
                </a:lnTo>
                <a:lnTo>
                  <a:pt x="499" y="635"/>
                </a:lnTo>
                <a:lnTo>
                  <a:pt x="680" y="317"/>
                </a:lnTo>
                <a:lnTo>
                  <a:pt x="998" y="408"/>
                </a:lnTo>
                <a:lnTo>
                  <a:pt x="1179" y="1043"/>
                </a:lnTo>
                <a:lnTo>
                  <a:pt x="1406" y="1088"/>
                </a:lnTo>
                <a:lnTo>
                  <a:pt x="1497" y="816"/>
                </a:lnTo>
                <a:lnTo>
                  <a:pt x="998" y="317"/>
                </a:lnTo>
                <a:lnTo>
                  <a:pt x="1088" y="0"/>
                </a:lnTo>
                <a:lnTo>
                  <a:pt x="1360" y="136"/>
                </a:lnTo>
                <a:lnTo>
                  <a:pt x="1542" y="181"/>
                </a:lnTo>
                <a:lnTo>
                  <a:pt x="1633" y="0"/>
                </a:lnTo>
                <a:lnTo>
                  <a:pt x="1950" y="91"/>
                </a:lnTo>
                <a:lnTo>
                  <a:pt x="2132" y="91"/>
                </a:lnTo>
                <a:lnTo>
                  <a:pt x="2404" y="91"/>
                </a:lnTo>
                <a:lnTo>
                  <a:pt x="2358" y="453"/>
                </a:lnTo>
                <a:lnTo>
                  <a:pt x="1950" y="816"/>
                </a:lnTo>
                <a:lnTo>
                  <a:pt x="2041" y="1179"/>
                </a:lnTo>
                <a:lnTo>
                  <a:pt x="2494" y="952"/>
                </a:lnTo>
                <a:lnTo>
                  <a:pt x="2812" y="227"/>
                </a:lnTo>
                <a:lnTo>
                  <a:pt x="3084" y="499"/>
                </a:lnTo>
                <a:lnTo>
                  <a:pt x="3084" y="726"/>
                </a:lnTo>
                <a:lnTo>
                  <a:pt x="3311" y="726"/>
                </a:lnTo>
                <a:lnTo>
                  <a:pt x="3356" y="1088"/>
                </a:lnTo>
                <a:lnTo>
                  <a:pt x="3311" y="1225"/>
                </a:lnTo>
                <a:lnTo>
                  <a:pt x="3492" y="1270"/>
                </a:lnTo>
                <a:lnTo>
                  <a:pt x="3492" y="1497"/>
                </a:lnTo>
                <a:lnTo>
                  <a:pt x="3356" y="1633"/>
                </a:lnTo>
                <a:lnTo>
                  <a:pt x="2676" y="1406"/>
                </a:lnTo>
                <a:lnTo>
                  <a:pt x="2358" y="1633"/>
                </a:lnTo>
                <a:lnTo>
                  <a:pt x="2631" y="1905"/>
                </a:lnTo>
                <a:lnTo>
                  <a:pt x="3266" y="1723"/>
                </a:lnTo>
                <a:lnTo>
                  <a:pt x="3538" y="1860"/>
                </a:lnTo>
                <a:lnTo>
                  <a:pt x="3402" y="2132"/>
                </a:lnTo>
                <a:lnTo>
                  <a:pt x="3220" y="2268"/>
                </a:lnTo>
                <a:lnTo>
                  <a:pt x="3356" y="2449"/>
                </a:lnTo>
                <a:lnTo>
                  <a:pt x="3220" y="2631"/>
                </a:lnTo>
                <a:lnTo>
                  <a:pt x="2903" y="2585"/>
                </a:lnTo>
                <a:lnTo>
                  <a:pt x="2993" y="2812"/>
                </a:lnTo>
                <a:lnTo>
                  <a:pt x="2948" y="2948"/>
                </a:lnTo>
                <a:lnTo>
                  <a:pt x="2721" y="2994"/>
                </a:lnTo>
                <a:lnTo>
                  <a:pt x="2540" y="2676"/>
                </a:lnTo>
                <a:lnTo>
                  <a:pt x="2404" y="2268"/>
                </a:lnTo>
                <a:lnTo>
                  <a:pt x="2132" y="2086"/>
                </a:lnTo>
                <a:lnTo>
                  <a:pt x="1996" y="2313"/>
                </a:lnTo>
                <a:lnTo>
                  <a:pt x="1996" y="2585"/>
                </a:lnTo>
                <a:lnTo>
                  <a:pt x="2449" y="3084"/>
                </a:lnTo>
                <a:lnTo>
                  <a:pt x="2313" y="3356"/>
                </a:lnTo>
                <a:lnTo>
                  <a:pt x="1950" y="3130"/>
                </a:lnTo>
                <a:lnTo>
                  <a:pt x="1769" y="3356"/>
                </a:lnTo>
                <a:lnTo>
                  <a:pt x="1542" y="3311"/>
                </a:lnTo>
                <a:lnTo>
                  <a:pt x="1451" y="3175"/>
                </a:lnTo>
                <a:lnTo>
                  <a:pt x="1179" y="3311"/>
                </a:lnTo>
                <a:lnTo>
                  <a:pt x="998" y="3130"/>
                </a:lnTo>
                <a:lnTo>
                  <a:pt x="1088" y="2903"/>
                </a:lnTo>
                <a:lnTo>
                  <a:pt x="1497" y="2540"/>
                </a:lnTo>
                <a:lnTo>
                  <a:pt x="1451" y="2132"/>
                </a:lnTo>
                <a:lnTo>
                  <a:pt x="1224" y="2086"/>
                </a:lnTo>
                <a:lnTo>
                  <a:pt x="1088" y="2177"/>
                </a:lnTo>
                <a:close/>
              </a:path>
            </a:pathLst>
          </a:custGeom>
          <a:solidFill>
            <a:srgbClr val="4389fb"/>
          </a:solidFill>
          <a:ln w="12600">
            <a:solidFill>
              <a:srgbClr val="4389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8"/>
          <p:cNvSpPr/>
          <p:nvPr/>
        </p:nvSpPr>
        <p:spPr>
          <a:xfrm>
            <a:off x="2987640" y="1125360"/>
            <a:ext cx="410688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3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用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2" descr="MCj03487170000[1]"/>
          <p:cNvPicPr/>
          <p:nvPr/>
        </p:nvPicPr>
        <p:blipFill>
          <a:blip r:embed="rId1"/>
          <a:stretch/>
        </p:blipFill>
        <p:spPr>
          <a:xfrm>
            <a:off x="1692360" y="0"/>
            <a:ext cx="590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3" descr="MCj03487170000[1]"/>
          <p:cNvPicPr/>
          <p:nvPr/>
        </p:nvPicPr>
        <p:blipFill>
          <a:blip r:embed="rId2"/>
          <a:stretch/>
        </p:blipFill>
        <p:spPr>
          <a:xfrm rot="20536800">
            <a:off x="272520" y="444240"/>
            <a:ext cx="681120" cy="79200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4" descr="MCj03487170000[1]"/>
          <p:cNvPicPr/>
          <p:nvPr/>
        </p:nvPicPr>
        <p:blipFill>
          <a:blip r:embed="rId3"/>
          <a:stretch/>
        </p:blipFill>
        <p:spPr>
          <a:xfrm rot="1392000">
            <a:off x="8100720" y="5084280"/>
            <a:ext cx="681120" cy="79236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5" descr="MCj03487170000[1]"/>
          <p:cNvPicPr/>
          <p:nvPr/>
        </p:nvPicPr>
        <p:blipFill>
          <a:blip r:embed="rId4"/>
          <a:stretch/>
        </p:blipFill>
        <p:spPr>
          <a:xfrm rot="17983200">
            <a:off x="610920" y="4149360"/>
            <a:ext cx="681120" cy="79236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6" descr="MCj03487170000[1]"/>
          <p:cNvPicPr/>
          <p:nvPr/>
        </p:nvPicPr>
        <p:blipFill>
          <a:blip r:embed="rId5"/>
          <a:stretch/>
        </p:blipFill>
        <p:spPr>
          <a:xfrm rot="1873800">
            <a:off x="8100720" y="1197000"/>
            <a:ext cx="681120" cy="792000"/>
          </a:xfrm>
          <a:prstGeom prst="rect">
            <a:avLst/>
          </a:prstGeom>
          <a:ln w="0">
            <a:noFill/>
          </a:ln>
        </p:spPr>
      </p:pic>
      <p:sp>
        <p:nvSpPr>
          <p:cNvPr id="749" name="未知"/>
          <p:cNvSpPr/>
          <p:nvPr/>
        </p:nvSpPr>
        <p:spPr>
          <a:xfrm>
            <a:off x="1908000" y="189000"/>
            <a:ext cx="5616720" cy="5327640"/>
          </a:xfrm>
          <a:custGeom>
            <a:avLst/>
            <a:gdLst/>
            <a:ahLst/>
            <a:rect l="l" t="t" r="r" b="b"/>
            <a:pathLst>
              <a:path w="3538" h="3356">
                <a:moveTo>
                  <a:pt x="1088" y="2177"/>
                </a:moveTo>
                <a:lnTo>
                  <a:pt x="771" y="2903"/>
                </a:lnTo>
                <a:lnTo>
                  <a:pt x="499" y="2767"/>
                </a:lnTo>
                <a:lnTo>
                  <a:pt x="499" y="2495"/>
                </a:lnTo>
                <a:lnTo>
                  <a:pt x="181" y="2404"/>
                </a:lnTo>
                <a:lnTo>
                  <a:pt x="272" y="2132"/>
                </a:lnTo>
                <a:lnTo>
                  <a:pt x="90" y="1950"/>
                </a:lnTo>
                <a:lnTo>
                  <a:pt x="0" y="1905"/>
                </a:lnTo>
                <a:lnTo>
                  <a:pt x="136" y="1678"/>
                </a:lnTo>
                <a:lnTo>
                  <a:pt x="317" y="1633"/>
                </a:lnTo>
                <a:lnTo>
                  <a:pt x="907" y="1814"/>
                </a:lnTo>
                <a:lnTo>
                  <a:pt x="1088" y="1633"/>
                </a:lnTo>
                <a:lnTo>
                  <a:pt x="907" y="1406"/>
                </a:lnTo>
                <a:lnTo>
                  <a:pt x="272" y="1542"/>
                </a:lnTo>
                <a:lnTo>
                  <a:pt x="0" y="1451"/>
                </a:lnTo>
                <a:lnTo>
                  <a:pt x="90" y="1225"/>
                </a:lnTo>
                <a:lnTo>
                  <a:pt x="453" y="1134"/>
                </a:lnTo>
                <a:lnTo>
                  <a:pt x="181" y="907"/>
                </a:lnTo>
                <a:lnTo>
                  <a:pt x="317" y="680"/>
                </a:lnTo>
                <a:lnTo>
                  <a:pt x="499" y="635"/>
                </a:lnTo>
                <a:lnTo>
                  <a:pt x="680" y="317"/>
                </a:lnTo>
                <a:lnTo>
                  <a:pt x="998" y="408"/>
                </a:lnTo>
                <a:lnTo>
                  <a:pt x="1179" y="1043"/>
                </a:lnTo>
                <a:lnTo>
                  <a:pt x="1406" y="1088"/>
                </a:lnTo>
                <a:lnTo>
                  <a:pt x="1497" y="816"/>
                </a:lnTo>
                <a:lnTo>
                  <a:pt x="998" y="317"/>
                </a:lnTo>
                <a:lnTo>
                  <a:pt x="1088" y="0"/>
                </a:lnTo>
                <a:lnTo>
                  <a:pt x="1360" y="136"/>
                </a:lnTo>
                <a:lnTo>
                  <a:pt x="1542" y="181"/>
                </a:lnTo>
                <a:lnTo>
                  <a:pt x="1633" y="0"/>
                </a:lnTo>
                <a:lnTo>
                  <a:pt x="1950" y="91"/>
                </a:lnTo>
                <a:lnTo>
                  <a:pt x="2132" y="91"/>
                </a:lnTo>
                <a:lnTo>
                  <a:pt x="2404" y="91"/>
                </a:lnTo>
                <a:lnTo>
                  <a:pt x="2358" y="453"/>
                </a:lnTo>
                <a:lnTo>
                  <a:pt x="1950" y="816"/>
                </a:lnTo>
                <a:lnTo>
                  <a:pt x="2041" y="1179"/>
                </a:lnTo>
                <a:lnTo>
                  <a:pt x="2494" y="952"/>
                </a:lnTo>
                <a:lnTo>
                  <a:pt x="2812" y="227"/>
                </a:lnTo>
                <a:lnTo>
                  <a:pt x="3084" y="499"/>
                </a:lnTo>
                <a:lnTo>
                  <a:pt x="3084" y="726"/>
                </a:lnTo>
                <a:lnTo>
                  <a:pt x="3311" y="726"/>
                </a:lnTo>
                <a:lnTo>
                  <a:pt x="3356" y="1088"/>
                </a:lnTo>
                <a:lnTo>
                  <a:pt x="3311" y="1225"/>
                </a:lnTo>
                <a:lnTo>
                  <a:pt x="3492" y="1270"/>
                </a:lnTo>
                <a:lnTo>
                  <a:pt x="3492" y="1497"/>
                </a:lnTo>
                <a:lnTo>
                  <a:pt x="3356" y="1633"/>
                </a:lnTo>
                <a:lnTo>
                  <a:pt x="2676" y="1406"/>
                </a:lnTo>
                <a:lnTo>
                  <a:pt x="2358" y="1633"/>
                </a:lnTo>
                <a:lnTo>
                  <a:pt x="2631" y="1905"/>
                </a:lnTo>
                <a:lnTo>
                  <a:pt x="3266" y="1723"/>
                </a:lnTo>
                <a:lnTo>
                  <a:pt x="3538" y="1860"/>
                </a:lnTo>
                <a:lnTo>
                  <a:pt x="3402" y="2132"/>
                </a:lnTo>
                <a:lnTo>
                  <a:pt x="3220" y="2268"/>
                </a:lnTo>
                <a:lnTo>
                  <a:pt x="3356" y="2449"/>
                </a:lnTo>
                <a:lnTo>
                  <a:pt x="3220" y="2631"/>
                </a:lnTo>
                <a:lnTo>
                  <a:pt x="2903" y="2585"/>
                </a:lnTo>
                <a:lnTo>
                  <a:pt x="2993" y="2812"/>
                </a:lnTo>
                <a:lnTo>
                  <a:pt x="2948" y="2948"/>
                </a:lnTo>
                <a:lnTo>
                  <a:pt x="2721" y="2994"/>
                </a:lnTo>
                <a:lnTo>
                  <a:pt x="2540" y="2676"/>
                </a:lnTo>
                <a:lnTo>
                  <a:pt x="2404" y="2268"/>
                </a:lnTo>
                <a:lnTo>
                  <a:pt x="2132" y="2086"/>
                </a:lnTo>
                <a:lnTo>
                  <a:pt x="1996" y="2313"/>
                </a:lnTo>
                <a:lnTo>
                  <a:pt x="1996" y="2585"/>
                </a:lnTo>
                <a:lnTo>
                  <a:pt x="2449" y="3084"/>
                </a:lnTo>
                <a:lnTo>
                  <a:pt x="2313" y="3356"/>
                </a:lnTo>
                <a:lnTo>
                  <a:pt x="1950" y="3130"/>
                </a:lnTo>
                <a:lnTo>
                  <a:pt x="1769" y="3356"/>
                </a:lnTo>
                <a:lnTo>
                  <a:pt x="1542" y="3311"/>
                </a:lnTo>
                <a:lnTo>
                  <a:pt x="1451" y="3175"/>
                </a:lnTo>
                <a:lnTo>
                  <a:pt x="1179" y="3311"/>
                </a:lnTo>
                <a:lnTo>
                  <a:pt x="998" y="3130"/>
                </a:lnTo>
                <a:lnTo>
                  <a:pt x="1088" y="2903"/>
                </a:lnTo>
                <a:lnTo>
                  <a:pt x="1497" y="2540"/>
                </a:lnTo>
                <a:lnTo>
                  <a:pt x="1451" y="2132"/>
                </a:lnTo>
                <a:lnTo>
                  <a:pt x="1224" y="2086"/>
                </a:lnTo>
                <a:lnTo>
                  <a:pt x="1088" y="2177"/>
                </a:lnTo>
                <a:close/>
              </a:path>
            </a:pathLst>
          </a:custGeom>
          <a:solidFill>
            <a:srgbClr val="4389fb"/>
          </a:solidFill>
          <a:ln w="12600">
            <a:solidFill>
              <a:srgbClr val="4389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8"/>
          <p:cNvSpPr/>
          <p:nvPr/>
        </p:nvSpPr>
        <p:spPr>
          <a:xfrm>
            <a:off x="2987640" y="1125360"/>
            <a:ext cx="410688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3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啦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Picture 2" descr="MCj03487170000[1]"/>
          <p:cNvPicPr/>
          <p:nvPr/>
        </p:nvPicPr>
        <p:blipFill>
          <a:blip r:embed="rId1"/>
          <a:stretch/>
        </p:blipFill>
        <p:spPr>
          <a:xfrm>
            <a:off x="1692360" y="0"/>
            <a:ext cx="590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3" descr="MCj03487170000[1]"/>
          <p:cNvPicPr/>
          <p:nvPr/>
        </p:nvPicPr>
        <p:blipFill>
          <a:blip r:embed="rId2"/>
          <a:stretch/>
        </p:blipFill>
        <p:spPr>
          <a:xfrm rot="20536800">
            <a:off x="272520" y="444240"/>
            <a:ext cx="681120" cy="79200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4" descr="MCj03487170000[1]"/>
          <p:cNvPicPr/>
          <p:nvPr/>
        </p:nvPicPr>
        <p:blipFill>
          <a:blip r:embed="rId3"/>
          <a:stretch/>
        </p:blipFill>
        <p:spPr>
          <a:xfrm rot="1392000">
            <a:off x="8100720" y="5084280"/>
            <a:ext cx="681120" cy="79236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5" descr="MCj03487170000[1]"/>
          <p:cNvPicPr/>
          <p:nvPr/>
        </p:nvPicPr>
        <p:blipFill>
          <a:blip r:embed="rId4"/>
          <a:stretch/>
        </p:blipFill>
        <p:spPr>
          <a:xfrm rot="17983200">
            <a:off x="610920" y="4149360"/>
            <a:ext cx="681120" cy="79236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6" descr="MCj03487170000[1]"/>
          <p:cNvPicPr/>
          <p:nvPr/>
        </p:nvPicPr>
        <p:blipFill>
          <a:blip r:embed="rId5"/>
          <a:stretch/>
        </p:blipFill>
        <p:spPr>
          <a:xfrm rot="1873800">
            <a:off x="8100720" y="1197000"/>
            <a:ext cx="681120" cy="792000"/>
          </a:xfrm>
          <a:prstGeom prst="rect">
            <a:avLst/>
          </a:prstGeom>
          <a:ln w="0">
            <a:noFill/>
          </a:ln>
        </p:spPr>
      </p:pic>
      <p:sp>
        <p:nvSpPr>
          <p:cNvPr id="756" name="未知"/>
          <p:cNvSpPr/>
          <p:nvPr/>
        </p:nvSpPr>
        <p:spPr>
          <a:xfrm>
            <a:off x="1908000" y="189000"/>
            <a:ext cx="5616720" cy="5327640"/>
          </a:xfrm>
          <a:custGeom>
            <a:avLst/>
            <a:gdLst/>
            <a:ahLst/>
            <a:rect l="l" t="t" r="r" b="b"/>
            <a:pathLst>
              <a:path w="3538" h="3356">
                <a:moveTo>
                  <a:pt x="1088" y="2177"/>
                </a:moveTo>
                <a:lnTo>
                  <a:pt x="771" y="2903"/>
                </a:lnTo>
                <a:lnTo>
                  <a:pt x="499" y="2767"/>
                </a:lnTo>
                <a:lnTo>
                  <a:pt x="499" y="2495"/>
                </a:lnTo>
                <a:lnTo>
                  <a:pt x="181" y="2404"/>
                </a:lnTo>
                <a:lnTo>
                  <a:pt x="272" y="2132"/>
                </a:lnTo>
                <a:lnTo>
                  <a:pt x="90" y="1950"/>
                </a:lnTo>
                <a:lnTo>
                  <a:pt x="0" y="1905"/>
                </a:lnTo>
                <a:lnTo>
                  <a:pt x="136" y="1678"/>
                </a:lnTo>
                <a:lnTo>
                  <a:pt x="317" y="1633"/>
                </a:lnTo>
                <a:lnTo>
                  <a:pt x="907" y="1814"/>
                </a:lnTo>
                <a:lnTo>
                  <a:pt x="1088" y="1633"/>
                </a:lnTo>
                <a:lnTo>
                  <a:pt x="907" y="1406"/>
                </a:lnTo>
                <a:lnTo>
                  <a:pt x="272" y="1542"/>
                </a:lnTo>
                <a:lnTo>
                  <a:pt x="0" y="1451"/>
                </a:lnTo>
                <a:lnTo>
                  <a:pt x="90" y="1225"/>
                </a:lnTo>
                <a:lnTo>
                  <a:pt x="453" y="1134"/>
                </a:lnTo>
                <a:lnTo>
                  <a:pt x="181" y="907"/>
                </a:lnTo>
                <a:lnTo>
                  <a:pt x="317" y="680"/>
                </a:lnTo>
                <a:lnTo>
                  <a:pt x="499" y="635"/>
                </a:lnTo>
                <a:lnTo>
                  <a:pt x="680" y="317"/>
                </a:lnTo>
                <a:lnTo>
                  <a:pt x="998" y="408"/>
                </a:lnTo>
                <a:lnTo>
                  <a:pt x="1179" y="1043"/>
                </a:lnTo>
                <a:lnTo>
                  <a:pt x="1406" y="1088"/>
                </a:lnTo>
                <a:lnTo>
                  <a:pt x="1497" y="816"/>
                </a:lnTo>
                <a:lnTo>
                  <a:pt x="998" y="317"/>
                </a:lnTo>
                <a:lnTo>
                  <a:pt x="1088" y="0"/>
                </a:lnTo>
                <a:lnTo>
                  <a:pt x="1360" y="136"/>
                </a:lnTo>
                <a:lnTo>
                  <a:pt x="1542" y="181"/>
                </a:lnTo>
                <a:lnTo>
                  <a:pt x="1633" y="0"/>
                </a:lnTo>
                <a:lnTo>
                  <a:pt x="1950" y="91"/>
                </a:lnTo>
                <a:lnTo>
                  <a:pt x="2132" y="91"/>
                </a:lnTo>
                <a:lnTo>
                  <a:pt x="2404" y="91"/>
                </a:lnTo>
                <a:lnTo>
                  <a:pt x="2358" y="453"/>
                </a:lnTo>
                <a:lnTo>
                  <a:pt x="1950" y="816"/>
                </a:lnTo>
                <a:lnTo>
                  <a:pt x="2041" y="1179"/>
                </a:lnTo>
                <a:lnTo>
                  <a:pt x="2494" y="952"/>
                </a:lnTo>
                <a:lnTo>
                  <a:pt x="2812" y="227"/>
                </a:lnTo>
                <a:lnTo>
                  <a:pt x="3084" y="499"/>
                </a:lnTo>
                <a:lnTo>
                  <a:pt x="3084" y="726"/>
                </a:lnTo>
                <a:lnTo>
                  <a:pt x="3311" y="726"/>
                </a:lnTo>
                <a:lnTo>
                  <a:pt x="3356" y="1088"/>
                </a:lnTo>
                <a:lnTo>
                  <a:pt x="3311" y="1225"/>
                </a:lnTo>
                <a:lnTo>
                  <a:pt x="3492" y="1270"/>
                </a:lnTo>
                <a:lnTo>
                  <a:pt x="3492" y="1497"/>
                </a:lnTo>
                <a:lnTo>
                  <a:pt x="3356" y="1633"/>
                </a:lnTo>
                <a:lnTo>
                  <a:pt x="2676" y="1406"/>
                </a:lnTo>
                <a:lnTo>
                  <a:pt x="2358" y="1633"/>
                </a:lnTo>
                <a:lnTo>
                  <a:pt x="2631" y="1905"/>
                </a:lnTo>
                <a:lnTo>
                  <a:pt x="3266" y="1723"/>
                </a:lnTo>
                <a:lnTo>
                  <a:pt x="3538" y="1860"/>
                </a:lnTo>
                <a:lnTo>
                  <a:pt x="3402" y="2132"/>
                </a:lnTo>
                <a:lnTo>
                  <a:pt x="3220" y="2268"/>
                </a:lnTo>
                <a:lnTo>
                  <a:pt x="3356" y="2449"/>
                </a:lnTo>
                <a:lnTo>
                  <a:pt x="3220" y="2631"/>
                </a:lnTo>
                <a:lnTo>
                  <a:pt x="2903" y="2585"/>
                </a:lnTo>
                <a:lnTo>
                  <a:pt x="2993" y="2812"/>
                </a:lnTo>
                <a:lnTo>
                  <a:pt x="2948" y="2948"/>
                </a:lnTo>
                <a:lnTo>
                  <a:pt x="2721" y="2994"/>
                </a:lnTo>
                <a:lnTo>
                  <a:pt x="2540" y="2676"/>
                </a:lnTo>
                <a:lnTo>
                  <a:pt x="2404" y="2268"/>
                </a:lnTo>
                <a:lnTo>
                  <a:pt x="2132" y="2086"/>
                </a:lnTo>
                <a:lnTo>
                  <a:pt x="1996" y="2313"/>
                </a:lnTo>
                <a:lnTo>
                  <a:pt x="1996" y="2585"/>
                </a:lnTo>
                <a:lnTo>
                  <a:pt x="2449" y="3084"/>
                </a:lnTo>
                <a:lnTo>
                  <a:pt x="2313" y="3356"/>
                </a:lnTo>
                <a:lnTo>
                  <a:pt x="1950" y="3130"/>
                </a:lnTo>
                <a:lnTo>
                  <a:pt x="1769" y="3356"/>
                </a:lnTo>
                <a:lnTo>
                  <a:pt x="1542" y="3311"/>
                </a:lnTo>
                <a:lnTo>
                  <a:pt x="1451" y="3175"/>
                </a:lnTo>
                <a:lnTo>
                  <a:pt x="1179" y="3311"/>
                </a:lnTo>
                <a:lnTo>
                  <a:pt x="998" y="3130"/>
                </a:lnTo>
                <a:lnTo>
                  <a:pt x="1088" y="2903"/>
                </a:lnTo>
                <a:lnTo>
                  <a:pt x="1497" y="2540"/>
                </a:lnTo>
                <a:lnTo>
                  <a:pt x="1451" y="2132"/>
                </a:lnTo>
                <a:lnTo>
                  <a:pt x="1224" y="2086"/>
                </a:lnTo>
                <a:lnTo>
                  <a:pt x="1088" y="2177"/>
                </a:lnTo>
                <a:close/>
              </a:path>
            </a:pathLst>
          </a:custGeom>
          <a:solidFill>
            <a:srgbClr val="4389fb"/>
          </a:solidFill>
          <a:ln w="12600">
            <a:solidFill>
              <a:srgbClr val="4389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8"/>
          <p:cNvSpPr/>
          <p:nvPr/>
        </p:nvSpPr>
        <p:spPr>
          <a:xfrm>
            <a:off x="2987640" y="1125360"/>
            <a:ext cx="410688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3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梅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Box 3"/>
          <p:cNvSpPr/>
          <p:nvPr/>
        </p:nvSpPr>
        <p:spPr>
          <a:xfrm>
            <a:off x="0" y="0"/>
            <a:ext cx="9144000" cy="61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d2d8a"/>
                </a:solidFill>
                <a:latin typeface="Arial"/>
              </a:rPr>
              <a:t>生字的新朋友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0093"/>
                </a:solidFill>
                <a:latin typeface="Arial"/>
              </a:rPr>
              <a:t>梅花</a:t>
            </a:r>
            <a:r>
              <a:rPr b="1" lang="en-US" sz="48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d60093"/>
                </a:solidFill>
                <a:latin typeface="Arial"/>
              </a:rPr>
              <a:t>话梅</a:t>
            </a:r>
            <a:r>
              <a:rPr b="1" lang="en-US" sz="48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d60093"/>
                </a:solidFill>
                <a:latin typeface="Arial"/>
              </a:rPr>
              <a:t>用法    </a:t>
            </a:r>
            <a:r>
              <a:rPr b="1" lang="en-US" sz="48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d60093"/>
                </a:solidFill>
                <a:latin typeface="Arial"/>
              </a:rPr>
              <a:t>用处</a:t>
            </a:r>
            <a:r>
              <a:rPr b="1" lang="en-US" sz="4800" spc="-1" strike="noStrike">
                <a:solidFill>
                  <a:srgbClr val="d60093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d60093"/>
                </a:solidFill>
                <a:latin typeface="Arial"/>
              </a:rPr>
              <a:t>几个</a:t>
            </a:r>
            <a:r>
              <a:rPr b="1" lang="en-US" sz="4800" spc="-1" strike="noStrike">
                <a:solidFill>
                  <a:srgbClr val="d60093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d60093"/>
                </a:solidFill>
                <a:latin typeface="Arial"/>
              </a:rPr>
              <a:t>几岁</a:t>
            </a:r>
            <a:r>
              <a:rPr b="1" lang="en-US" sz="48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d60093"/>
                </a:solidFill>
                <a:latin typeface="Arial"/>
              </a:rPr>
              <a:t>成立</a:t>
            </a:r>
            <a:r>
              <a:rPr b="1" lang="en-US" sz="48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d60093"/>
                </a:solidFill>
                <a:latin typeface="Arial"/>
              </a:rPr>
              <a:t>成才</a:t>
            </a:r>
            <a:r>
              <a:rPr b="1" lang="en-US" sz="48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d60093"/>
                </a:solidFill>
                <a:latin typeface="Arial"/>
              </a:rPr>
              <a:t> 成天</a:t>
            </a:r>
            <a:r>
              <a:rPr b="1" lang="en-US" sz="4800" spc="-1" strike="noStrike">
                <a:solidFill>
                  <a:srgbClr val="d60093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d60093"/>
                </a:solidFill>
                <a:latin typeface="Arial"/>
              </a:rPr>
              <a:t>成全</a:t>
            </a:r>
            <a:r>
              <a:rPr b="1" lang="en-US" sz="4800" spc="-1" strike="noStrike">
                <a:solidFill>
                  <a:srgbClr val="d60093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d60093"/>
                </a:solidFill>
                <a:latin typeface="Arial"/>
              </a:rPr>
              <a:t>青蛙    蛙泳</a:t>
            </a:r>
            <a:r>
              <a:rPr b="1" lang="en-US" sz="48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d60093"/>
                </a:solidFill>
                <a:latin typeface="Arial"/>
              </a:rPr>
              <a:t>因为</a:t>
            </a:r>
            <a:r>
              <a:rPr b="1" lang="en-US" sz="4800" spc="-1" strike="noStrike">
                <a:solidFill>
                  <a:srgbClr val="d60093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d60093"/>
                </a:solidFill>
                <a:latin typeface="Arial"/>
              </a:rPr>
              <a:t>参加</a:t>
            </a:r>
            <a:r>
              <a:rPr b="1" lang="en-US" sz="4800" spc="-1" strike="noStrike">
                <a:solidFill>
                  <a:srgbClr val="d60093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d60093"/>
                </a:solidFill>
                <a:latin typeface="Arial"/>
              </a:rPr>
              <a:t>参赛</a:t>
            </a:r>
            <a:r>
              <a:rPr b="1" lang="en-US" sz="4800" spc="-1" strike="noStrike">
                <a:solidFill>
                  <a:srgbClr val="d60093"/>
                </a:solidFill>
                <a:latin typeface="Arial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0093"/>
                </a:solidFill>
                <a:latin typeface="Arial"/>
              </a:rPr>
              <a:t>加工</a:t>
            </a:r>
            <a:r>
              <a:rPr b="1" lang="en-US" sz="48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d60093"/>
                </a:solidFill>
                <a:latin typeface="Arial"/>
              </a:rPr>
              <a:t>加油</a:t>
            </a:r>
            <a:r>
              <a:rPr b="1" lang="en-US" sz="4800" spc="-1" strike="noStrike">
                <a:solidFill>
                  <a:srgbClr val="d60093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d60093"/>
                </a:solidFill>
                <a:latin typeface="Arial"/>
              </a:rPr>
              <a:t> 加热</a:t>
            </a:r>
            <a:r>
              <a:rPr b="1" lang="en-US" sz="4800" spc="-1" strike="noStrike">
                <a:solidFill>
                  <a:srgbClr val="d60093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d60093"/>
                </a:solidFill>
                <a:latin typeface="Arial"/>
              </a:rPr>
              <a:t>洞口</a:t>
            </a:r>
            <a:r>
              <a:rPr b="1" lang="en-US" sz="4800" spc="-1" strike="noStrike">
                <a:solidFill>
                  <a:srgbClr val="d60093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d60093"/>
                </a:solidFill>
                <a:latin typeface="Arial"/>
              </a:rPr>
              <a:t>山洞</a:t>
            </a:r>
            <a:r>
              <a:rPr b="1" lang="en-US" sz="4800" spc="-1" strike="noStrike">
                <a:solidFill>
                  <a:srgbClr val="d60093"/>
                </a:solidFill>
                <a:latin typeface="Arial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0093"/>
                </a:solidFill>
                <a:latin typeface="Arial"/>
              </a:rPr>
              <a:t>睡梦</a:t>
            </a:r>
            <a:r>
              <a:rPr b="1" lang="en-US" sz="48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d60093"/>
                </a:solidFill>
                <a:latin typeface="Arial"/>
              </a:rPr>
              <a:t>睡衣</a:t>
            </a:r>
            <a:r>
              <a:rPr b="1" lang="en-US" sz="48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d60093"/>
                </a:solidFill>
                <a:latin typeface="Arial"/>
              </a:rPr>
              <a:t>睡意       参天大树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0093"/>
                </a:solidFill>
                <a:latin typeface="Arial"/>
              </a:rPr>
              <a:t>梅雨时节     用心良苦    为国为民鹅毛大雪     成年累月    几天几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9" name="Picture 6" descr="c8802fa5f1ccf1ef9152eeb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0" name="Text Box 3"/>
          <p:cNvSpPr/>
          <p:nvPr/>
        </p:nvSpPr>
        <p:spPr>
          <a:xfrm>
            <a:off x="3995640" y="549360"/>
            <a:ext cx="482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  <a:ea typeface="楷体_GB2312"/>
              </a:rPr>
              <a:t>下雪啦，下雪啦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Picture 6" descr="c8802fa5f1ccf1ef9152eeb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5" descr="20060624181224130"/>
          <p:cNvPicPr/>
          <p:nvPr/>
        </p:nvPicPr>
        <p:blipFill>
          <a:blip r:embed="rId2"/>
          <a:stretch/>
        </p:blipFill>
        <p:spPr>
          <a:xfrm>
            <a:off x="4067280" y="4365720"/>
            <a:ext cx="3313080" cy="2158920"/>
          </a:xfrm>
          <a:prstGeom prst="rect">
            <a:avLst/>
          </a:prstGeom>
          <a:ln w="0">
            <a:noFill/>
          </a:ln>
        </p:spPr>
      </p:pic>
      <p:sp>
        <p:nvSpPr>
          <p:cNvPr id="765" name="Text Box 6"/>
          <p:cNvSpPr/>
          <p:nvPr/>
        </p:nvSpPr>
        <p:spPr>
          <a:xfrm>
            <a:off x="395280" y="98100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雪地里来了一（ ）小画家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7"/>
          <p:cNvSpPr/>
          <p:nvPr/>
        </p:nvSpPr>
        <p:spPr>
          <a:xfrm>
            <a:off x="5003640" y="1052640"/>
            <a:ext cx="9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Picture 2" descr="雪地里的小画家9"/>
          <p:cNvPicPr/>
          <p:nvPr/>
        </p:nvPicPr>
        <p:blipFill>
          <a:blip r:embed="rId1"/>
          <a:stretch/>
        </p:blipFill>
        <p:spPr>
          <a:xfrm>
            <a:off x="-438120" y="0"/>
            <a:ext cx="9582120" cy="6858000"/>
          </a:xfrm>
          <a:prstGeom prst="rect">
            <a:avLst/>
          </a:prstGeom>
          <a:ln w="0">
            <a:noFill/>
          </a:ln>
        </p:spPr>
      </p:pic>
      <p:sp>
        <p:nvSpPr>
          <p:cNvPr id="768" name="Text Box 3"/>
          <p:cNvSpPr/>
          <p:nvPr/>
        </p:nvSpPr>
        <p:spPr>
          <a:xfrm>
            <a:off x="250920" y="112536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雪地里来了一（ ）小画家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4"/>
          <p:cNvSpPr/>
          <p:nvPr/>
        </p:nvSpPr>
        <p:spPr>
          <a:xfrm>
            <a:off x="4859280" y="1052640"/>
            <a:ext cx="7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群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Text Box 4"/>
          <p:cNvSpPr/>
          <p:nvPr/>
        </p:nvSpPr>
        <p:spPr>
          <a:xfrm>
            <a:off x="2411280" y="765000"/>
            <a:ext cx="640872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小鸡画竹叶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小狗画梅花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小鸭画枫叶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小马画月牙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Picture 2" descr="雪地里的小画家8"/>
          <p:cNvPicPr/>
          <p:nvPr/>
        </p:nvPicPr>
        <p:blipFill>
          <a:blip r:embed="rId1"/>
          <a:stretch/>
        </p:blipFill>
        <p:spPr>
          <a:xfrm>
            <a:off x="179280" y="0"/>
            <a:ext cx="1465200" cy="144000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3" descr="雪地里的小画家2"/>
          <p:cNvPicPr/>
          <p:nvPr/>
        </p:nvPicPr>
        <p:blipFill>
          <a:blip r:embed="rId2"/>
          <a:stretch/>
        </p:blipFill>
        <p:spPr>
          <a:xfrm>
            <a:off x="1979640" y="333360"/>
            <a:ext cx="1655640" cy="122400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4" descr="雪地里的小画家6"/>
          <p:cNvPicPr/>
          <p:nvPr/>
        </p:nvPicPr>
        <p:blipFill>
          <a:blip r:embed="rId3"/>
          <a:stretch/>
        </p:blipFill>
        <p:spPr>
          <a:xfrm>
            <a:off x="0" y="1700280"/>
            <a:ext cx="1727280" cy="155880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5" descr="雪地里的小画家1"/>
          <p:cNvPicPr/>
          <p:nvPr/>
        </p:nvPicPr>
        <p:blipFill>
          <a:blip r:embed="rId4"/>
          <a:stretch/>
        </p:blipFill>
        <p:spPr>
          <a:xfrm>
            <a:off x="1908000" y="1844640"/>
            <a:ext cx="1511640" cy="136836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6" descr="雪地里的小画家7"/>
          <p:cNvPicPr/>
          <p:nvPr/>
        </p:nvPicPr>
        <p:blipFill>
          <a:blip r:embed="rId5"/>
          <a:stretch/>
        </p:blipFill>
        <p:spPr>
          <a:xfrm>
            <a:off x="0" y="3357720"/>
            <a:ext cx="1511280" cy="158400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7" descr="雪地里的小画家4"/>
          <p:cNvPicPr/>
          <p:nvPr/>
        </p:nvPicPr>
        <p:blipFill>
          <a:blip r:embed="rId6"/>
          <a:stretch/>
        </p:blipFill>
        <p:spPr>
          <a:xfrm>
            <a:off x="1763640" y="3500280"/>
            <a:ext cx="1513080" cy="134964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8" descr="雪地里的小画家5"/>
          <p:cNvPicPr/>
          <p:nvPr/>
        </p:nvPicPr>
        <p:blipFill>
          <a:blip r:embed="rId7"/>
          <a:stretch/>
        </p:blipFill>
        <p:spPr>
          <a:xfrm>
            <a:off x="0" y="5084640"/>
            <a:ext cx="1673280" cy="157032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9" descr="雪地里的小画家3"/>
          <p:cNvPicPr/>
          <p:nvPr/>
        </p:nvPicPr>
        <p:blipFill>
          <a:blip r:embed="rId8"/>
          <a:stretch/>
        </p:blipFill>
        <p:spPr>
          <a:xfrm>
            <a:off x="1763640" y="5300640"/>
            <a:ext cx="1440000" cy="1268280"/>
          </a:xfrm>
          <a:prstGeom prst="rect">
            <a:avLst/>
          </a:prstGeom>
          <a:ln w="0">
            <a:noFill/>
          </a:ln>
        </p:spPr>
      </p:pic>
      <p:sp>
        <p:nvSpPr>
          <p:cNvPr id="779" name="Text Box 10"/>
          <p:cNvSpPr/>
          <p:nvPr/>
        </p:nvSpPr>
        <p:spPr>
          <a:xfrm>
            <a:off x="3311640" y="62064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小鸡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）的脚印像（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竹叶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11"/>
          <p:cNvSpPr/>
          <p:nvPr/>
        </p:nvSpPr>
        <p:spPr>
          <a:xfrm>
            <a:off x="4640400" y="2349360"/>
            <a:ext cx="34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小狗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）的脚印像（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梅花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2"/>
          <p:cNvSpPr/>
          <p:nvPr/>
        </p:nvSpPr>
        <p:spPr>
          <a:xfrm>
            <a:off x="4567320" y="4005360"/>
            <a:ext cx="34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小鸭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）的脚印像（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枫叶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13"/>
          <p:cNvSpPr/>
          <p:nvPr/>
        </p:nvSpPr>
        <p:spPr>
          <a:xfrm>
            <a:off x="4567320" y="5516640"/>
            <a:ext cx="34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小马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）的脚印像（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月牙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Picture 2" descr="雪地里的小画家9"/>
          <p:cNvPicPr/>
          <p:nvPr/>
        </p:nvPicPr>
        <p:blipFill>
          <a:blip r:embed="rId1"/>
          <a:stretch/>
        </p:blipFill>
        <p:spPr>
          <a:xfrm>
            <a:off x="-438120" y="0"/>
            <a:ext cx="9582120" cy="6858000"/>
          </a:xfrm>
          <a:prstGeom prst="rect">
            <a:avLst/>
          </a:prstGeom>
          <a:ln w="0">
            <a:noFill/>
          </a:ln>
        </p:spPr>
      </p:pic>
      <p:sp>
        <p:nvSpPr>
          <p:cNvPr id="784" name="Text Box 3"/>
          <p:cNvSpPr/>
          <p:nvPr/>
        </p:nvSpPr>
        <p:spPr>
          <a:xfrm>
            <a:off x="1547640" y="1125360"/>
            <a:ext cx="6048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不用颜料不用笔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几步就成一幅画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394a50ee5370293dfcfa3c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3"/>
          <p:cNvSpPr/>
          <p:nvPr/>
        </p:nvSpPr>
        <p:spPr>
          <a:xfrm>
            <a:off x="54000" y="404640"/>
            <a:ext cx="903600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7200" spc="-1" strike="noStrike">
                <a:solidFill>
                  <a:srgbClr val="ffff00"/>
                </a:solidFill>
                <a:latin typeface="黑体"/>
                <a:ea typeface="黑体"/>
              </a:rPr>
              <a:t>读书好习惯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读</a:t>
            </a: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—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自由读课文，借助音节读准字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圈</a:t>
            </a: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—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在原文中圈出生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查</a:t>
            </a: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—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同桌查生字相互打分，找出“武林高手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4.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数句子（。？！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完成请拍手坐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1979640" y="907560"/>
            <a:ext cx="65023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青蛙为什么没参加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3"/>
          <p:cNvSpPr/>
          <p:nvPr/>
        </p:nvSpPr>
        <p:spPr>
          <a:xfrm>
            <a:off x="395280" y="595008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4"/>
          <p:cNvSpPr/>
          <p:nvPr/>
        </p:nvSpPr>
        <p:spPr>
          <a:xfrm>
            <a:off x="2050920" y="198900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他在洞里睡着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1000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9" name="内容占位符 2" descr=""/>
          <p:cNvPicPr/>
          <p:nvPr/>
        </p:nvPicPr>
        <p:blipFill>
          <a:blip r:embed="rId2"/>
          <a:stretch/>
        </p:blipFill>
        <p:spPr>
          <a:xfrm>
            <a:off x="5580000" y="115920"/>
            <a:ext cx="3359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Picture 2" descr="小狗"/>
          <p:cNvPicPr/>
          <p:nvPr/>
        </p:nvPicPr>
        <p:blipFill>
          <a:blip r:embed="rId1"/>
          <a:stretch/>
        </p:blipFill>
        <p:spPr>
          <a:xfrm>
            <a:off x="990720" y="685800"/>
            <a:ext cx="1127160" cy="121932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3" descr="鸡1"/>
          <p:cNvPicPr/>
          <p:nvPr/>
        </p:nvPicPr>
        <p:blipFill>
          <a:blip r:embed="rId2"/>
          <a:stretch/>
        </p:blipFill>
        <p:spPr>
          <a:xfrm>
            <a:off x="4572000" y="762120"/>
            <a:ext cx="2743200" cy="213336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5" descr="马3"/>
          <p:cNvPicPr/>
          <p:nvPr/>
        </p:nvPicPr>
        <p:blipFill>
          <a:blip r:embed="rId3"/>
          <a:stretch/>
        </p:blipFill>
        <p:spPr>
          <a:xfrm>
            <a:off x="6934320" y="533520"/>
            <a:ext cx="1600200" cy="152388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6" descr="wo 会连"/>
          <p:cNvPicPr/>
          <p:nvPr/>
        </p:nvPicPr>
        <p:blipFill>
          <a:blip r:embed="rId4"/>
          <a:stretch/>
        </p:blipFill>
        <p:spPr>
          <a:xfrm>
            <a:off x="0" y="4846680"/>
            <a:ext cx="2057400" cy="201132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7" descr="雪地里的小画家4"/>
          <p:cNvPicPr/>
          <p:nvPr/>
        </p:nvPicPr>
        <p:blipFill>
          <a:blip r:embed="rId5"/>
          <a:stretch/>
        </p:blipFill>
        <p:spPr>
          <a:xfrm>
            <a:off x="762120" y="3352680"/>
            <a:ext cx="1447560" cy="132876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8" descr="雪地里的小画家2"/>
          <p:cNvPicPr/>
          <p:nvPr/>
        </p:nvPicPr>
        <p:blipFill>
          <a:blip r:embed="rId6"/>
          <a:stretch/>
        </p:blipFill>
        <p:spPr>
          <a:xfrm>
            <a:off x="7086600" y="3200400"/>
            <a:ext cx="1533600" cy="149220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9" descr="雪地里的小画家1"/>
          <p:cNvPicPr/>
          <p:nvPr/>
        </p:nvPicPr>
        <p:blipFill>
          <a:blip r:embed="rId7"/>
          <a:stretch/>
        </p:blipFill>
        <p:spPr>
          <a:xfrm>
            <a:off x="3048120" y="3200400"/>
            <a:ext cx="1304640" cy="144612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10" descr="雪地里的小画家3"/>
          <p:cNvPicPr/>
          <p:nvPr/>
        </p:nvPicPr>
        <p:blipFill>
          <a:blip r:embed="rId8"/>
          <a:stretch/>
        </p:blipFill>
        <p:spPr>
          <a:xfrm>
            <a:off x="5105520" y="3200400"/>
            <a:ext cx="1228680" cy="1603440"/>
          </a:xfrm>
          <a:prstGeom prst="rect">
            <a:avLst/>
          </a:prstGeom>
          <a:ln w="0">
            <a:noFill/>
          </a:ln>
        </p:spPr>
      </p:pic>
      <p:sp>
        <p:nvSpPr>
          <p:cNvPr id="798" name="AutoShape 11"/>
          <p:cNvSpPr/>
          <p:nvPr/>
        </p:nvSpPr>
        <p:spPr>
          <a:xfrm>
            <a:off x="2438280" y="5715000"/>
            <a:ext cx="2210040" cy="1143000"/>
          </a:xfrm>
          <a:prstGeom prst="wedgeEllipseCallout">
            <a:avLst>
              <a:gd name="adj1" fmla="val -70976"/>
              <a:gd name="adj2" fmla="val -68055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会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2"/>
          <p:cNvSpPr/>
          <p:nvPr/>
        </p:nvSpPr>
        <p:spPr>
          <a:xfrm>
            <a:off x="1981080" y="1828800"/>
            <a:ext cx="1219320" cy="1447920"/>
          </a:xfrm>
          <a:prstGeom prst="line">
            <a:avLst/>
          </a:prstGeom>
          <a:ln w="572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13"/>
          <p:cNvSpPr/>
          <p:nvPr/>
        </p:nvSpPr>
        <p:spPr>
          <a:xfrm flipH="1">
            <a:off x="1676160" y="1981080"/>
            <a:ext cx="1981080" cy="1752840"/>
          </a:xfrm>
          <a:prstGeom prst="line">
            <a:avLst/>
          </a:prstGeom>
          <a:ln w="572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14"/>
          <p:cNvSpPr/>
          <p:nvPr/>
        </p:nvSpPr>
        <p:spPr>
          <a:xfrm>
            <a:off x="5715000" y="1905120"/>
            <a:ext cx="1447920" cy="1523880"/>
          </a:xfrm>
          <a:prstGeom prst="line">
            <a:avLst/>
          </a:prstGeom>
          <a:ln w="572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15"/>
          <p:cNvSpPr/>
          <p:nvPr/>
        </p:nvSpPr>
        <p:spPr>
          <a:xfrm flipH="1">
            <a:off x="5943600" y="1981080"/>
            <a:ext cx="1447920" cy="1752840"/>
          </a:xfrm>
          <a:prstGeom prst="line">
            <a:avLst/>
          </a:prstGeom>
          <a:ln w="572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16"/>
          <p:cNvSpPr/>
          <p:nvPr/>
        </p:nvSpPr>
        <p:spPr>
          <a:xfrm>
            <a:off x="4572000" y="4568760"/>
            <a:ext cx="4572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图片 16" descr="11071976.jpg"/>
          <p:cNvPicPr/>
          <p:nvPr/>
        </p:nvPicPr>
        <p:blipFill>
          <a:blip r:embed="rId9"/>
          <a:stretch/>
        </p:blipFill>
        <p:spPr>
          <a:xfrm>
            <a:off x="3143160" y="500040"/>
            <a:ext cx="105084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7772400" cy="192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楷体"/>
                <a:ea typeface="楷体"/>
              </a:rPr>
              <a:t>17.</a:t>
            </a:r>
            <a:r>
              <a:rPr b="0" lang="zh-CN" sz="3600" spc="-1" strike="noStrike">
                <a:solidFill>
                  <a:srgbClr val="cc0000"/>
                </a:solidFill>
                <a:latin typeface="楷体"/>
                <a:ea typeface="楷体"/>
              </a:rPr>
              <a:t>雪地里的小画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subTitle"/>
          </p:nvPr>
        </p:nvSpPr>
        <p:spPr>
          <a:xfrm>
            <a:off x="-495720" y="1499760"/>
            <a:ext cx="8893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下雪啦，下雪啦</a:t>
            </a:r>
            <a:r>
              <a:rPr b="1" lang="en-US" sz="3600" spc="-1" strike="noStrike">
                <a:solidFill>
                  <a:srgbClr val="0099ff"/>
                </a:solidFill>
                <a:latin typeface="楷体"/>
                <a:ea typeface="楷体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楷体"/>
                <a:ea typeface="楷体"/>
              </a:rPr>
              <a:t>      </a:t>
            </a: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雪地里来了一群</a:t>
            </a:r>
            <a:r>
              <a:rPr b="1" lang="zh-CN" sz="3600" spc="-1" strike="noStrike" u="sng">
                <a:solidFill>
                  <a:srgbClr val="0099ff"/>
                </a:solidFill>
                <a:uFillTx/>
                <a:latin typeface="楷体"/>
                <a:ea typeface="楷体"/>
              </a:rPr>
              <a:t>       </a:t>
            </a: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        </a:t>
            </a:r>
            <a:r>
              <a:rPr b="1" lang="zh-CN" sz="3600" spc="-1" strike="noStrike" u="sng">
                <a:solidFill>
                  <a:srgbClr val="0099ff"/>
                </a:solidFill>
                <a:uFillTx/>
                <a:latin typeface="楷体"/>
                <a:ea typeface="楷体"/>
              </a:rPr>
              <a:t>     </a:t>
            </a: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画</a:t>
            </a:r>
            <a:r>
              <a:rPr b="1" lang="zh-CN" sz="3600" spc="-1" strike="noStrike" u="sng">
                <a:solidFill>
                  <a:srgbClr val="0099ff"/>
                </a:solidFill>
                <a:uFillTx/>
                <a:latin typeface="楷体"/>
                <a:ea typeface="楷体"/>
              </a:rPr>
              <a:t>     </a:t>
            </a: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，</a:t>
            </a:r>
            <a:r>
              <a:rPr b="1" lang="zh-CN" sz="3600" spc="-1" strike="noStrike" u="sng">
                <a:solidFill>
                  <a:srgbClr val="0099ff"/>
                </a:solidFill>
                <a:uFillTx/>
                <a:latin typeface="楷体"/>
                <a:ea typeface="楷体"/>
              </a:rPr>
              <a:t>     </a:t>
            </a: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画</a:t>
            </a:r>
            <a:r>
              <a:rPr b="1" lang="zh-CN" sz="3600" spc="-1" strike="noStrike" u="sng">
                <a:solidFill>
                  <a:srgbClr val="0099ff"/>
                </a:solidFill>
                <a:uFillTx/>
                <a:latin typeface="楷体"/>
                <a:ea typeface="楷体"/>
              </a:rPr>
              <a:t>     </a:t>
            </a: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         </a:t>
            </a:r>
            <a:r>
              <a:rPr b="1" lang="zh-CN" sz="3600" spc="-1" strike="noStrike" u="sng">
                <a:solidFill>
                  <a:srgbClr val="0099ff"/>
                </a:solidFill>
                <a:uFillTx/>
                <a:latin typeface="楷体"/>
                <a:ea typeface="楷体"/>
              </a:rPr>
              <a:t>     </a:t>
            </a: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画</a:t>
            </a:r>
            <a:r>
              <a:rPr b="1" lang="zh-CN" sz="3600" spc="-1" strike="noStrike" u="sng">
                <a:solidFill>
                  <a:srgbClr val="0099ff"/>
                </a:solidFill>
                <a:uFillTx/>
                <a:latin typeface="楷体"/>
                <a:ea typeface="楷体"/>
              </a:rPr>
              <a:t>     </a:t>
            </a: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， </a:t>
            </a:r>
            <a:r>
              <a:rPr b="1" lang="zh-CN" sz="3600" spc="-1" strike="noStrike" u="sng">
                <a:solidFill>
                  <a:srgbClr val="0099ff"/>
                </a:solidFill>
                <a:uFillTx/>
                <a:latin typeface="楷体"/>
                <a:ea typeface="楷体"/>
              </a:rPr>
              <a:t>     </a:t>
            </a: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画</a:t>
            </a:r>
            <a:r>
              <a:rPr b="1" lang="zh-CN" sz="3600" spc="-1" strike="noStrike" u="sng">
                <a:solidFill>
                  <a:srgbClr val="0099ff"/>
                </a:solidFill>
                <a:uFillTx/>
                <a:latin typeface="楷体"/>
                <a:ea typeface="楷体"/>
              </a:rPr>
              <a:t>     </a:t>
            </a: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不用</a:t>
            </a:r>
            <a:r>
              <a:rPr b="1" lang="zh-CN" sz="3600" spc="-1" strike="noStrike" u="sng">
                <a:solidFill>
                  <a:srgbClr val="0099ff"/>
                </a:solidFill>
                <a:uFillTx/>
                <a:latin typeface="楷体"/>
                <a:ea typeface="楷体"/>
              </a:rPr>
              <a:t>      </a:t>
            </a: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不用</a:t>
            </a:r>
            <a:r>
              <a:rPr b="1" lang="zh-CN" sz="3600" spc="-1" strike="noStrike" u="sng">
                <a:solidFill>
                  <a:srgbClr val="0099ff"/>
                </a:solidFill>
                <a:uFillTx/>
                <a:latin typeface="楷体"/>
                <a:ea typeface="楷体"/>
              </a:rPr>
              <a:t>      </a:t>
            </a: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几步就成</a:t>
            </a:r>
            <a:r>
              <a:rPr b="1" lang="zh-CN" sz="3600" spc="-1" strike="noStrike" u="sng">
                <a:solidFill>
                  <a:srgbClr val="0099ff"/>
                </a:solidFill>
                <a:uFillTx/>
                <a:latin typeface="楷体"/>
                <a:ea typeface="楷体"/>
              </a:rPr>
              <a:t>       </a:t>
            </a: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 u="sng">
                <a:solidFill>
                  <a:srgbClr val="0099ff"/>
                </a:solidFill>
                <a:uFillTx/>
                <a:latin typeface="楷体"/>
                <a:ea typeface="楷体"/>
              </a:rPr>
              <a:t>     </a:t>
            </a: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为什么没参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他在</a:t>
            </a:r>
            <a:r>
              <a:rPr b="1" lang="zh-CN" sz="3600" spc="-1" strike="noStrike" u="sng">
                <a:solidFill>
                  <a:srgbClr val="0099ff"/>
                </a:solidFill>
                <a:uFillTx/>
                <a:latin typeface="楷体"/>
                <a:ea typeface="楷体"/>
              </a:rPr>
              <a:t>      </a:t>
            </a:r>
            <a:r>
              <a:rPr b="1" lang="zh-CN" sz="3600" spc="-1" strike="noStrike">
                <a:solidFill>
                  <a:srgbClr val="0099ff"/>
                </a:solidFill>
                <a:latin typeface="楷体"/>
                <a:ea typeface="楷体"/>
              </a:rPr>
              <a:t>睡着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Picture 4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75960" cy="10152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7" descr="MCj02949730000[1]"/>
          <p:cNvPicPr/>
          <p:nvPr/>
        </p:nvPicPr>
        <p:blipFill>
          <a:blip r:embed="rId2"/>
          <a:stretch/>
        </p:blipFill>
        <p:spPr>
          <a:xfrm>
            <a:off x="0" y="0"/>
            <a:ext cx="1450800" cy="1836720"/>
          </a:xfrm>
          <a:prstGeom prst="rect">
            <a:avLst/>
          </a:prstGeom>
          <a:ln w="0">
            <a:noFill/>
          </a:ln>
        </p:spPr>
      </p:pic>
      <p:sp>
        <p:nvSpPr>
          <p:cNvPr id="809" name="Line 9"/>
          <p:cNvSpPr/>
          <p:nvPr/>
        </p:nvSpPr>
        <p:spPr>
          <a:xfrm>
            <a:off x="3635280" y="27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TextBox 1"/>
          <p:cNvSpPr/>
          <p:nvPr/>
        </p:nvSpPr>
        <p:spPr>
          <a:xfrm>
            <a:off x="1303560" y="0"/>
            <a:ext cx="68796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1745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171745"/>
                </a:solidFill>
                <a:latin typeface="Arial"/>
              </a:rPr>
              <a:t>dà xuě fēn fēn xi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1745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171745"/>
                </a:solidFill>
                <a:latin typeface="Arial"/>
              </a:rPr>
              <a:t>大 雪   纷   纷  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1745"/>
                </a:solidFill>
                <a:latin typeface="Arial"/>
              </a:rPr>
              <a:t>dōnɡ tiān dào </a:t>
            </a:r>
            <a:r>
              <a:rPr b="1" lang="zh-CN" sz="3200" spc="-1" strike="noStrike">
                <a:solidFill>
                  <a:srgbClr val="171745"/>
                </a:solidFill>
                <a:latin typeface="Arial"/>
              </a:rPr>
              <a:t>，   </a:t>
            </a:r>
            <a:r>
              <a:rPr b="1" lang="en-US" sz="3200" spc="-1" strike="noStrike">
                <a:solidFill>
                  <a:srgbClr val="171745"/>
                </a:solidFill>
                <a:latin typeface="Arial"/>
              </a:rPr>
              <a:t>xǐ què jiào </a:t>
            </a:r>
            <a:r>
              <a:rPr b="1" lang="zh-CN" sz="3200" spc="-1" strike="noStrike">
                <a:solidFill>
                  <a:srgbClr val="171745"/>
                </a:solidFill>
                <a:latin typeface="Arial"/>
              </a:rPr>
              <a:t>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1745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171745"/>
                </a:solidFill>
                <a:latin typeface="Arial"/>
              </a:rPr>
              <a:t>冬     天   到    ，   喜 鹊  叫   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1745"/>
                </a:solidFill>
                <a:latin typeface="Arial"/>
              </a:rPr>
              <a:t>duǒ duǒ xuě huā xiànɡ é  máo </a:t>
            </a:r>
            <a:r>
              <a:rPr b="1" lang="zh-CN" sz="3200" spc="-1" strike="noStrike">
                <a:solidFill>
                  <a:srgbClr val="171745"/>
                </a:solidFill>
                <a:latin typeface="Arial"/>
              </a:rPr>
              <a:t>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1745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171745"/>
                </a:solidFill>
                <a:latin typeface="Arial"/>
              </a:rPr>
              <a:t>朵  朵      雪   花     像    鹅  毛  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1745"/>
                </a:solidFill>
                <a:latin typeface="Arial"/>
              </a:rPr>
              <a:t>sōnɡ shù </a:t>
            </a:r>
            <a:r>
              <a:rPr b="1" lang="zh-CN" sz="3200" spc="-1" strike="noStrike">
                <a:solidFill>
                  <a:srgbClr val="171745"/>
                </a:solidFill>
                <a:latin typeface="Arial"/>
              </a:rPr>
              <a:t>、 </a:t>
            </a:r>
            <a:r>
              <a:rPr b="1" lang="en-US" sz="3200" spc="-1" strike="noStrike">
                <a:solidFill>
                  <a:srgbClr val="171745"/>
                </a:solidFill>
                <a:latin typeface="Arial"/>
              </a:rPr>
              <a:t>bǎi shù lǜ yóu yóu </a:t>
            </a:r>
            <a:r>
              <a:rPr b="1" lang="zh-CN" sz="3200" spc="-1" strike="noStrike">
                <a:solidFill>
                  <a:srgbClr val="171745"/>
                </a:solidFill>
                <a:latin typeface="Arial"/>
              </a:rPr>
              <a:t>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1745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171745"/>
                </a:solidFill>
                <a:latin typeface="Arial"/>
              </a:rPr>
              <a:t>松   树  、    柏  树    绿 油  油  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1745"/>
                </a:solidFill>
                <a:latin typeface="Arial"/>
              </a:rPr>
              <a:t>là méi </a:t>
            </a:r>
            <a:r>
              <a:rPr b="1" lang="zh-CN" sz="3200" spc="-1" strike="noStrike">
                <a:solidFill>
                  <a:srgbClr val="171745"/>
                </a:solidFill>
                <a:latin typeface="Arial"/>
              </a:rPr>
              <a:t>、 </a:t>
            </a:r>
            <a:r>
              <a:rPr b="1" lang="en-US" sz="3200" spc="-1" strike="noStrike">
                <a:solidFill>
                  <a:srgbClr val="171745"/>
                </a:solidFill>
                <a:latin typeface="Arial"/>
              </a:rPr>
              <a:t>shuǐ xiān kāi dé hǎo </a:t>
            </a:r>
            <a:r>
              <a:rPr b="1" lang="zh-CN" sz="3200" spc="-1" strike="noStrike">
                <a:solidFill>
                  <a:srgbClr val="171745"/>
                </a:solidFill>
                <a:latin typeface="Arial"/>
              </a:rPr>
              <a:t>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1745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171745"/>
                </a:solidFill>
                <a:latin typeface="Arial"/>
              </a:rPr>
              <a:t>腊 梅  、    水   仙    开  得  好  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1745"/>
                </a:solidFill>
                <a:latin typeface="Arial"/>
              </a:rPr>
              <a:t>xuě xià mài miáo mī mī xiào </a:t>
            </a:r>
            <a:r>
              <a:rPr b="1" lang="zh-CN" sz="3200" spc="-1" strike="noStrike">
                <a:solidFill>
                  <a:srgbClr val="171745"/>
                </a:solidFill>
                <a:latin typeface="Arial"/>
              </a:rPr>
              <a:t>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1745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171745"/>
                </a:solidFill>
                <a:latin typeface="Arial"/>
              </a:rPr>
              <a:t>雪  下    麦     苗     眯 眯 笑   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1745"/>
                </a:solidFill>
                <a:latin typeface="Arial"/>
              </a:rPr>
              <a:t>dōnɡ mián dònɡ wù shuì dà jiào </a:t>
            </a:r>
            <a:r>
              <a:rPr b="1" lang="zh-CN" sz="3200" spc="-1" strike="noStrike">
                <a:solidFill>
                  <a:srgbClr val="171745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71745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171745"/>
                </a:solidFill>
                <a:latin typeface="Arial"/>
              </a:rPr>
              <a:t>冬      眠     动      物   睡   大 觉   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Box 1"/>
          <p:cNvSpPr/>
          <p:nvPr/>
        </p:nvSpPr>
        <p:spPr>
          <a:xfrm>
            <a:off x="2052720" y="357120"/>
            <a:ext cx="50576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雪花娃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1745"/>
                </a:solidFill>
                <a:latin typeface="Times New Roman"/>
              </a:rPr>
              <a:t>雪花娃娃变戏法，变成洁白小棉花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1745"/>
                </a:solidFill>
                <a:latin typeface="Times New Roman"/>
              </a:rPr>
              <a:t>盖在青青麦苗上，让它暖暖快长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1745"/>
                </a:solidFill>
                <a:latin typeface="Times New Roman"/>
              </a:rPr>
              <a:t>雪花娃娃变戏法，变成洁白大画纸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1745"/>
                </a:solidFill>
                <a:latin typeface="Times New Roman"/>
              </a:rPr>
              <a:t>跑来小鸡和小鸭，画出了它们小脚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1745"/>
                </a:solidFill>
                <a:latin typeface="Times New Roman"/>
              </a:rPr>
              <a:t>雪花娃娃满地撒，乐坏了一群小娃娃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1745"/>
                </a:solidFill>
                <a:latin typeface="Times New Roman"/>
              </a:rPr>
              <a:t>堆雪人，打雪仗，娃娃心中乐开了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文本框 2"/>
          <p:cNvSpPr/>
          <p:nvPr/>
        </p:nvSpPr>
        <p:spPr>
          <a:xfrm>
            <a:off x="1911240" y="5448240"/>
            <a:ext cx="575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/>
          </p:nvPr>
        </p:nvSpPr>
        <p:spPr>
          <a:xfrm>
            <a:off x="499680" y="3714480"/>
            <a:ext cx="828036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9933"/>
                </a:solidFill>
                <a:latin typeface="楷体"/>
                <a:ea typeface="楷体"/>
              </a:rPr>
              <a:t>编一编</a:t>
            </a:r>
            <a:r>
              <a:rPr b="0" lang="zh-CN" sz="3200" spc="-1" strike="noStrike">
                <a:solidFill>
                  <a:srgbClr val="ff9933"/>
                </a:solidFill>
                <a:latin typeface="楷体"/>
                <a:ea typeface="楷体"/>
              </a:rPr>
              <a:t>：</a:t>
            </a:r>
            <a:r>
              <a:rPr b="1" lang="zh-CN" sz="2800" spc="-1" strike="noStrike">
                <a:solidFill>
                  <a:srgbClr val="0000cc"/>
                </a:solidFill>
                <a:latin typeface="楷体"/>
                <a:ea typeface="楷体"/>
              </a:rPr>
              <a:t>还有哪些小动物也会来画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"/>
                <a:ea typeface="楷体"/>
              </a:rPr>
              <a:t>           </a:t>
            </a:r>
            <a:r>
              <a:rPr b="1" lang="zh-CN" sz="2800" spc="-1" strike="noStrike">
                <a:solidFill>
                  <a:srgbClr val="0000cc"/>
                </a:solidFill>
                <a:latin typeface="楷体"/>
                <a:ea typeface="楷体"/>
              </a:rPr>
              <a:t>它们又会画些什么？把它编进诗歌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7"/>
          <p:cNvSpPr/>
          <p:nvPr/>
        </p:nvSpPr>
        <p:spPr>
          <a:xfrm>
            <a:off x="1643040" y="100008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楷体"/>
                <a:ea typeface="楷体"/>
              </a:rPr>
              <a:t>请把你喜欢的小任务带回家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11"/>
          <p:cNvSpPr/>
          <p:nvPr/>
        </p:nvSpPr>
        <p:spPr>
          <a:xfrm>
            <a:off x="611280" y="235728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楷体"/>
                <a:ea typeface="楷体"/>
              </a:rPr>
              <a:t>背一背</a:t>
            </a:r>
            <a:r>
              <a:rPr b="0" lang="zh-CN" sz="3600" spc="-1" strike="noStrike">
                <a:solidFill>
                  <a:srgbClr val="ff9933"/>
                </a:solidFill>
                <a:latin typeface="楷体"/>
                <a:ea typeface="楷体"/>
              </a:rPr>
              <a:t>：</a:t>
            </a:r>
            <a:r>
              <a:rPr b="1" lang="zh-CN" sz="3200" spc="-1" strike="noStrike">
                <a:solidFill>
                  <a:srgbClr val="0000cc"/>
                </a:solidFill>
                <a:latin typeface="楷体"/>
                <a:ea typeface="楷体"/>
              </a:rPr>
              <a:t>把</a:t>
            </a:r>
            <a:r>
              <a:rPr b="1" lang="en-US" sz="3200" spc="-1" strike="noStrike">
                <a:solidFill>
                  <a:srgbClr val="0000cc"/>
                </a:solidFill>
                <a:latin typeface="楷体"/>
                <a:ea typeface="楷体"/>
              </a:rPr>
              <a:t>《</a:t>
            </a:r>
            <a:r>
              <a:rPr b="1" lang="zh-CN" sz="3200" spc="-1" strike="noStrike">
                <a:solidFill>
                  <a:srgbClr val="0000cc"/>
                </a:solidFill>
                <a:latin typeface="楷体"/>
                <a:ea typeface="楷体"/>
              </a:rPr>
              <a:t>雪地里的小画家</a:t>
            </a:r>
            <a:r>
              <a:rPr b="1" lang="en-US" sz="3200" spc="-1" strike="noStrike">
                <a:solidFill>
                  <a:srgbClr val="0000cc"/>
                </a:solidFill>
                <a:latin typeface="楷体"/>
                <a:ea typeface="楷体"/>
              </a:rPr>
              <a:t>》</a:t>
            </a:r>
            <a:r>
              <a:rPr b="1" lang="zh-CN" sz="3200" spc="-1" strike="noStrike">
                <a:solidFill>
                  <a:srgbClr val="0000cc"/>
                </a:solidFill>
                <a:latin typeface="楷体"/>
                <a:ea typeface="楷体"/>
              </a:rPr>
              <a:t>这首诗歌背给爸爸妈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企业介绍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CC3D-7417-41FB-AD73-134308750B3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2007131203349734"/>
          <p:cNvPicPr/>
          <p:nvPr/>
        </p:nvPicPr>
        <p:blipFill>
          <a:blip r:embed="rId1"/>
          <a:stretch/>
        </p:blipFill>
        <p:spPr>
          <a:xfrm>
            <a:off x="0" y="548640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1356840" y="214200"/>
            <a:ext cx="7162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c00000"/>
                </a:solidFill>
                <a:latin typeface="宋体"/>
              </a:rPr>
              <a:t>xuě dì lǐ de xiǎo huà ji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雪 地 里 的  小   画  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舒体"/>
                <a:ea typeface="方正舒体"/>
              </a:rPr>
              <a:t>xià  xuě lɑ   xià  xuě  l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 雪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下 雪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！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舒体"/>
                <a:ea typeface="方正舒体"/>
              </a:rPr>
              <a:t>xuě  dì  lǐ  lái le  yì qún  xiǎo huà ji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雪 地 里 来 了 一 群 小 画 家。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舒体"/>
                <a:ea typeface="方正舒体"/>
              </a:rPr>
              <a:t>xiǎo jī huà  zhú yè  xiǎo ɡǒu  huà méi hu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 鸡 画 竹 叶，小 狗 画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梅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花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舒体"/>
                <a:ea typeface="方正舒体"/>
              </a:rPr>
              <a:t>xiǎo yā huà fēnɡ yè   xiǎo mǎ  huà yuè  y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 鸭 画 枫 叶，小 马 画 月 牙。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舒体"/>
                <a:ea typeface="方正舒体"/>
              </a:rPr>
              <a:t>bú yònɡ yán liào bú yònɡ b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用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颜 料 不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用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笔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舒体"/>
                <a:ea typeface="方正舒体"/>
              </a:rPr>
              <a:t>jǐ  bù  jiù chénɡ yì fú  hu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几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步 就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成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一 幅 画。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舒体"/>
                <a:ea typeface="方正舒体"/>
              </a:rPr>
              <a:t>qīnɡ wā wèi shén me  méi cān ji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青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蛙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什 么 没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舒体"/>
                <a:ea typeface="方正舒体"/>
              </a:rPr>
              <a:t>tā  zài dònɡ lǐ shuì zháo l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 在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洞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里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睡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 啦。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5"/>
          <p:cNvSpPr/>
          <p:nvPr/>
        </p:nvSpPr>
        <p:spPr>
          <a:xfrm>
            <a:off x="1042920" y="33336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611280" y="0"/>
            <a:ext cx="8208720" cy="67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雪地里的小画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下雪啦，下雪啦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　　  雪地里来了一群小画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　　  小鸡画竹叶，小狗画梅花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　　  小鸭画枫叶，小马画月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　　  不用颜料不用笔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　　  几步就成一幅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　　  青蛙为什么没参加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　　  他在洞里睡着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8"/>
          <p:cNvSpPr/>
          <p:nvPr/>
        </p:nvSpPr>
        <p:spPr>
          <a:xfrm flipH="1">
            <a:off x="3708000" y="1701720"/>
            <a:ext cx="144360" cy="647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9"/>
          <p:cNvSpPr/>
          <p:nvPr/>
        </p:nvSpPr>
        <p:spPr>
          <a:xfrm flipH="1">
            <a:off x="3708000" y="1701720"/>
            <a:ext cx="144360" cy="5749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10"/>
          <p:cNvSpPr/>
          <p:nvPr/>
        </p:nvSpPr>
        <p:spPr>
          <a:xfrm flipH="1">
            <a:off x="5700600" y="1755720"/>
            <a:ext cx="144720" cy="57636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1"/>
          <p:cNvSpPr/>
          <p:nvPr/>
        </p:nvSpPr>
        <p:spPr>
          <a:xfrm flipH="1">
            <a:off x="3708000" y="1773360"/>
            <a:ext cx="144360" cy="57600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2"/>
          <p:cNvSpPr/>
          <p:nvPr/>
        </p:nvSpPr>
        <p:spPr>
          <a:xfrm flipH="1">
            <a:off x="4679640" y="5398920"/>
            <a:ext cx="144360" cy="57636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3"/>
          <p:cNvSpPr/>
          <p:nvPr/>
        </p:nvSpPr>
        <p:spPr>
          <a:xfrm flipH="1">
            <a:off x="4160520" y="3948120"/>
            <a:ext cx="144360" cy="57636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4"/>
          <p:cNvSpPr/>
          <p:nvPr/>
        </p:nvSpPr>
        <p:spPr>
          <a:xfrm flipH="1">
            <a:off x="4216320" y="4648320"/>
            <a:ext cx="144720" cy="57600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5"/>
          <p:cNvSpPr/>
          <p:nvPr/>
        </p:nvSpPr>
        <p:spPr>
          <a:xfrm flipH="1">
            <a:off x="3195360" y="5421240"/>
            <a:ext cx="144360" cy="57636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6"/>
          <p:cNvSpPr/>
          <p:nvPr/>
        </p:nvSpPr>
        <p:spPr>
          <a:xfrm flipH="1">
            <a:off x="4182840" y="6122880"/>
            <a:ext cx="144360" cy="57636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圣诞纯音乐.mp3" descr=""/>
          <p:cNvPicPr/>
          <p:nvPr/>
        </p:nvPicPr>
        <p:blipFill>
          <a:blip r:embed="rId1"/>
          <a:stretch/>
        </p:blipFill>
        <p:spPr>
          <a:xfrm>
            <a:off x="8410680" y="6124680"/>
            <a:ext cx="73332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74652" fill="hold"/>
                                        <p:tgtEl>
                                          <p:spTgt spid="5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3" descr="边框1"/>
          <p:cNvPicPr/>
          <p:nvPr/>
        </p:nvPicPr>
        <p:blipFill>
          <a:blip r:embed="rId1"/>
          <a:stretch/>
        </p:blipFill>
        <p:spPr>
          <a:xfrm>
            <a:off x="539640" y="260280"/>
            <a:ext cx="2743200" cy="107316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4"/>
          <p:cNvSpPr/>
          <p:nvPr/>
        </p:nvSpPr>
        <p:spPr>
          <a:xfrm>
            <a:off x="468360" y="33336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隶书"/>
              </a:rPr>
              <a:t>读一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1267920" y="16700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梅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6"/>
          <p:cNvSpPr/>
          <p:nvPr/>
        </p:nvSpPr>
        <p:spPr>
          <a:xfrm>
            <a:off x="898920" y="1340640"/>
            <a:ext cx="105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méi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7"/>
          <p:cNvSpPr/>
          <p:nvPr/>
        </p:nvSpPr>
        <p:spPr>
          <a:xfrm>
            <a:off x="3212640" y="16700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不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8"/>
          <p:cNvSpPr/>
          <p:nvPr/>
        </p:nvSpPr>
        <p:spPr>
          <a:xfrm>
            <a:off x="5301720" y="16700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几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9"/>
          <p:cNvSpPr/>
          <p:nvPr/>
        </p:nvSpPr>
        <p:spPr>
          <a:xfrm>
            <a:off x="1267200" y="31654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成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0"/>
          <p:cNvSpPr/>
          <p:nvPr/>
        </p:nvSpPr>
        <p:spPr>
          <a:xfrm>
            <a:off x="3284280" y="31464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青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1"/>
          <p:cNvSpPr/>
          <p:nvPr/>
        </p:nvSpPr>
        <p:spPr>
          <a:xfrm>
            <a:off x="5340600" y="31417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为什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2"/>
          <p:cNvSpPr/>
          <p:nvPr/>
        </p:nvSpPr>
        <p:spPr>
          <a:xfrm>
            <a:off x="1267920" y="45086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参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3"/>
          <p:cNvSpPr/>
          <p:nvPr/>
        </p:nvSpPr>
        <p:spPr>
          <a:xfrm>
            <a:off x="3428640" y="44784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洞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4"/>
          <p:cNvSpPr/>
          <p:nvPr/>
        </p:nvSpPr>
        <p:spPr>
          <a:xfrm>
            <a:off x="5413680" y="44370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睡着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5"/>
          <p:cNvSpPr/>
          <p:nvPr/>
        </p:nvSpPr>
        <p:spPr>
          <a:xfrm>
            <a:off x="3400200" y="1267560"/>
            <a:ext cx="13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yòn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6"/>
          <p:cNvSpPr/>
          <p:nvPr/>
        </p:nvSpPr>
        <p:spPr>
          <a:xfrm>
            <a:off x="5231160" y="1267560"/>
            <a:ext cx="5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j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7"/>
          <p:cNvSpPr/>
          <p:nvPr/>
        </p:nvSpPr>
        <p:spPr>
          <a:xfrm>
            <a:off x="649080" y="2780280"/>
            <a:ext cx="15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chén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8"/>
          <p:cNvSpPr/>
          <p:nvPr/>
        </p:nvSpPr>
        <p:spPr>
          <a:xfrm>
            <a:off x="2773080" y="2813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9"/>
          <p:cNvSpPr/>
          <p:nvPr/>
        </p:nvSpPr>
        <p:spPr>
          <a:xfrm>
            <a:off x="3617640" y="2707560"/>
            <a:ext cx="83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w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20"/>
          <p:cNvSpPr/>
          <p:nvPr/>
        </p:nvSpPr>
        <p:spPr>
          <a:xfrm>
            <a:off x="5005800" y="2707560"/>
            <a:ext cx="9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wè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21"/>
          <p:cNvSpPr/>
          <p:nvPr/>
        </p:nvSpPr>
        <p:spPr>
          <a:xfrm>
            <a:off x="909000" y="407592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cānji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22"/>
          <p:cNvSpPr/>
          <p:nvPr/>
        </p:nvSpPr>
        <p:spPr>
          <a:xfrm>
            <a:off x="2953800" y="4075920"/>
            <a:ext cx="127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dòn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23"/>
          <p:cNvSpPr/>
          <p:nvPr/>
        </p:nvSpPr>
        <p:spPr>
          <a:xfrm>
            <a:off x="4890240" y="4075920"/>
            <a:ext cx="120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shuì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24"/>
          <p:cNvSpPr/>
          <p:nvPr/>
        </p:nvSpPr>
        <p:spPr>
          <a:xfrm>
            <a:off x="6316560" y="4075920"/>
            <a:ext cx="56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l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3" descr="边框1"/>
          <p:cNvPicPr/>
          <p:nvPr/>
        </p:nvPicPr>
        <p:blipFill>
          <a:blip r:embed="rId1"/>
          <a:stretch/>
        </p:blipFill>
        <p:spPr>
          <a:xfrm>
            <a:off x="539640" y="260280"/>
            <a:ext cx="2743200" cy="107316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4"/>
          <p:cNvSpPr/>
          <p:nvPr/>
        </p:nvSpPr>
        <p:spPr>
          <a:xfrm>
            <a:off x="468360" y="33336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隶书"/>
              </a:rPr>
              <a:t>读一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5"/>
          <p:cNvSpPr/>
          <p:nvPr/>
        </p:nvSpPr>
        <p:spPr>
          <a:xfrm>
            <a:off x="1267920" y="16700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梅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972360" y="1340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7"/>
          <p:cNvSpPr/>
          <p:nvPr/>
        </p:nvSpPr>
        <p:spPr>
          <a:xfrm>
            <a:off x="3212640" y="16700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不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8"/>
          <p:cNvSpPr/>
          <p:nvPr/>
        </p:nvSpPr>
        <p:spPr>
          <a:xfrm>
            <a:off x="5301720" y="16700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几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9"/>
          <p:cNvSpPr/>
          <p:nvPr/>
        </p:nvSpPr>
        <p:spPr>
          <a:xfrm>
            <a:off x="1267200" y="31654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成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0"/>
          <p:cNvSpPr/>
          <p:nvPr/>
        </p:nvSpPr>
        <p:spPr>
          <a:xfrm>
            <a:off x="3284280" y="31464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青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1"/>
          <p:cNvSpPr/>
          <p:nvPr/>
        </p:nvSpPr>
        <p:spPr>
          <a:xfrm>
            <a:off x="5340600" y="31417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为什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2"/>
          <p:cNvSpPr/>
          <p:nvPr/>
        </p:nvSpPr>
        <p:spPr>
          <a:xfrm>
            <a:off x="1267920" y="45086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参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3"/>
          <p:cNvSpPr/>
          <p:nvPr/>
        </p:nvSpPr>
        <p:spPr>
          <a:xfrm>
            <a:off x="3428640" y="44784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洞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4"/>
          <p:cNvSpPr/>
          <p:nvPr/>
        </p:nvSpPr>
        <p:spPr>
          <a:xfrm>
            <a:off x="5413680" y="44370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睡着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15"/>
          <p:cNvSpPr/>
          <p:nvPr/>
        </p:nvSpPr>
        <p:spPr>
          <a:xfrm>
            <a:off x="3493440" y="12675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16"/>
          <p:cNvSpPr/>
          <p:nvPr/>
        </p:nvSpPr>
        <p:spPr>
          <a:xfrm>
            <a:off x="5149080" y="12675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17"/>
          <p:cNvSpPr/>
          <p:nvPr/>
        </p:nvSpPr>
        <p:spPr>
          <a:xfrm>
            <a:off x="756360" y="2780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2773080" y="2813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9"/>
          <p:cNvSpPr/>
          <p:nvPr/>
        </p:nvSpPr>
        <p:spPr>
          <a:xfrm>
            <a:off x="3708360" y="281628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20"/>
          <p:cNvSpPr/>
          <p:nvPr/>
        </p:nvSpPr>
        <p:spPr>
          <a:xfrm>
            <a:off x="5053680" y="270756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21"/>
          <p:cNvSpPr/>
          <p:nvPr/>
        </p:nvSpPr>
        <p:spPr>
          <a:xfrm>
            <a:off x="900720" y="41832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22"/>
          <p:cNvSpPr/>
          <p:nvPr/>
        </p:nvSpPr>
        <p:spPr>
          <a:xfrm>
            <a:off x="3059640" y="41832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23"/>
          <p:cNvSpPr/>
          <p:nvPr/>
        </p:nvSpPr>
        <p:spPr>
          <a:xfrm>
            <a:off x="4908960" y="4075920"/>
            <a:ext cx="34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4"/>
          <p:cNvSpPr/>
          <p:nvPr/>
        </p:nvSpPr>
        <p:spPr>
          <a:xfrm>
            <a:off x="6300720" y="4076640"/>
            <a:ext cx="30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3" descr="边框1"/>
          <p:cNvPicPr/>
          <p:nvPr/>
        </p:nvPicPr>
        <p:blipFill>
          <a:blip r:embed="rId1"/>
          <a:stretch/>
        </p:blipFill>
        <p:spPr>
          <a:xfrm>
            <a:off x="539640" y="260280"/>
            <a:ext cx="2743200" cy="107316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4"/>
          <p:cNvSpPr/>
          <p:nvPr/>
        </p:nvSpPr>
        <p:spPr>
          <a:xfrm>
            <a:off x="468360" y="33336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隶书"/>
              </a:rPr>
              <a:t>认一认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5"/>
          <p:cNvSpPr/>
          <p:nvPr/>
        </p:nvSpPr>
        <p:spPr>
          <a:xfrm>
            <a:off x="1156320" y="16700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6"/>
          <p:cNvSpPr/>
          <p:nvPr/>
        </p:nvSpPr>
        <p:spPr>
          <a:xfrm>
            <a:off x="898920" y="1340640"/>
            <a:ext cx="105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méi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7"/>
          <p:cNvSpPr/>
          <p:nvPr/>
        </p:nvSpPr>
        <p:spPr>
          <a:xfrm>
            <a:off x="3029760" y="1628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8"/>
          <p:cNvSpPr/>
          <p:nvPr/>
        </p:nvSpPr>
        <p:spPr>
          <a:xfrm>
            <a:off x="4829760" y="1628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9"/>
          <p:cNvSpPr/>
          <p:nvPr/>
        </p:nvSpPr>
        <p:spPr>
          <a:xfrm>
            <a:off x="6557040" y="1628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10"/>
          <p:cNvSpPr/>
          <p:nvPr/>
        </p:nvSpPr>
        <p:spPr>
          <a:xfrm>
            <a:off x="3964680" y="32130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1"/>
          <p:cNvSpPr/>
          <p:nvPr/>
        </p:nvSpPr>
        <p:spPr>
          <a:xfrm>
            <a:off x="5765040" y="3284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2"/>
          <p:cNvSpPr/>
          <p:nvPr/>
        </p:nvSpPr>
        <p:spPr>
          <a:xfrm>
            <a:off x="3101040" y="50133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3"/>
          <p:cNvSpPr/>
          <p:nvPr/>
        </p:nvSpPr>
        <p:spPr>
          <a:xfrm>
            <a:off x="4901400" y="50133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14"/>
          <p:cNvSpPr/>
          <p:nvPr/>
        </p:nvSpPr>
        <p:spPr>
          <a:xfrm>
            <a:off x="2751120" y="1267560"/>
            <a:ext cx="13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yòn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15"/>
          <p:cNvSpPr/>
          <p:nvPr/>
        </p:nvSpPr>
        <p:spPr>
          <a:xfrm>
            <a:off x="4799520" y="1267560"/>
            <a:ext cx="5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j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16"/>
          <p:cNvSpPr/>
          <p:nvPr/>
        </p:nvSpPr>
        <p:spPr>
          <a:xfrm>
            <a:off x="6121080" y="1267560"/>
            <a:ext cx="15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chén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17"/>
          <p:cNvSpPr/>
          <p:nvPr/>
        </p:nvSpPr>
        <p:spPr>
          <a:xfrm>
            <a:off x="973080" y="28868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18"/>
          <p:cNvSpPr/>
          <p:nvPr/>
        </p:nvSpPr>
        <p:spPr>
          <a:xfrm>
            <a:off x="1958400" y="2780280"/>
            <a:ext cx="83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w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9"/>
          <p:cNvSpPr/>
          <p:nvPr/>
        </p:nvSpPr>
        <p:spPr>
          <a:xfrm>
            <a:off x="3778920" y="2780280"/>
            <a:ext cx="9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wè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20"/>
          <p:cNvSpPr/>
          <p:nvPr/>
        </p:nvSpPr>
        <p:spPr>
          <a:xfrm>
            <a:off x="5528520" y="2780280"/>
            <a:ext cx="90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c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21"/>
          <p:cNvSpPr/>
          <p:nvPr/>
        </p:nvSpPr>
        <p:spPr>
          <a:xfrm>
            <a:off x="2737800" y="4436280"/>
            <a:ext cx="127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dòn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22"/>
          <p:cNvSpPr/>
          <p:nvPr/>
        </p:nvSpPr>
        <p:spPr>
          <a:xfrm flipV="1" rot="10800000">
            <a:off x="4572000" y="4435920"/>
            <a:ext cx="127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shuì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23"/>
          <p:cNvSpPr/>
          <p:nvPr/>
        </p:nvSpPr>
        <p:spPr>
          <a:xfrm>
            <a:off x="6243840" y="4436280"/>
            <a:ext cx="56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l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24"/>
          <p:cNvSpPr/>
          <p:nvPr/>
        </p:nvSpPr>
        <p:spPr>
          <a:xfrm>
            <a:off x="2093040" y="32130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25"/>
          <p:cNvSpPr/>
          <p:nvPr/>
        </p:nvSpPr>
        <p:spPr>
          <a:xfrm>
            <a:off x="1178640" y="4436280"/>
            <a:ext cx="73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ji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26"/>
          <p:cNvSpPr/>
          <p:nvPr/>
        </p:nvSpPr>
        <p:spPr>
          <a:xfrm>
            <a:off x="1300680" y="50133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27"/>
          <p:cNvSpPr/>
          <p:nvPr/>
        </p:nvSpPr>
        <p:spPr>
          <a:xfrm>
            <a:off x="6341040" y="50133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3" descr="边框1"/>
          <p:cNvPicPr/>
          <p:nvPr/>
        </p:nvPicPr>
        <p:blipFill>
          <a:blip r:embed="rId1"/>
          <a:stretch/>
        </p:blipFill>
        <p:spPr>
          <a:xfrm>
            <a:off x="539640" y="260280"/>
            <a:ext cx="2743200" cy="1073160"/>
          </a:xfrm>
          <a:prstGeom prst="rect">
            <a:avLst/>
          </a:prstGeom>
          <a:ln w="0">
            <a:noFill/>
          </a:ln>
        </p:spPr>
      </p:pic>
      <p:sp>
        <p:nvSpPr>
          <p:cNvPr id="635" name="Text Box 4"/>
          <p:cNvSpPr/>
          <p:nvPr/>
        </p:nvSpPr>
        <p:spPr>
          <a:xfrm>
            <a:off x="468360" y="33336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隶书"/>
              </a:rPr>
              <a:t>记一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5"/>
          <p:cNvSpPr/>
          <p:nvPr/>
        </p:nvSpPr>
        <p:spPr>
          <a:xfrm>
            <a:off x="2453400" y="2276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6"/>
          <p:cNvSpPr/>
          <p:nvPr/>
        </p:nvSpPr>
        <p:spPr>
          <a:xfrm>
            <a:off x="973080" y="1340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7"/>
          <p:cNvSpPr/>
          <p:nvPr/>
        </p:nvSpPr>
        <p:spPr>
          <a:xfrm>
            <a:off x="2453400" y="45813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8"/>
          <p:cNvSpPr/>
          <p:nvPr/>
        </p:nvSpPr>
        <p:spPr>
          <a:xfrm>
            <a:off x="1156320" y="45813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9"/>
          <p:cNvSpPr/>
          <p:nvPr/>
        </p:nvSpPr>
        <p:spPr>
          <a:xfrm>
            <a:off x="1156320" y="34290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0"/>
          <p:cNvSpPr/>
          <p:nvPr/>
        </p:nvSpPr>
        <p:spPr>
          <a:xfrm>
            <a:off x="2453400" y="34290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1"/>
          <p:cNvSpPr/>
          <p:nvPr/>
        </p:nvSpPr>
        <p:spPr>
          <a:xfrm>
            <a:off x="3821760" y="34290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12"/>
          <p:cNvSpPr/>
          <p:nvPr/>
        </p:nvSpPr>
        <p:spPr>
          <a:xfrm>
            <a:off x="6414120" y="2276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13"/>
          <p:cNvSpPr/>
          <p:nvPr/>
        </p:nvSpPr>
        <p:spPr>
          <a:xfrm>
            <a:off x="3825000" y="2276640"/>
            <a:ext cx="51588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 action="ppaction://hlinksldjump"/>
              </a:rPr>
              <a:t>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4"/>
          <p:cNvSpPr/>
          <p:nvPr/>
        </p:nvSpPr>
        <p:spPr>
          <a:xfrm>
            <a:off x="2844720" y="12675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5"/>
          <p:cNvSpPr/>
          <p:nvPr/>
        </p:nvSpPr>
        <p:spPr>
          <a:xfrm>
            <a:off x="4718160" y="12675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6"/>
          <p:cNvSpPr/>
          <p:nvPr/>
        </p:nvSpPr>
        <p:spPr>
          <a:xfrm>
            <a:off x="973080" y="28868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7"/>
          <p:cNvSpPr/>
          <p:nvPr/>
        </p:nvSpPr>
        <p:spPr>
          <a:xfrm>
            <a:off x="4767120" y="27802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18"/>
          <p:cNvSpPr/>
          <p:nvPr/>
        </p:nvSpPr>
        <p:spPr>
          <a:xfrm>
            <a:off x="2844720" y="45428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19"/>
          <p:cNvSpPr/>
          <p:nvPr/>
        </p:nvSpPr>
        <p:spPr>
          <a:xfrm>
            <a:off x="5003640" y="2276640"/>
            <a:ext cx="64008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3" action="ppaction://hlinksldjump"/>
              </a:rPr>
              <a:t>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20"/>
          <p:cNvSpPr/>
          <p:nvPr/>
        </p:nvSpPr>
        <p:spPr>
          <a:xfrm>
            <a:off x="1117440" y="45428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21"/>
          <p:cNvSpPr/>
          <p:nvPr/>
        </p:nvSpPr>
        <p:spPr>
          <a:xfrm>
            <a:off x="7565040" y="2276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2"/>
          <p:cNvSpPr/>
          <p:nvPr/>
        </p:nvSpPr>
        <p:spPr>
          <a:xfrm>
            <a:off x="1156320" y="2276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10:04:2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9:53Z</dcterms:modified>
  <cp:revision>1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