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9D57-85CA-4E0D-A4CE-D219B40DF2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426A-7011-4D34-96D4-571216C180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12D-B154-43A8-93B0-C97435CC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2BE-289B-467A-8621-09A8304A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A7A-D4B9-4BC9-B0F0-0DBE705A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F39-AC24-4BF9-A071-62484453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2148-F36F-4515-BFBD-31D693DA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5E42-3107-4E38-B885-9C41575A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A67B-75C2-463D-AB8E-02191DFC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A3BA-D24E-435E-81D7-7A2671E5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FD15-9EB6-45F0-AA91-C2430F69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A0CE-B644-495E-AD7A-46A58043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E214-28EA-4336-8D0C-1D1E92F6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7F6-34AE-4F7C-A569-CA8EED18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58AC-A988-4F0C-8E1E-C7AF4359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80AE-DC32-45CB-94C7-D79FD62B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6597-F5CE-4700-A150-98B3996C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5D24-389F-4A97-BFD3-24C30959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3A72-05F0-414D-BCCB-89F43846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245-484D-47A2-8FB0-92252D8D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D26-5867-44CA-80DD-326680AC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7B3-F630-46C3-A7A4-1F44A9D3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D56-E3EA-41E3-9112-6259135B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482-4E0D-4C1A-80BE-BE3A092E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705-EAE8-49BF-9B4D-47CB9CE7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D43-F418-4503-BA4E-6310CDBC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2F41-8176-42BD-A9A2-AEE2849538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633F-BD4F-479D-8C20-AE3FCEF31C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" Target="slide10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" Target="slide7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47640" y="1911240"/>
            <a:ext cx="5832720" cy="108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小狗敲门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171900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971640" y="-455760"/>
            <a:ext cx="2665440" cy="2419560"/>
            <a:chOff x="971640" y="-455760"/>
            <a:chExt cx="2665440" cy="2419560"/>
          </a:xfrm>
        </p:grpSpPr>
        <p:pic>
          <p:nvPicPr>
            <p:cNvPr id="158" name="Picture 29" descr="泡泡框"/>
            <p:cNvPicPr/>
            <p:nvPr/>
          </p:nvPicPr>
          <p:blipFill>
            <a:blip r:embed="rId2"/>
            <a:stretch/>
          </p:blipFill>
          <p:spPr>
            <a:xfrm>
              <a:off x="971640" y="-455760"/>
              <a:ext cx="266544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矩形 7"/>
            <p:cNvSpPr/>
            <p:nvPr/>
          </p:nvSpPr>
          <p:spPr>
            <a:xfrm>
              <a:off x="1176840" y="1274040"/>
              <a:ext cx="2458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5"/>
          <p:cNvSpPr/>
          <p:nvPr/>
        </p:nvSpPr>
        <p:spPr>
          <a:xfrm>
            <a:off x="1116000" y="12700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四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总结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403280" y="25653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喜欢课文中的谁？为什么？在生活中我们遇到这样的事情应该怎么做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3"/>
          <a:stretch/>
        </p:blipFill>
        <p:spPr>
          <a:xfrm>
            <a:off x="3708360" y="44280"/>
            <a:ext cx="1728720" cy="1706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7" descr="女天使副本"/>
          <p:cNvPicPr/>
          <p:nvPr/>
        </p:nvPicPr>
        <p:blipFill>
          <a:blip r:embed="rId4"/>
          <a:stretch/>
        </p:blipFill>
        <p:spPr>
          <a:xfrm>
            <a:off x="-33480" y="-23760"/>
            <a:ext cx="1521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53D1-D37E-4EE3-9A05-5CBE1D50DD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488480" y="494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415400" y="2781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486680" y="39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QQ图片20141204181522"/>
          <p:cNvPicPr/>
          <p:nvPr/>
        </p:nvPicPr>
        <p:blipFill>
          <a:blip r:embed="rId2"/>
          <a:stretch/>
        </p:blipFill>
        <p:spPr>
          <a:xfrm>
            <a:off x="396720" y="620640"/>
            <a:ext cx="8280720" cy="59770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6"/>
          <p:cNvGrpSpPr/>
          <p:nvPr/>
        </p:nvGrpSpPr>
        <p:grpSpPr>
          <a:xfrm>
            <a:off x="1187280" y="-1320840"/>
            <a:ext cx="2665440" cy="2419560"/>
            <a:chOff x="1187280" y="-1320840"/>
            <a:chExt cx="2665440" cy="2419560"/>
          </a:xfrm>
        </p:grpSpPr>
        <p:pic>
          <p:nvPicPr>
            <p:cNvPr id="96" name="Picture 29" descr="泡泡框"/>
            <p:cNvPicPr/>
            <p:nvPr/>
          </p:nvPicPr>
          <p:blipFill>
            <a:blip r:embed="rId3"/>
            <a:stretch/>
          </p:blipFill>
          <p:spPr>
            <a:xfrm>
              <a:off x="1187280" y="-1320840"/>
              <a:ext cx="266544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7"/>
            <p:cNvSpPr/>
            <p:nvPr/>
          </p:nvSpPr>
          <p:spPr>
            <a:xfrm>
              <a:off x="1392480" y="408960"/>
              <a:ext cx="2458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9"/>
          <p:cNvSpPr/>
          <p:nvPr/>
        </p:nvSpPr>
        <p:spPr>
          <a:xfrm>
            <a:off x="1403280" y="40464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图引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7" descr="女天使副本"/>
          <p:cNvPicPr/>
          <p:nvPr/>
        </p:nvPicPr>
        <p:blipFill>
          <a:blip r:embed="rId4"/>
          <a:stretch/>
        </p:blipFill>
        <p:spPr>
          <a:xfrm>
            <a:off x="-177840" y="-241200"/>
            <a:ext cx="151920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4488480" y="494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415400" y="2781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486680" y="39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QQ图片20141204181741"/>
          <p:cNvPicPr/>
          <p:nvPr/>
        </p:nvPicPr>
        <p:blipFill>
          <a:blip r:embed="rId2"/>
          <a:stretch/>
        </p:blipFill>
        <p:spPr>
          <a:xfrm>
            <a:off x="395280" y="549360"/>
            <a:ext cx="84661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780000" y="11736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>
            <a:hlinkClick r:id="" action="ppaction://hlinkshowjump?jump=nextslide"/>
          </p:cNvPr>
          <p:cNvSpPr/>
          <p:nvPr/>
        </p:nvSpPr>
        <p:spPr>
          <a:xfrm>
            <a:off x="1476360" y="278136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由读课文，划出课文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7" descr="女天使副本"/>
          <p:cNvPicPr/>
          <p:nvPr/>
        </p:nvPicPr>
        <p:blipFill>
          <a:blip r:embed="rId3"/>
          <a:stretch/>
        </p:blipFill>
        <p:spPr>
          <a:xfrm>
            <a:off x="-33480" y="260280"/>
            <a:ext cx="1521000" cy="12794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71640" y="-168120"/>
            <a:ext cx="2665440" cy="2419200"/>
            <a:chOff x="971640" y="-168120"/>
            <a:chExt cx="2665440" cy="2419200"/>
          </a:xfrm>
        </p:grpSpPr>
        <p:pic>
          <p:nvPicPr>
            <p:cNvPr id="108" name="Picture 29" descr="泡泡框"/>
            <p:cNvPicPr/>
            <p:nvPr/>
          </p:nvPicPr>
          <p:blipFill>
            <a:blip r:embed="rId4"/>
            <a:stretch/>
          </p:blipFill>
          <p:spPr>
            <a:xfrm>
              <a:off x="971640" y="-168120"/>
              <a:ext cx="26654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矩形 7"/>
            <p:cNvSpPr/>
            <p:nvPr/>
          </p:nvSpPr>
          <p:spPr>
            <a:xfrm>
              <a:off x="1176840" y="1561320"/>
              <a:ext cx="2458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116000" y="14860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二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初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>
            <a:hlinkClick r:id="rId5" action="ppaction://hlinksldjump"/>
          </p:cNvPr>
          <p:cNvSpPr/>
          <p:nvPr/>
        </p:nvSpPr>
        <p:spPr>
          <a:xfrm>
            <a:off x="1476360" y="3429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文有几个自然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3780000" y="11736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QQ图片20141204181303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79280" y="117360"/>
            <a:ext cx="8891640" cy="64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 rot="34200">
            <a:off x="1476360" y="549360"/>
            <a:ext cx="74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 rot="33600">
            <a:off x="1829880" y="1485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 rot="135000">
            <a:off x="2462760" y="1917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 rot="21408000">
            <a:off x="2608560" y="1123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414600" y="112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831120" y="1917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557520" y="260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334400" y="909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638600" y="1701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4926600" y="117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5559120" y="1125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5790240" y="2133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6661080" y="1773360"/>
            <a:ext cx="7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7503120" y="1125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8172360" y="2133720"/>
            <a:ext cx="309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885080" y="1917720"/>
            <a:ext cx="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QQ图片20141204183510"/>
          <p:cNvPicPr/>
          <p:nvPr/>
        </p:nvPicPr>
        <p:blipFill>
          <a:blip r:embed="rId2"/>
          <a:stretch/>
        </p:blipFill>
        <p:spPr>
          <a:xfrm>
            <a:off x="395280" y="477720"/>
            <a:ext cx="8209080" cy="5981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1116000" y="549360"/>
            <a:ext cx="6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71640" y="2060640"/>
            <a:ext cx="64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152000" y="213372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224000" y="357336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152000" y="50864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780000" y="11736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QQ图片20141204183657"/>
          <p:cNvPicPr/>
          <p:nvPr/>
        </p:nvPicPr>
        <p:blipFill>
          <a:blip r:embed="rId3"/>
          <a:stretch/>
        </p:blipFill>
        <p:spPr>
          <a:xfrm>
            <a:off x="108000" y="117360"/>
            <a:ext cx="8964720" cy="6640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152000" y="33336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080720" y="177336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00000" y="256536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187280" y="328608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007640" y="414972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96360" y="5302080"/>
            <a:ext cx="1406520" cy="141948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1"/>
          <p:cNvSpPr/>
          <p:nvPr/>
        </p:nvSpPr>
        <p:spPr>
          <a:xfrm>
            <a:off x="1960560" y="5619600"/>
            <a:ext cx="62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971640" y="-455760"/>
            <a:ext cx="2665440" cy="2419560"/>
            <a:chOff x="971640" y="-455760"/>
            <a:chExt cx="2665440" cy="2419560"/>
          </a:xfrm>
        </p:grpSpPr>
        <p:pic>
          <p:nvPicPr>
            <p:cNvPr id="147" name="Picture 29" descr="泡泡框"/>
            <p:cNvPicPr/>
            <p:nvPr/>
          </p:nvPicPr>
          <p:blipFill>
            <a:blip r:embed="rId2"/>
            <a:stretch/>
          </p:blipFill>
          <p:spPr>
            <a:xfrm>
              <a:off x="971640" y="-455760"/>
              <a:ext cx="266544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矩形 7"/>
            <p:cNvSpPr/>
            <p:nvPr/>
          </p:nvSpPr>
          <p:spPr>
            <a:xfrm>
              <a:off x="1176840" y="1274040"/>
              <a:ext cx="2458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5"/>
          <p:cNvSpPr/>
          <p:nvPr/>
        </p:nvSpPr>
        <p:spPr>
          <a:xfrm>
            <a:off x="1044720" y="1197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再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3780000" y="117360"/>
            <a:ext cx="1439640" cy="1751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>
            <a:hlinkClick r:id="rId4" action="ppaction://hlinksldjump"/>
          </p:cNvPr>
          <p:cNvSpPr/>
          <p:nvPr/>
        </p:nvSpPr>
        <p:spPr>
          <a:xfrm>
            <a:off x="1187280" y="321300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狗看见一座小房子是怎么做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房子里有什么？小狗又是怎么做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755640" y="2638440"/>
            <a:ext cx="48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课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900000" y="2060640"/>
            <a:ext cx="32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一）理解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7" descr="女天使副本"/>
          <p:cNvPicPr/>
          <p:nvPr/>
        </p:nvPicPr>
        <p:blipFill>
          <a:blip r:embed="rId5"/>
          <a:stretch/>
        </p:blipFill>
        <p:spPr>
          <a:xfrm>
            <a:off x="-33480" y="-23760"/>
            <a:ext cx="1521000" cy="12762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900000" y="4294080"/>
            <a:ext cx="48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课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~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044720" y="48704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二）多种形式练习对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3:32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