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gif" ContentType="image/gif"/>
  <Override PartName="/ppt/media/image5.jpeg" ContentType="image/jpeg"/>
  <Override PartName="/ppt/media/image11.jpeg" ContentType="image/jpeg"/>
  <Override PartName="/ppt/media/image9.jpeg" ContentType="image/jpeg"/>
  <Override PartName="/ppt/media/image23.jpeg" ContentType="image/jpeg"/>
  <Override PartName="/ppt/media/image18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CCC6-43C7-4914-971B-52CCBEE2AD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E381-7160-452F-BE74-AA411CBAAF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D8F-29E7-4983-A6DE-2E219313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064-DE3E-466E-AC6C-FF36CA2E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632-C90F-4723-BE9E-68849E77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562-8639-46F7-9495-0D5256C8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003-E8AC-4FF5-86A9-35377D49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590-AA9E-457A-8414-1481ADDE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BC8-15AD-40BD-9F61-B3C40C56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12F-4E55-4DF9-911E-97728128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F48-97AD-4749-947F-71A4CECF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EFE-F9E5-4ACD-9F52-49970D77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E67-B3C5-4013-A774-A051498D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2C0-7504-4A4E-852A-FE4D0CF6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130D-2FD8-4771-B300-44722F630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log.china.alibaba.com/blog/susu9801/article/b0-i2171849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4cde6c9be726d25c580afb3c4e1e7c4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031760" y="914400"/>
            <a:ext cx="6400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中宋"/>
              </a:rPr>
              <a:t>学会倾听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  <p:pic>
        <p:nvPicPr>
          <p:cNvPr id="50" name="矩形 5" descr=""/>
          <p:cNvPicPr/>
          <p:nvPr/>
        </p:nvPicPr>
        <p:blipFill>
          <a:blip r:embed="rId3"/>
          <a:stretch/>
        </p:blipFill>
        <p:spPr>
          <a:xfrm>
            <a:off x="1805040" y="592776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小猫"/>
          <p:cNvPicPr/>
          <p:nvPr/>
        </p:nvPicPr>
        <p:blipFill>
          <a:blip r:embed="rId1"/>
          <a:stretch/>
        </p:blipFill>
        <p:spPr>
          <a:xfrm>
            <a:off x="0" y="0"/>
            <a:ext cx="9144000" cy="7361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533520" y="360360"/>
            <a:ext cx="350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一天晚上，小猫躲在梁柱间偷听，一个大人对孩子说：“小宝，把鱼和牛奶放在冰箱里，小猫最爱吃鱼和牛奶了。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二天晚上，小猫躲在陶罐边，听见一个女人对男人说：“老公，帮帮我的忙，把香肠、腊肉挂在梁上，小鸡关好，别让小猫偷吃了。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三天晚上，小猫躲在屋顶上，从窗户里看到一个妇人叨念自己的孩子：“奶酪、肉松、鱼吃剩了，也不收好，小猫的鼻子特别灵，明天你就没的吃了。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就这样，小猫每天都非常开心，他回家告诉猫妈妈：“妈妈，果然像你说的一样，只要我留心倾听，人们每天都会告诉我该吃些什么。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cat3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971800" y="304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靠着听别人的谈话，学习生活的技能，小猫终于成为身手敏捷、肌肉强健的大猫，它后来有了孩子，也是这样教导孩子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像2"/>
          <p:cNvPicPr/>
          <p:nvPr/>
        </p:nvPicPr>
        <p:blipFill>
          <a:blip r:embed="rId1"/>
          <a:stretch/>
        </p:blipFill>
        <p:spPr>
          <a:xfrm>
            <a:off x="0" y="0"/>
            <a:ext cx="9144000" cy="6599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418920" y="1828800"/>
            <a:ext cx="312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要学会倾听 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倾听收获智慧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190759"/>
          <p:cNvPicPr/>
          <p:nvPr/>
        </p:nvPicPr>
        <p:blipFill>
          <a:blip r:embed="rId1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2140200" y="5460840"/>
            <a:ext cx="37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</a:rPr>
              <a:t>艾利克</a:t>
            </a:r>
            <a:r>
              <a:rPr b="1" lang="en-US" sz="5400" spc="-1" strike="noStrike">
                <a:solidFill>
                  <a:srgbClr val="ff3399"/>
                </a:solidFill>
                <a:latin typeface="Arial"/>
              </a:rPr>
              <a:t>·</a:t>
            </a:r>
            <a:r>
              <a:rPr b="1" lang="zh-CN" sz="5400" spc="-1" strike="noStrike">
                <a:solidFill>
                  <a:srgbClr val="ff3399"/>
                </a:solidFill>
                <a:latin typeface="Arial"/>
              </a:rPr>
              <a:t>威恩迈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2009072123553331"/>
          <p:cNvPicPr/>
          <p:nvPr/>
        </p:nvPicPr>
        <p:blipFill>
          <a:blip r:embed="rId1"/>
          <a:stretch/>
        </p:blipFill>
        <p:spPr>
          <a:xfrm>
            <a:off x="1981080" y="0"/>
            <a:ext cx="4496040" cy="6248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二泉映月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pic>
        <p:nvPicPr>
          <p:cNvPr id="83" name="二泉映月阿炳.mp3" descr=""/>
          <p:cNvPicPr/>
          <p:nvPr/>
        </p:nvPicPr>
        <p:blipFill>
          <a:blip r:embed="rId2"/>
          <a:stretch/>
        </p:blipFill>
        <p:spPr>
          <a:xfrm>
            <a:off x="7848720" y="55627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83107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有你相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3"/>
          <p:cNvPicPr/>
          <p:nvPr/>
        </p:nvPicPr>
        <p:blipFill>
          <a:blip r:embed="rId2"/>
          <a:stretch/>
        </p:blipFill>
        <p:spPr>
          <a:xfrm>
            <a:off x="4876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3"/>
          <p:cNvPicPr/>
          <p:nvPr/>
        </p:nvPicPr>
        <p:blipFill>
          <a:blip r:embed="rId3"/>
          <a:stretch/>
        </p:blipFill>
        <p:spPr>
          <a:xfrm>
            <a:off x="3352680" y="47242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219320" y="205740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b000b0"/>
                </a:solidFill>
                <a:latin typeface="Arial"/>
              </a:rPr>
              <a:t>考一考你的耳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200412222123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066320" y="20574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明特别聪明，心算能力很强。有一天，老师又出了一道心算题目，来考考他： 有一辆公共汽车，车上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人。到了一站上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，下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；  到了另外一站上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，下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； 然后又上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，下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；到了另一站又上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，下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。说一说一共到了几个车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371600" y="457200"/>
            <a:ext cx="6019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倾听能力测验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背景图1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409760" y="33526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游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猜一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他是谁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位同学蒙上眼睛，请另位同学发出声音，判断出是哪位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005621645161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159984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心理短剧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13"/>
          <p:cNvPicPr/>
          <p:nvPr/>
        </p:nvPicPr>
        <p:blipFill>
          <a:blip r:embed="rId2"/>
          <a:stretch/>
        </p:blipFill>
        <p:spPr>
          <a:xfrm>
            <a:off x="762120" y="5181480"/>
            <a:ext cx="1417680" cy="1417680"/>
          </a:xfrm>
          <a:prstGeom prst="rect">
            <a:avLst/>
          </a:prstGeom>
          <a:ln w="0">
            <a:noFill/>
          </a:ln>
        </p:spPr>
      </p:pic>
      <p:sp>
        <p:nvSpPr>
          <p:cNvPr id="54" name="WordArt 7"/>
          <p:cNvSpPr txBox="1"/>
          <p:nvPr/>
        </p:nvSpPr>
        <p:spPr>
          <a:xfrm>
            <a:off x="1295280" y="2286000"/>
            <a:ext cx="5181840" cy="23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谁听我说说啊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文本框 1"/>
          <p:cNvSpPr/>
          <p:nvPr/>
        </p:nvSpPr>
        <p:spPr>
          <a:xfrm>
            <a:off x="2789280" y="1235160"/>
            <a:ext cx="50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2005621625527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209680" y="1905120"/>
            <a:ext cx="39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4e03"/>
                </a:solidFill>
                <a:latin typeface="Times New Roman"/>
                <a:ea typeface="华文行楷"/>
              </a:rPr>
              <a:t>游戏</a:t>
            </a:r>
            <a:r>
              <a:rPr b="1" lang="en-US" sz="5400" spc="-1" strike="noStrike">
                <a:solidFill>
                  <a:srgbClr val="f54e03"/>
                </a:solidFill>
                <a:latin typeface="Times New Roman"/>
                <a:ea typeface="华文行楷"/>
              </a:rPr>
              <a:t>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7"/>
          <p:cNvSpPr txBox="1"/>
          <p:nvPr/>
        </p:nvSpPr>
        <p:spPr>
          <a:xfrm rot="21460200">
            <a:off x="2055960" y="2823840"/>
            <a:ext cx="5333760" cy="19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52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《你说我传》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52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20055242350353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990720" y="338436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教师发给每个小组的第一位同学一张字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每组的第一位同学看完字条后，小声告诉后面的同学，依次往后传，传到最后一位同学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以传话速度最快，传话内容准确无误的组为胜利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2209680" y="533520"/>
            <a:ext cx="4953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游戏规则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0A81-75E3-4E74-B71F-DE5CF800F1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005621637115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371600" y="838080"/>
            <a:ext cx="54100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de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根</a:t>
            </a:r>
            <a:r>
              <a:rPr b="1" lang="zh-CN" sz="5400" spc="-1" strike="noStrike">
                <a:solidFill>
                  <a:srgbClr val="9225ff"/>
                </a:solidFill>
                <a:latin typeface="Arial"/>
              </a:rPr>
              <a:t>据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短</a:t>
            </a:r>
            <a:r>
              <a:rPr b="1" lang="zh-CN" sz="5400" spc="-1" strike="noStrike">
                <a:solidFill>
                  <a:srgbClr val="cc99ff"/>
                </a:solidFill>
                <a:latin typeface="Arial"/>
              </a:rPr>
              <a:t>剧</a:t>
            </a:r>
            <a:r>
              <a:rPr b="1" lang="zh-CN" sz="4400" spc="-1" strike="noStrike">
                <a:solidFill>
                  <a:srgbClr val="a4de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4de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a4de00"/>
                </a:solidFill>
                <a:latin typeface="Arial"/>
              </a:rPr>
              <a:t>你的感受是什么，你更喜欢跟谁交朋友， 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02435365"/>
          <p:cNvPicPr/>
          <p:nvPr/>
        </p:nvPicPr>
        <p:blipFill>
          <a:blip r:embed="rId2"/>
          <a:stretch/>
        </p:blipFill>
        <p:spPr>
          <a:xfrm>
            <a:off x="6324480" y="380880"/>
            <a:ext cx="2525760" cy="2697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幸福的小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正确的倾听行为应该是怎样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80880" y="2102040"/>
            <a:ext cx="838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 Black"/>
              </a:rPr>
              <a:t>、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眼睛注视说话的人，将注意始终集中在别人谈话的内容上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 Black"/>
              </a:rPr>
              <a:t>、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用点头、微笑表示你理解对方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不赞同对方的观点，仍要保持尊重的态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有耐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别人说话内容较多、较长或言语不简洁时，不要随便打断对方、发表自己的看法，应等别人说完再发表不同意见或补充，表达自己意见时也要以“我认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我想补充说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比较温和的方式参与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6"/>
          <p:cNvSpPr/>
          <p:nvPr/>
        </p:nvSpPr>
        <p:spPr>
          <a:xfrm>
            <a:off x="3657600" y="3581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像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720240" y="236232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99"/>
                </a:solidFill>
                <a:latin typeface="Arial"/>
                <a:ea typeface="华文行楷"/>
              </a:rPr>
              <a:t>要学会倾听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99"/>
                </a:solidFill>
                <a:latin typeface="Arial"/>
                <a:ea typeface="华文行楷"/>
              </a:rPr>
              <a:t>倾听收获信任、友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李白"/>
          <p:cNvPicPr/>
          <p:nvPr/>
        </p:nvPicPr>
        <p:blipFill>
          <a:blip r:embed="rId1"/>
          <a:stretch/>
        </p:blipFill>
        <p:spPr>
          <a:xfrm>
            <a:off x="1905120" y="0"/>
            <a:ext cx="556236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铁杵磨成针"/>
          <p:cNvPicPr/>
          <p:nvPr/>
        </p:nvPicPr>
        <p:blipFill>
          <a:blip r:embed="rId1"/>
          <a:stretch/>
        </p:blipFill>
        <p:spPr>
          <a:xfrm>
            <a:off x="0" y="0"/>
            <a:ext cx="9144000" cy="69692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676520" y="99072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b000b0"/>
                </a:solidFill>
                <a:latin typeface="Arial"/>
                <a:ea typeface="楷体_GB2312"/>
              </a:rPr>
              <a:t>铁杵磨成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背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4"/>
          <p:cNvSpPr/>
          <p:nvPr/>
        </p:nvSpPr>
        <p:spPr>
          <a:xfrm>
            <a:off x="2133720" y="2819520"/>
            <a:ext cx="601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仿宋_GB2312"/>
              </a:rPr>
              <a:t>倾听的小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at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4191120" y="0"/>
            <a:ext cx="441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一天，猫妈妈把小猫叫来，说：“你已经长大了，三天之后就不能再喝妈妈的奶，要自己去找东西吃。”小猫惊恐地问妈妈：“妈妈那我该吃什么东西呢？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猫妈妈说：“你要吃什么食物，妈妈一时也说不出来，就用我们祖先留下的方法吧，这几天你躲在屋顶上、梁柱间、箱笼里、陶罐边，仔细倾听人们的谈论，他们自然会教你的。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5:22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3:51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