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gif" ContentType="image/gif"/>
  <Override PartName="/ppt/media/image17.png" ContentType="image/png"/>
  <Override PartName="/ppt/media/image2.wmf" ContentType="image/x-wmf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DAFE-35FD-4503-A498-6E1C61C2C5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EF39-549C-4080-AA1D-C3E4C43E7A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D22-76C4-4414-9E98-79D7BA8F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48D-D73D-491A-9F07-F2C05DBA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ABC-47A3-4112-91E8-0FA96076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3C9-A90B-4828-B127-1180BBC9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BBE-FE49-4209-88FC-27A34373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009-3D9B-41C4-B5CF-E7D9B4CD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338-71CE-4DDC-971A-BE15C6C5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197-15AA-4DCA-AE27-742512B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117-0B96-44C3-B657-44017EBC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24F-07D3-4DA9-A49F-4E9C2690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905-72A7-44BE-A100-FE67763D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A03-5D36-4F16-BBF1-775CF36B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4D2-ADFA-4F89-A348-E100E3E4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46200" y="765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小萝卜头的故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se17898233_副本"/>
          <p:cNvPicPr/>
          <p:nvPr/>
        </p:nvPicPr>
        <p:blipFill>
          <a:blip r:embed="rId2"/>
          <a:stretch/>
        </p:blipFill>
        <p:spPr>
          <a:xfrm>
            <a:off x="2124000" y="2251080"/>
            <a:ext cx="4969080" cy="353376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1786320" y="57848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7799400" cy="4033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1"/>
          <p:cNvSpPr/>
          <p:nvPr/>
        </p:nvSpPr>
        <p:spPr>
          <a:xfrm>
            <a:off x="826920" y="1916280"/>
            <a:ext cx="7561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萝</a:t>
            </a:r>
            <a:r>
              <a:rPr b="1" lang="zh-CN" sz="40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看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守   特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务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栏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薄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壳   纱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巾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撞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进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捧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火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柴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缓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缓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翠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843280" y="62064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词语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533520"/>
            <a:ext cx="4109760" cy="703440"/>
          </a:xfrm>
          <a:prstGeom prst="rect">
            <a:avLst/>
          </a:prstGeom>
          <a:solidFill>
            <a:srgbClr val="ccffcc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39640" y="213372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3366cc"/>
                </a:solidFill>
                <a:latin typeface="Arial"/>
              </a:rPr>
              <a:t>看                   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979640" y="162864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看见、看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979640" y="3068640"/>
            <a:ext cx="338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看护、看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1692360" y="1916280"/>
            <a:ext cx="358560" cy="504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1692360" y="278136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 flipV="1">
            <a:off x="5292720" y="1844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4"/>
          <p:cNvSpPr/>
          <p:nvPr/>
        </p:nvSpPr>
        <p:spPr>
          <a:xfrm>
            <a:off x="5292720" y="270828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5867280" y="1700280"/>
            <a:ext cx="3276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á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薄饼、薄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薄片、薄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5796000" y="3068640"/>
            <a:ext cx="334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刻薄、单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薄弱、薄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"/>
          <p:cNvSpPr/>
          <p:nvPr/>
        </p:nvSpPr>
        <p:spPr>
          <a:xfrm>
            <a:off x="1042920" y="1773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有些事情看似平常，却引发了小萝卜头的一些感想。联系课文中的具体语句，猜一猜小萝卜头当时会想些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332000" y="21337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小萝卜头大概刚下课，他把每天读的书放在楼栏杆旁，双手抓住比他还高半头的楼栏杆，踮起脚，看白公馆墙外的群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0" y="1197000"/>
            <a:ext cx="69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一只长着光亮的翠绿翅膀的小虫，越过栏杆，飞到走廊上来。虫子的头上，长着一块美丽的透明的薄壳，像小姑娘披上的蝉翼般的纱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对小虫子外形的描写，你感受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476360" y="213372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当他去捉第二只时，它张开翠绿的翅膀飞走了。小萝卜头两手轻轻捧着那只小虫子，唯恐伤害了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03280" y="4653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唯恐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两个字能够体现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5003640" y="5445000"/>
            <a:ext cx="20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有爱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258920" y="83664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小萝卜头打开火柴盒，把虫子放了进去。他正要关上盒子的时候，突然瞥见那只虫子，在盒子里不安地爬动。啊，它失去了自由。小萝卜头</a:t>
            </a:r>
            <a:r>
              <a:rPr b="1" lang="zh-CN" sz="36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若有所思</a:t>
            </a: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地停住了手。他把盒子重新打开，轻声说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飞吧，你飞吧！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138"/>
          <p:cNvPicPr/>
          <p:nvPr/>
        </p:nvPicPr>
        <p:blipFill>
          <a:blip r:embed="rId2"/>
          <a:stretch/>
        </p:blipFill>
        <p:spPr>
          <a:xfrm>
            <a:off x="611280" y="476280"/>
            <a:ext cx="4572000" cy="5680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183208~1"/>
          <p:cNvPicPr/>
          <p:nvPr/>
        </p:nvPicPr>
        <p:blipFill>
          <a:blip r:embed="rId3"/>
          <a:stretch/>
        </p:blipFill>
        <p:spPr>
          <a:xfrm>
            <a:off x="5183280" y="1341360"/>
            <a:ext cx="3278160" cy="36720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2563920" y="5918040"/>
            <a:ext cx="51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a00519385a"/>
          <p:cNvPicPr/>
          <p:nvPr/>
        </p:nvPicPr>
        <p:blipFill>
          <a:blip r:embed="rId1"/>
          <a:stretch/>
        </p:blipFill>
        <p:spPr>
          <a:xfrm>
            <a:off x="1332000" y="0"/>
            <a:ext cx="62658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楷体_GB2312"/>
              </a:rPr>
              <a:t>精读课文，深入感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1.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若有所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是什么意思？你认为小萝卜头想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小萝卜头为什么要把小虫放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314172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解放了，我们也坐飞机回去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763640" y="1989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想知道小萝卜头是怎样被捕入狱、机智送情报和壮烈牺牲的故事吗？自己看电影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红岩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，阅读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我的弟弟“小萝卜头”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一书，或上网了解更多小萝卜头的事迹。把小萝卜头的故事讲给爸爸妈妈或小伙伴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XIAOLU~1"/>
          <p:cNvPicPr/>
          <p:nvPr/>
        </p:nvPicPr>
        <p:blipFill>
          <a:blip r:embed="rId1"/>
          <a:stretch/>
        </p:blipFill>
        <p:spPr>
          <a:xfrm>
            <a:off x="0" y="18900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716360" y="981000"/>
            <a:ext cx="38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国民党特务在重庆歌乐山下秘密杀害了杨虎城将军、宋振中和他的父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牺牲时他年仅九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71640" y="260280"/>
            <a:ext cx="73087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为人进出的门紧锁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为狗爬出的洞敞开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个声音高叫着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爬出来吧，给你自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渴望自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但我深深地知道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人的身躯怎能从狗洞子里爬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希望有一天，地下的烈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将我连这活棺材一齐烧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应该在烈火与热血中得到永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 rot="5400000">
            <a:off x="6300360" y="2781000"/>
            <a:ext cx="2303280" cy="10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4b596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囚歌</a:t>
            </a:r>
            <a:endParaRPr b="0" lang="en-US" sz="4400" spc="1" strike="noStrike">
              <a:ln w="12600">
                <a:solidFill>
                  <a:srgbClr val="c4b596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4CF8-3C8F-4258-A369-A81ADAE3CA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9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弟弟小萝卜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我的爸爸妈妈被国民党反动派秘密逮捕了。弟弟才八个月，也被带了进去，跟着妈妈住在女牢房里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牢房一年到头不见阳光，阴暗潮湿。弟弟穿的是妈妈改小的囚衣，吃的和大人一个样，也是发霉发臭的牢饭。长期的监狱生活把弟弟折磨得面黄肌瘦。他长得脑袋大，身子小。难友们都疼爱他，叫他“小萝卜头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弟弟六岁了，爸爸向特务提出，应当让弟弟上学。特务怕弟弟把监狱的内幕泄露出去，硬是不让。经过难友们几次斗争，特务才勉强同意让“政治犯黄伯伯当弟弟的老师。每天，弟弟由特务押着去上课，学习完了，再由特务押回女牢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86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弟弟小萝卜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77336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弟弟很爱学习，也很有礼貌。每次来到黄伯伯的牢房门前，他总是先轻轻地敲几下门，得到了黄伯伯的许可才走进门去，敬个礼，说：“黄伯伯好！”黄伯伯上午教他语文和算术，下午教他俄语和图画。他每门功课都学得很好。特务在旁边监视的时候，他就用俄语跟黄伯伯说话。特务不懂俄语，只好干着急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在牢房里，要得到一张纸一支笔是很不容易的。妈妈把草纸省下来，订成本子给弟弟。弟弟九岁生日那天，黄伯伯送给他一支铅笔。这可太珍贵了，弟弟在上课的时候才用，平时就用小石头在地上练习。不管夏天多么闷热，冬天多么寒冷，他总是趴在牢房的地上写着，算着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弟弟学习很认真，也很刻苦。他懂得学习的机会来之不易。他牢牢记住妈妈的话：将来革命胜利了，还要建设新中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205092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332000" y="112536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小萝卜头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原名宋振中，他是我国最小的烈士。小萝卜头，短短的一生中，只有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个月是最自由最幸福的日子，还在吃奶时就成了囚徒。父亲宋绮云是杨虎城将军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西安事变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的主角之一）的秘书。杨虎城全家被软禁后，宋绮云和妻子徐林侠、儿子小萝卜头先后被诱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14520" y="1413000"/>
            <a:ext cx="5410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949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月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日，和妈妈徐林侠、爸爸宋绮云一起被国民党特务杀害于白公馆监狱，当时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萝卜头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宋振中才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183208~1"/>
          <p:cNvPicPr/>
          <p:nvPr/>
        </p:nvPicPr>
        <p:blipFill>
          <a:blip r:embed="rId2"/>
          <a:stretch/>
        </p:blipFill>
        <p:spPr>
          <a:xfrm>
            <a:off x="5940360" y="1413000"/>
            <a:ext cx="2890800" cy="3238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_110323155700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20093251724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2010-12-06-14-37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6:21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5:01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ec0b000000000001024120</vt:lpwstr>
  </property>
</Properties>
</file>