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wmf" ContentType="image/x-wmf"/>
  <Override PartName="/ppt/media/image11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9.png" ContentType="image/png"/>
  <Override PartName="/ppt/media/image5.gif" ContentType="image/gif"/>
  <Override PartName="/ppt/media/image14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5.png" ContentType="image/png"/>
  <Override PartName="/ppt/media/image22.gif" ContentType="image/gif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22C4-D594-4374-8B2B-02D5F7FF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639-7F70-407D-B116-C588E9FE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鼠标放到月亮上变小手时，请点击就会出现一个生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92E-5820-4393-82CF-A0A9E579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C28-60FD-4B8B-8222-F3BE274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CDC-D44A-4A63-A37B-A51C3D4F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65D-07E5-457C-8FB1-5500455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D1A-D858-4CE2-93FB-9ADAE205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913-B542-4631-9F32-2842BC2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716-9D36-4588-B8CF-1270878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768-FDEF-43F2-B18D-140C907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8A6-50C2-4BA5-AC22-0981E09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ECD-DAC9-4071-9675-0C03002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80A-9204-476D-8847-2D5E8CC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99D-C95E-472C-B662-3FCEC08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157-06E9-4449-9BD9-E4D13656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6AAD-01E4-4BD8-A74A-A2F90BD7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i.baidu.com/&#24736;&#28982;&#19968;&#26354;gabrie/album/item/6afc975066d883948c54304d.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979640" y="2276640"/>
            <a:ext cx="525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 苗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19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42920" y="8524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0a34"/>
                </a:solidFill>
                <a:latin typeface="Arial"/>
              </a:rPr>
              <a:t>湘教版一年级语文上册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4496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z_ksW345Kssjry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4B257571422"/>
          <p:cNvPicPr/>
          <p:nvPr/>
        </p:nvPicPr>
        <p:blipFill>
          <a:blip r:embed="rId2"/>
          <a:srcRect l="2763" t="0" r="0" b="0"/>
          <a:stretch/>
        </p:blipFill>
        <p:spPr>
          <a:xfrm>
            <a:off x="324000" y="981000"/>
            <a:ext cx="8856360" cy="1297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250920" y="12700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小组合作学习，提出不懂的问题，交流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_27067202"/>
          <p:cNvPicPr/>
          <p:nvPr/>
        </p:nvPicPr>
        <p:blipFill>
          <a:blip r:embed="rId3"/>
          <a:stretch/>
        </p:blipFill>
        <p:spPr>
          <a:xfrm>
            <a:off x="5292720" y="5084640"/>
            <a:ext cx="3166920" cy="1251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340000" y="2565360"/>
            <a:ext cx="396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向蓝天呼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阳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雨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快快长大</a:t>
            </a:r>
            <a:r>
              <a:rPr b="1" lang="en-US" sz="3600" spc="-1" strike="noStrike">
                <a:solidFill>
                  <a:srgbClr val="ed3bc7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z_ksW345Kssjry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0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4B257571422"/>
          <p:cNvPicPr/>
          <p:nvPr/>
        </p:nvPicPr>
        <p:blipFill>
          <a:blip r:embed="rId2"/>
          <a:srcRect l="2763" t="0" r="0" b="0"/>
          <a:stretch/>
        </p:blipFill>
        <p:spPr>
          <a:xfrm>
            <a:off x="250920" y="763560"/>
            <a:ext cx="8642160" cy="1297080"/>
          </a:xfrm>
          <a:prstGeom prst="rect">
            <a:avLst/>
          </a:prstGeom>
          <a:ln w="0">
            <a:noFill/>
          </a:ln>
        </p:spPr>
      </p:pic>
      <p:sp>
        <p:nvSpPr>
          <p:cNvPr id="170" name="WordArt 4"/>
          <p:cNvSpPr txBox="1"/>
          <p:nvPr/>
        </p:nvSpPr>
        <p:spPr>
          <a:xfrm>
            <a:off x="611280" y="981000"/>
            <a:ext cx="176220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分析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4000" y="2060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、“呼喊”指什么？</a:t>
            </a:r>
            <a:r>
              <a:rPr b="0" lang="zh-CN" sz="1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5280" y="346248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、“</a:t>
            </a:r>
            <a:r>
              <a:rPr b="1" lang="zh-CN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我要快快长大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55640" y="42339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中宋"/>
              </a:rPr>
              <a:t>小苗长在泥土里，它希望自己赶紧长大，成为茁壮的大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547640" y="2781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中宋"/>
              </a:rPr>
              <a:t>写出了小苗迫切要求长大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1258920" y="29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125892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xuexiyongpin1_0152"/>
          <p:cNvPicPr/>
          <p:nvPr/>
        </p:nvPicPr>
        <p:blipFill>
          <a:blip r:embed="rId3"/>
          <a:stretch/>
        </p:blipFill>
        <p:spPr>
          <a:xfrm>
            <a:off x="6659640" y="5084640"/>
            <a:ext cx="2246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背景3"/>
          <p:cNvPicPr/>
          <p:nvPr/>
        </p:nvPicPr>
        <p:blipFill>
          <a:blip r:embed="rId1"/>
          <a:stretch/>
        </p:blipFill>
        <p:spPr>
          <a:xfrm>
            <a:off x="152280" y="619200"/>
            <a:ext cx="8763120" cy="5857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小苗从什么地方长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它像什么？它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小苗它最需要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00a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a34"/>
                </a:solidFill>
                <a:latin typeface="Arial"/>
                <a:ea typeface="黑体"/>
              </a:rPr>
              <a:t>（土壤、阳光、雨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边框1"/>
          <p:cNvPicPr/>
          <p:nvPr/>
        </p:nvPicPr>
        <p:blipFill>
          <a:blip r:embed="rId1"/>
          <a:stretch/>
        </p:blipFill>
        <p:spPr>
          <a:xfrm>
            <a:off x="539640" y="457200"/>
            <a:ext cx="3513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183" name="Picture 4" descr="index_r5_c1"/>
            <p:cNvPicPr/>
            <p:nvPr/>
          </p:nvPicPr>
          <p:blipFill>
            <a:blip r:embed="rId2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"/>
            <p:cNvPicPr/>
            <p:nvPr/>
          </p:nvPicPr>
          <p:blipFill>
            <a:blip r:embed="rId4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7" descr="index_r3_c2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 Box 8"/>
          <p:cNvSpPr/>
          <p:nvPr/>
        </p:nvSpPr>
        <p:spPr>
          <a:xfrm>
            <a:off x="1371600" y="2286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快快长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639440" y="744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说话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1371600" y="373392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!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701720" y="539424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z_ksW345Kssj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4B257571422"/>
          <p:cNvPicPr/>
          <p:nvPr/>
        </p:nvPicPr>
        <p:blipFill>
          <a:blip r:embed="rId2"/>
          <a:srcRect l="2763" t="0" r="0" b="0"/>
          <a:stretch/>
        </p:blipFill>
        <p:spPr>
          <a:xfrm>
            <a:off x="250920" y="692280"/>
            <a:ext cx="8642160" cy="12967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611280" y="965160"/>
            <a:ext cx="23558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小收获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692360" y="24922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4360" y="198900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通过学习这首小诗，你有什么收获呢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一起交流自己的收获，写一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xxyw2bp107"/>
          <p:cNvPicPr/>
          <p:nvPr/>
        </p:nvPicPr>
        <p:blipFill>
          <a:blip r:embed="rId3"/>
          <a:stretch/>
        </p:blipFill>
        <p:spPr>
          <a:xfrm>
            <a:off x="1908000" y="3500280"/>
            <a:ext cx="43927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468360" y="270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幼圆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如果小苗没有阳光和雨露，它们将会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日历２"/>
          <p:cNvPicPr/>
          <p:nvPr/>
        </p:nvPicPr>
        <p:blipFill>
          <a:blip r:embed="rId2"/>
          <a:stretch/>
        </p:blipFill>
        <p:spPr>
          <a:xfrm>
            <a:off x="7010280" y="4944960"/>
            <a:ext cx="1702080" cy="15192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228600" y="914400"/>
            <a:ext cx="21826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想象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6F5F-AB86-4290-99BA-B947D74191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44280"/>
            <a:ext cx="9144000" cy="6813720"/>
            <a:chOff x="0" y="44280"/>
            <a:chExt cx="9144000" cy="6813720"/>
          </a:xfrm>
        </p:grpSpPr>
        <p:pic>
          <p:nvPicPr>
            <p:cNvPr id="53" name="Picture 3" descr="20050801161214387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9144000" cy="681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Group 4"/>
            <p:cNvGrpSpPr/>
            <p:nvPr/>
          </p:nvGrpSpPr>
          <p:grpSpPr>
            <a:xfrm>
              <a:off x="971640" y="2997360"/>
              <a:ext cx="7345440" cy="1225440"/>
              <a:chOff x="971640" y="2997360"/>
              <a:chExt cx="7345440" cy="12254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3419640" y="2997360"/>
                <a:ext cx="1224000" cy="1224000"/>
                <a:chOff x="3419640" y="2997360"/>
                <a:chExt cx="1224000" cy="122400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3419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 flipH="1">
                  <a:off x="3419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4032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"/>
              <p:cNvGrpSpPr/>
              <p:nvPr/>
            </p:nvGrpSpPr>
            <p:grpSpPr>
              <a:xfrm>
                <a:off x="4645080" y="2997360"/>
                <a:ext cx="1224000" cy="1224000"/>
                <a:chOff x="4645080" y="2997360"/>
                <a:chExt cx="1224000" cy="1224000"/>
              </a:xfrm>
            </p:grpSpPr>
            <p:sp>
              <p:nvSpPr>
                <p:cNvPr id="60" name="Rectangle 10"/>
                <p:cNvSpPr/>
                <p:nvPr/>
              </p:nvSpPr>
              <p:spPr>
                <a:xfrm>
                  <a:off x="4645440" y="2997360"/>
                  <a:ext cx="122364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1"/>
                <p:cNvSpPr/>
                <p:nvPr/>
              </p:nvSpPr>
              <p:spPr>
                <a:xfrm flipH="1">
                  <a:off x="4645080" y="3609360"/>
                  <a:ext cx="1223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2"/>
                <p:cNvSpPr/>
                <p:nvPr/>
              </p:nvSpPr>
              <p:spPr>
                <a:xfrm>
                  <a:off x="525744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3"/>
              <p:cNvGrpSpPr/>
              <p:nvPr/>
            </p:nvGrpSpPr>
            <p:grpSpPr>
              <a:xfrm>
                <a:off x="2195640" y="2997360"/>
                <a:ext cx="1224000" cy="1224000"/>
                <a:chOff x="2195640" y="2997360"/>
                <a:chExt cx="1224000" cy="1224000"/>
              </a:xfrm>
            </p:grpSpPr>
            <p:sp>
              <p:nvSpPr>
                <p:cNvPr id="64" name="Rectangle 14"/>
                <p:cNvSpPr/>
                <p:nvPr/>
              </p:nvSpPr>
              <p:spPr>
                <a:xfrm>
                  <a:off x="2195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5"/>
                <p:cNvSpPr/>
                <p:nvPr/>
              </p:nvSpPr>
              <p:spPr>
                <a:xfrm flipH="1">
                  <a:off x="2195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6"/>
                <p:cNvSpPr/>
                <p:nvPr/>
              </p:nvSpPr>
              <p:spPr>
                <a:xfrm>
                  <a:off x="2808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17"/>
              <p:cNvGrpSpPr/>
              <p:nvPr/>
            </p:nvGrpSpPr>
            <p:grpSpPr>
              <a:xfrm>
                <a:off x="7093080" y="2999160"/>
                <a:ext cx="1224000" cy="1223640"/>
                <a:chOff x="7093080" y="2999160"/>
                <a:chExt cx="1224000" cy="122364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7093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 flipH="1">
                  <a:off x="7093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7705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1"/>
              <p:cNvGrpSpPr/>
              <p:nvPr/>
            </p:nvGrpSpPr>
            <p:grpSpPr>
              <a:xfrm>
                <a:off x="971640" y="2999160"/>
                <a:ext cx="1224000" cy="1223640"/>
                <a:chOff x="971640" y="2999160"/>
                <a:chExt cx="1224000" cy="1223640"/>
              </a:xfrm>
            </p:grpSpPr>
            <p:sp>
              <p:nvSpPr>
                <p:cNvPr id="72" name="Rectangle 22"/>
                <p:cNvSpPr/>
                <p:nvPr/>
              </p:nvSpPr>
              <p:spPr>
                <a:xfrm>
                  <a:off x="97164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23"/>
                <p:cNvSpPr/>
                <p:nvPr/>
              </p:nvSpPr>
              <p:spPr>
                <a:xfrm flipH="1">
                  <a:off x="97164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4"/>
                <p:cNvSpPr/>
                <p:nvPr/>
              </p:nvSpPr>
              <p:spPr>
                <a:xfrm>
                  <a:off x="158400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5"/>
              <p:cNvGrpSpPr/>
              <p:nvPr/>
            </p:nvGrpSpPr>
            <p:grpSpPr>
              <a:xfrm>
                <a:off x="5869080" y="2999160"/>
                <a:ext cx="1224000" cy="1223640"/>
                <a:chOff x="5869080" y="2999160"/>
                <a:chExt cx="1224000" cy="1223640"/>
              </a:xfrm>
            </p:grpSpPr>
            <p:sp>
              <p:nvSpPr>
                <p:cNvPr id="76" name="Rectangle 26"/>
                <p:cNvSpPr/>
                <p:nvPr/>
              </p:nvSpPr>
              <p:spPr>
                <a:xfrm>
                  <a:off x="5869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7"/>
                <p:cNvSpPr/>
                <p:nvPr/>
              </p:nvSpPr>
              <p:spPr>
                <a:xfrm flipH="1">
                  <a:off x="5869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8"/>
                <p:cNvSpPr/>
                <p:nvPr/>
              </p:nvSpPr>
              <p:spPr>
                <a:xfrm>
                  <a:off x="6481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" name="Text Box 29"/>
            <p:cNvSpPr/>
            <p:nvPr/>
          </p:nvSpPr>
          <p:spPr>
            <a:xfrm>
              <a:off x="1114560" y="30686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>
              <a:off x="234000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1"/>
            <p:cNvSpPr/>
            <p:nvPr/>
          </p:nvSpPr>
          <p:spPr>
            <a:xfrm>
              <a:off x="3564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4788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3"/>
            <p:cNvSpPr/>
            <p:nvPr/>
          </p:nvSpPr>
          <p:spPr>
            <a:xfrm>
              <a:off x="6012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4"/>
            <p:cNvSpPr/>
            <p:nvPr/>
          </p:nvSpPr>
          <p:spPr>
            <a:xfrm>
              <a:off x="723744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50801161247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05092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916360" y="1287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miá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916360" y="206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916360" y="285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bà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916360" y="35910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mā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916360" y="429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yǔ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985840" y="5084640"/>
            <a:ext cx="24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ng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050920" y="200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050920" y="279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0509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05092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050920" y="508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076720" y="200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寻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076720" y="126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076720" y="2798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爸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507672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妈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005440" y="4365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5076720" y="5084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长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468360" y="404640"/>
            <a:ext cx="2448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5697aa84-e6f8-40b5-809c-54435f8528da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1752480" y="3200400"/>
            <a:ext cx="9144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32" y="2200"/>
                  <a:pt x="12263" y="5080"/>
                  <a:pt x="12263" y="10800"/>
                </a:cubicBezTo>
                <a:cubicBezTo>
                  <a:pt x="12263" y="16520"/>
                  <a:pt x="16932" y="194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99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75248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80880" y="9907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点月亮认生字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2743200"/>
            <a:ext cx="9144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32" y="2200"/>
                  <a:pt x="12263" y="5080"/>
                  <a:pt x="12263" y="10800"/>
                </a:cubicBezTo>
                <a:cubicBezTo>
                  <a:pt x="12263" y="16520"/>
                  <a:pt x="16932" y="194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572000" y="304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705720" y="1143000"/>
            <a:ext cx="9144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32" y="2200"/>
                  <a:pt x="12263" y="5080"/>
                  <a:pt x="12263" y="10800"/>
                </a:cubicBezTo>
                <a:cubicBezTo>
                  <a:pt x="12263" y="16520"/>
                  <a:pt x="16932" y="194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705720" y="1447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黑体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 rot="20079000">
            <a:off x="1239840" y="5082840"/>
            <a:ext cx="76212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cc"/>
              </a:gs>
              <a:gs pos="100000">
                <a:srgbClr val="99ccff"/>
              </a:gs>
            </a:gsLst>
            <a:lin ang="692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79000">
            <a:off x="3657600" y="4266720"/>
            <a:ext cx="762120" cy="1295640"/>
          </a:xfrm>
          <a:custGeom>
            <a:avLst/>
            <a:gdLst>
              <a:gd name="textAreaLeft" fmla="*/ 304560 w 762120"/>
              <a:gd name="textAreaRight" fmla="*/ 511560 w 762120"/>
              <a:gd name="textAreaTop" fmla="*/ 129600 h 1295640"/>
              <a:gd name="textAreaBottom" fmla="*/ 11660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50" y="2601"/>
                  <a:pt x="14500" y="5080"/>
                  <a:pt x="14500" y="10800"/>
                </a:cubicBezTo>
                <a:cubicBezTo>
                  <a:pt x="14500" y="16520"/>
                  <a:pt x="18050" y="1899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ccff">
                  <a:alpha val="80000"/>
                </a:srgbClr>
              </a:gs>
              <a:gs pos="50000">
                <a:srgbClr val="ffccff">
                  <a:alpha val="60392"/>
                </a:srgbClr>
              </a:gs>
              <a:gs pos="100000">
                <a:srgbClr val="99ccff">
                  <a:alpha val="80000"/>
                </a:srgbClr>
              </a:gs>
            </a:gsLst>
            <a:lin ang="692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581280" y="454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427800">
            <a:off x="456840" y="2057400"/>
            <a:ext cx="76212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2" y="2444"/>
                  <a:pt x="13624" y="5080"/>
                  <a:pt x="13624" y="10800"/>
                </a:cubicBezTo>
                <a:cubicBezTo>
                  <a:pt x="13624" y="16520"/>
                  <a:pt x="17612" y="1915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49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8088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5486400" y="4876920"/>
            <a:ext cx="8380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5410080" y="5105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 rot="19579200">
            <a:off x="3262320" y="186228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74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 rot="18462000">
            <a:off x="7010280" y="3352680"/>
            <a:ext cx="76176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85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3200400" y="213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7010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2" descr="8731"/>
          <p:cNvPicPr/>
          <p:nvPr/>
        </p:nvPicPr>
        <p:blipFill>
          <a:blip r:embed="rId2"/>
          <a:stretch/>
        </p:blipFill>
        <p:spPr>
          <a:xfrm>
            <a:off x="8286840" y="5181480"/>
            <a:ext cx="85716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图片6"/>
          <p:cNvPicPr/>
          <p:nvPr/>
        </p:nvPicPr>
        <p:blipFill>
          <a:blip r:embed="rId2"/>
          <a:stretch/>
        </p:blipFill>
        <p:spPr>
          <a:xfrm>
            <a:off x="-144360" y="7920"/>
            <a:ext cx="928836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4"/>
          <p:cNvGrpSpPr/>
          <p:nvPr/>
        </p:nvGrpSpPr>
        <p:grpSpPr>
          <a:xfrm>
            <a:off x="1116000" y="692280"/>
            <a:ext cx="2952720" cy="1322280"/>
            <a:chOff x="1116000" y="692280"/>
            <a:chExt cx="2952720" cy="1322280"/>
          </a:xfrm>
        </p:grpSpPr>
        <p:pic>
          <p:nvPicPr>
            <p:cNvPr id="129" name="Picture 5" descr="图片5"/>
            <p:cNvPicPr/>
            <p:nvPr/>
          </p:nvPicPr>
          <p:blipFill>
            <a:blip r:embed="rId3"/>
            <a:stretch/>
          </p:blipFill>
          <p:spPr>
            <a:xfrm>
              <a:off x="1116000" y="692280"/>
              <a:ext cx="1800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>
              <a:off x="1332000" y="981360"/>
              <a:ext cx="27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小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"/>
          <p:cNvGrpSpPr/>
          <p:nvPr/>
        </p:nvGrpSpPr>
        <p:grpSpPr>
          <a:xfrm>
            <a:off x="6084720" y="765000"/>
            <a:ext cx="3527640" cy="1322640"/>
            <a:chOff x="6084720" y="765000"/>
            <a:chExt cx="3527640" cy="1322640"/>
          </a:xfrm>
        </p:grpSpPr>
        <p:pic>
          <p:nvPicPr>
            <p:cNvPr id="132" name="Picture 8" descr="图片5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18003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"/>
            <p:cNvSpPr/>
            <p:nvPr/>
          </p:nvSpPr>
          <p:spPr>
            <a:xfrm>
              <a:off x="6199200" y="1052640"/>
              <a:ext cx="341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耳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3274920" y="1557360"/>
            <a:ext cx="3097080" cy="1322280"/>
            <a:chOff x="3274920" y="1557360"/>
            <a:chExt cx="3097080" cy="1322280"/>
          </a:xfrm>
        </p:grpSpPr>
        <p:pic>
          <p:nvPicPr>
            <p:cNvPr id="135" name="Picture 11" descr="图片5"/>
            <p:cNvPicPr/>
            <p:nvPr/>
          </p:nvPicPr>
          <p:blipFill>
            <a:blip r:embed="rId5"/>
            <a:stretch/>
          </p:blipFill>
          <p:spPr>
            <a:xfrm>
              <a:off x="3274920" y="1557360"/>
              <a:ext cx="1848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2"/>
            <p:cNvSpPr/>
            <p:nvPr/>
          </p:nvSpPr>
          <p:spPr>
            <a:xfrm>
              <a:off x="3452040" y="1800000"/>
              <a:ext cx="291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寻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3"/>
          <p:cNvGrpSpPr/>
          <p:nvPr/>
        </p:nvGrpSpPr>
        <p:grpSpPr>
          <a:xfrm>
            <a:off x="179280" y="2106720"/>
            <a:ext cx="2231640" cy="1322280"/>
            <a:chOff x="179280" y="2106720"/>
            <a:chExt cx="2231640" cy="1322280"/>
          </a:xfrm>
        </p:grpSpPr>
        <p:pic>
          <p:nvPicPr>
            <p:cNvPr id="138" name="Picture 14" descr="图片5"/>
            <p:cNvPicPr/>
            <p:nvPr/>
          </p:nvPicPr>
          <p:blipFill>
            <a:blip r:embed="rId6"/>
            <a:stretch/>
          </p:blipFill>
          <p:spPr>
            <a:xfrm>
              <a:off x="179280" y="2106720"/>
              <a:ext cx="18504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5"/>
            <p:cNvSpPr/>
            <p:nvPr/>
          </p:nvSpPr>
          <p:spPr>
            <a:xfrm>
              <a:off x="275040" y="2349360"/>
              <a:ext cx="213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阳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1763640" y="3043080"/>
            <a:ext cx="2016360" cy="1322640"/>
            <a:chOff x="1763640" y="3043080"/>
            <a:chExt cx="2016360" cy="1322640"/>
          </a:xfrm>
        </p:grpSpPr>
        <p:pic>
          <p:nvPicPr>
            <p:cNvPr id="141" name="Picture 17" descr="图片5"/>
            <p:cNvPicPr/>
            <p:nvPr/>
          </p:nvPicPr>
          <p:blipFill>
            <a:blip r:embed="rId7"/>
            <a:stretch/>
          </p:blipFill>
          <p:spPr>
            <a:xfrm>
              <a:off x="1763640" y="3043080"/>
              <a:ext cx="18003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8"/>
            <p:cNvSpPr/>
            <p:nvPr/>
          </p:nvSpPr>
          <p:spPr>
            <a:xfrm>
              <a:off x="1957320" y="3325680"/>
              <a:ext cx="182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爸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4500720" y="3043080"/>
            <a:ext cx="3095640" cy="1322640"/>
            <a:chOff x="4500720" y="3043080"/>
            <a:chExt cx="3095640" cy="1322640"/>
          </a:xfrm>
        </p:grpSpPr>
        <p:pic>
          <p:nvPicPr>
            <p:cNvPr id="144" name="Picture 20" descr="图片5"/>
            <p:cNvPicPr/>
            <p:nvPr/>
          </p:nvPicPr>
          <p:blipFill>
            <a:blip r:embed="rId8"/>
            <a:stretch/>
          </p:blipFill>
          <p:spPr>
            <a:xfrm>
              <a:off x="4500720" y="3043080"/>
              <a:ext cx="180000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1"/>
            <p:cNvSpPr/>
            <p:nvPr/>
          </p:nvSpPr>
          <p:spPr>
            <a:xfrm>
              <a:off x="4633920" y="3397320"/>
              <a:ext cx="296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妈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6372360" y="2205000"/>
            <a:ext cx="3384360" cy="1322280"/>
            <a:chOff x="6372360" y="2205000"/>
            <a:chExt cx="3384360" cy="1322280"/>
          </a:xfrm>
        </p:grpSpPr>
        <p:pic>
          <p:nvPicPr>
            <p:cNvPr id="147" name="Picture 23" descr="图片5"/>
            <p:cNvPicPr/>
            <p:nvPr/>
          </p:nvPicPr>
          <p:blipFill>
            <a:blip r:embed="rId9"/>
            <a:stretch/>
          </p:blipFill>
          <p:spPr>
            <a:xfrm>
              <a:off x="6372360" y="2205000"/>
              <a:ext cx="1800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4"/>
            <p:cNvSpPr/>
            <p:nvPr/>
          </p:nvSpPr>
          <p:spPr>
            <a:xfrm>
              <a:off x="6568920" y="2460600"/>
              <a:ext cx="3187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呼喊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0" y="765000"/>
            <a:ext cx="4514760" cy="609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99"/>
          <p:cNvPicPr/>
          <p:nvPr/>
        </p:nvPicPr>
        <p:blipFill>
          <a:blip r:embed="rId2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7"/>
          <p:cNvSpPr txBox="1"/>
          <p:nvPr/>
        </p:nvSpPr>
        <p:spPr>
          <a:xfrm>
            <a:off x="3564000" y="235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a139fbf8a19d4553034f56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60720" y="51577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睁开的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74167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u=1669224586,1329801401&amp;fm=0&amp;gp=0"/>
          <p:cNvPicPr/>
          <p:nvPr/>
        </p:nvPicPr>
        <p:blipFill>
          <a:blip r:embed="rId1"/>
          <a:stretch/>
        </p:blipFill>
        <p:spPr>
          <a:xfrm>
            <a:off x="0" y="189000"/>
            <a:ext cx="8317080" cy="666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6afc975066d883948c54304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3132000" y="5516640"/>
            <a:ext cx="30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竖起的耳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4500720" y="3340080"/>
            <a:ext cx="396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向蓝天呼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阳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雨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快快长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356000" y="2492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像张开的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0" y="2133720"/>
            <a:ext cx="4000680" cy="472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7:05:3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45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