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ADE-7F18-4457-9A89-6CF6D6AF67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07B9-BDF6-4AFD-815F-05E76DF863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CF1-99DC-4CC1-8309-512077E9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231-0B81-4A9B-95B9-0344641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E89-9980-45A0-95EF-A95C5EFA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88B-6776-4202-BB0A-2ACF27C5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627-7C7B-40F2-8063-8EC3D976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F093-8651-4559-9781-0337129D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61D4-913E-4597-B18C-80C69AF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77C0-C655-457F-B6E2-6B246A89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447F-7F2E-412B-A2C3-F635C61F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1F7-E978-498E-A0CE-31B4AC91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36AF-8A5A-4CBB-B1F8-391BC2B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0D7-1742-4826-9E4D-6AF02A6A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5A84-E2AD-4732-94B0-16A3611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3960-B0BF-44C8-A387-A44119F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97CA-C53D-42F9-9DBF-AC1E135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07A1-D6A4-4C9A-9549-C83245F8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0A5-2392-4BC3-AA06-C5C91F45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5FE-3CDA-4378-B801-4C9A0F2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AEA-3602-4A6C-B26A-43164387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795-4B29-4F9B-9A74-D46A635D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7B6-73B1-4E0D-96B4-B245E7B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ACC-0F3C-42A7-BF9D-9CBD203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A29-5947-4570-B0C0-340EAEA3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568-65B6-447F-814D-1DB533A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15A-7DCA-40B3-B871-4221CA3D1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ACB4-3A74-41C9-8DEE-A85B290C1D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C:\Documents and Settings\Administrator\&#26700;&#38754;\&#23567;&#20044;&#40486;\&#23450;&#31295;\renyiren.sw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606600" y="1413000"/>
            <a:ext cx="8001000" cy="144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楷体_GB2312"/>
              </a:rPr>
              <a:t>小乌鸦和妈妈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8172360" y="6454800"/>
            <a:ext cx="505080" cy="216000"/>
          </a:xfrm>
          <a:custGeom>
            <a:avLst/>
            <a:gdLst>
              <a:gd name="textAreaLeft" fmla="*/ 13680 w 505080"/>
              <a:gd name="textAreaRight" fmla="*/ 491400 w 505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60" h="21600">
                <a:moveTo>
                  <a:pt x="0" y="0"/>
                </a:moveTo>
                <a:lnTo>
                  <a:pt x="50460" y="0"/>
                </a:lnTo>
                <a:lnTo>
                  <a:pt x="50460" y="21600"/>
                </a:lnTo>
                <a:lnTo>
                  <a:pt x="0" y="21600"/>
                </a:lnTo>
                <a:close/>
              </a:path>
              <a:path fill="lightenLess" w="50460" h="21600">
                <a:moveTo>
                  <a:pt x="0" y="0"/>
                </a:moveTo>
                <a:lnTo>
                  <a:pt x="50460" y="0"/>
                </a:lnTo>
                <a:lnTo>
                  <a:pt x="49060" y="1400"/>
                </a:lnTo>
                <a:lnTo>
                  <a:pt x="1400" y="1400"/>
                </a:lnTo>
                <a:close/>
              </a:path>
              <a:path fill="darken" w="50460" h="21600">
                <a:moveTo>
                  <a:pt x="50460" y="0"/>
                </a:moveTo>
                <a:lnTo>
                  <a:pt x="50460" y="21600"/>
                </a:lnTo>
                <a:lnTo>
                  <a:pt x="49060" y="20200"/>
                </a:lnTo>
                <a:lnTo>
                  <a:pt x="49060" y="1400"/>
                </a:lnTo>
                <a:close/>
              </a:path>
              <a:path fill="darkenLess" w="50460" h="21600">
                <a:moveTo>
                  <a:pt x="50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60" y="20200"/>
                </a:lnTo>
                <a:close/>
              </a:path>
              <a:path fill="lighten" w="50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60" h="21600">
                <a:moveTo>
                  <a:pt x="18223" y="7301"/>
                </a:moveTo>
                <a:lnTo>
                  <a:pt x="19137" y="7301"/>
                </a:lnTo>
                <a:lnTo>
                  <a:pt x="19520" y="7667"/>
                </a:lnTo>
                <a:lnTo>
                  <a:pt x="28729" y="7667"/>
                </a:lnTo>
                <a:lnTo>
                  <a:pt x="29286" y="8224"/>
                </a:lnTo>
                <a:lnTo>
                  <a:pt x="29286" y="8772"/>
                </a:lnTo>
                <a:lnTo>
                  <a:pt x="31131" y="8772"/>
                </a:lnTo>
                <a:lnTo>
                  <a:pt x="31497" y="8224"/>
                </a:lnTo>
                <a:lnTo>
                  <a:pt x="32236" y="8224"/>
                </a:lnTo>
                <a:lnTo>
                  <a:pt x="32236" y="13376"/>
                </a:lnTo>
                <a:lnTo>
                  <a:pt x="31497" y="13376"/>
                </a:lnTo>
                <a:lnTo>
                  <a:pt x="31131" y="12828"/>
                </a:lnTo>
                <a:lnTo>
                  <a:pt x="29286" y="12828"/>
                </a:lnTo>
                <a:lnTo>
                  <a:pt x="29286" y="14107"/>
                </a:lnTo>
                <a:lnTo>
                  <a:pt x="19703" y="14107"/>
                </a:lnTo>
                <a:lnTo>
                  <a:pt x="19703" y="9877"/>
                </a:lnTo>
                <a:lnTo>
                  <a:pt x="19520" y="9877"/>
                </a:lnTo>
                <a:lnTo>
                  <a:pt x="19137" y="10243"/>
                </a:lnTo>
                <a:lnTo>
                  <a:pt x="1822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788840" y="61326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-22320"/>
            <a:ext cx="9156600" cy="6853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692360" y="1701720"/>
            <a:ext cx="1368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187280" y="5734080"/>
            <a:ext cx="1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7080" y="566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乌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752480" y="533880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66720" y="508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574720" y="42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ba12"/>
                </a:solidFill>
                <a:latin typeface="Arial"/>
              </a:rPr>
              <a:t>寒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58380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下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663800" y="2854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力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67216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口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824520" y="1486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问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396720" y="1341360"/>
            <a:ext cx="8352000" cy="5040000"/>
            <a:chOff x="396720" y="1341360"/>
            <a:chExt cx="8352000" cy="5040000"/>
          </a:xfrm>
        </p:grpSpPr>
        <p:grpSp>
          <p:nvGrpSpPr>
            <p:cNvPr id="143" name="Group 14"/>
            <p:cNvGrpSpPr/>
            <p:nvPr/>
          </p:nvGrpSpPr>
          <p:grpSpPr>
            <a:xfrm>
              <a:off x="396720" y="2061360"/>
              <a:ext cx="7272000" cy="4320000"/>
              <a:chOff x="396720" y="2061360"/>
              <a:chExt cx="7272000" cy="4320000"/>
            </a:xfrm>
          </p:grpSpPr>
          <p:grpSp>
            <p:nvGrpSpPr>
              <p:cNvPr id="144" name="Group 15"/>
              <p:cNvGrpSpPr/>
              <p:nvPr/>
            </p:nvGrpSpPr>
            <p:grpSpPr>
              <a:xfrm>
                <a:off x="396720" y="4941720"/>
                <a:ext cx="2068200" cy="1439640"/>
                <a:chOff x="396720" y="4941720"/>
                <a:chExt cx="2068200" cy="1439640"/>
              </a:xfrm>
            </p:grpSpPr>
            <p:grpSp>
              <p:nvGrpSpPr>
                <p:cNvPr id="145" name="Group 16"/>
                <p:cNvGrpSpPr/>
                <p:nvPr/>
              </p:nvGrpSpPr>
              <p:grpSpPr>
                <a:xfrm>
                  <a:off x="396720" y="5733360"/>
                  <a:ext cx="2067480" cy="648000"/>
                  <a:chOff x="396720" y="5733360"/>
                  <a:chExt cx="2067480" cy="648000"/>
                </a:xfrm>
              </p:grpSpPr>
              <p:sp>
                <p:nvSpPr>
                  <p:cNvPr id="146" name="Line 17"/>
                  <p:cNvSpPr/>
                  <p:nvPr/>
                </p:nvSpPr>
                <p:spPr>
                  <a:xfrm>
                    <a:off x="396720" y="6381000"/>
                    <a:ext cx="1002960" cy="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8"/>
                  <p:cNvSpPr/>
                  <p:nvPr/>
                </p:nvSpPr>
                <p:spPr>
                  <a:xfrm flipV="1">
                    <a:off x="1398960" y="5733360"/>
                    <a:ext cx="360" cy="6469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9"/>
                  <p:cNvSpPr/>
                  <p:nvPr/>
                </p:nvSpPr>
                <p:spPr>
                  <a:xfrm>
                    <a:off x="1398960" y="5733720"/>
                    <a:ext cx="1065240" cy="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Line 20"/>
                <p:cNvSpPr/>
                <p:nvPr/>
              </p:nvSpPr>
              <p:spPr>
                <a:xfrm flipV="1">
                  <a:off x="2464560" y="4941720"/>
                  <a:ext cx="360" cy="791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21"/>
              <p:cNvGrpSpPr/>
              <p:nvPr/>
            </p:nvGrpSpPr>
            <p:grpSpPr>
              <a:xfrm>
                <a:off x="2464920" y="3501360"/>
                <a:ext cx="2068200" cy="1439640"/>
                <a:chOff x="2464920" y="3501360"/>
                <a:chExt cx="2068200" cy="1439640"/>
              </a:xfrm>
            </p:grpSpPr>
            <p:grpSp>
              <p:nvGrpSpPr>
                <p:cNvPr id="151" name="Group 22"/>
                <p:cNvGrpSpPr/>
                <p:nvPr/>
              </p:nvGrpSpPr>
              <p:grpSpPr>
                <a:xfrm>
                  <a:off x="2464920" y="4293000"/>
                  <a:ext cx="2067480" cy="648000"/>
                  <a:chOff x="2464920" y="4293000"/>
                  <a:chExt cx="2067480" cy="648000"/>
                </a:xfrm>
              </p:grpSpPr>
              <p:sp>
                <p:nvSpPr>
                  <p:cNvPr id="152" name="Line 23"/>
                  <p:cNvSpPr/>
                  <p:nvPr/>
                </p:nvSpPr>
                <p:spPr>
                  <a:xfrm>
                    <a:off x="2464920" y="4940640"/>
                    <a:ext cx="1002960" cy="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4"/>
                  <p:cNvSpPr/>
                  <p:nvPr/>
                </p:nvSpPr>
                <p:spPr>
                  <a:xfrm flipV="1">
                    <a:off x="3467160" y="4293000"/>
                    <a:ext cx="360" cy="6469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5"/>
                  <p:cNvSpPr/>
                  <p:nvPr/>
                </p:nvSpPr>
                <p:spPr>
                  <a:xfrm>
                    <a:off x="3467160" y="4293360"/>
                    <a:ext cx="1065240" cy="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Line 26"/>
                <p:cNvSpPr/>
                <p:nvPr/>
              </p:nvSpPr>
              <p:spPr>
                <a:xfrm flipV="1">
                  <a:off x="4532760" y="3501360"/>
                  <a:ext cx="360" cy="791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27"/>
              <p:cNvGrpSpPr/>
              <p:nvPr/>
            </p:nvGrpSpPr>
            <p:grpSpPr>
              <a:xfrm>
                <a:off x="4596480" y="2061360"/>
                <a:ext cx="2068200" cy="1439640"/>
                <a:chOff x="4596480" y="2061360"/>
                <a:chExt cx="2068200" cy="1439640"/>
              </a:xfrm>
            </p:grpSpPr>
            <p:grpSp>
              <p:nvGrpSpPr>
                <p:cNvPr id="157" name="Group 28"/>
                <p:cNvGrpSpPr/>
                <p:nvPr/>
              </p:nvGrpSpPr>
              <p:grpSpPr>
                <a:xfrm>
                  <a:off x="4596480" y="2853000"/>
                  <a:ext cx="2067480" cy="648000"/>
                  <a:chOff x="4596480" y="2853000"/>
                  <a:chExt cx="2067480" cy="648000"/>
                </a:xfrm>
              </p:grpSpPr>
              <p:sp>
                <p:nvSpPr>
                  <p:cNvPr id="158" name="Line 29"/>
                  <p:cNvSpPr/>
                  <p:nvPr/>
                </p:nvSpPr>
                <p:spPr>
                  <a:xfrm>
                    <a:off x="4596480" y="3500640"/>
                    <a:ext cx="1002960" cy="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30"/>
                  <p:cNvSpPr/>
                  <p:nvPr/>
                </p:nvSpPr>
                <p:spPr>
                  <a:xfrm flipV="1">
                    <a:off x="5598720" y="2853000"/>
                    <a:ext cx="360" cy="6469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1"/>
                  <p:cNvSpPr/>
                  <p:nvPr/>
                </p:nvSpPr>
                <p:spPr>
                  <a:xfrm>
                    <a:off x="5598720" y="2853360"/>
                    <a:ext cx="1065240" cy="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32"/>
                <p:cNvSpPr/>
                <p:nvPr/>
              </p:nvSpPr>
              <p:spPr>
                <a:xfrm flipV="1">
                  <a:off x="6664320" y="2061360"/>
                  <a:ext cx="360" cy="791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Line 33"/>
              <p:cNvSpPr/>
              <p:nvPr/>
            </p:nvSpPr>
            <p:spPr>
              <a:xfrm>
                <a:off x="6665400" y="2061360"/>
                <a:ext cx="10033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34"/>
            <p:cNvSpPr/>
            <p:nvPr/>
          </p:nvSpPr>
          <p:spPr>
            <a:xfrm flipV="1">
              <a:off x="7668720" y="1341360"/>
              <a:ext cx="720" cy="719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>
              <a:off x="7668720" y="1341360"/>
              <a:ext cx="1080000" cy="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6"/>
          <p:cNvGrpSpPr/>
          <p:nvPr/>
        </p:nvGrpSpPr>
        <p:grpSpPr>
          <a:xfrm>
            <a:off x="7956720" y="549000"/>
            <a:ext cx="577800" cy="792360"/>
            <a:chOff x="7956720" y="549000"/>
            <a:chExt cx="577800" cy="792360"/>
          </a:xfrm>
        </p:grpSpPr>
        <p:sp>
          <p:nvSpPr>
            <p:cNvPr id="166" name="Line 37"/>
            <p:cNvSpPr/>
            <p:nvPr/>
          </p:nvSpPr>
          <p:spPr>
            <a:xfrm>
              <a:off x="7956720" y="549360"/>
              <a:ext cx="1800" cy="792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8"/>
            <p:cNvSpPr/>
            <p:nvPr/>
          </p:nvSpPr>
          <p:spPr>
            <a:xfrm flipV="1">
              <a:off x="7957080" y="548640"/>
              <a:ext cx="577440" cy="4316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39"/>
          <p:cNvSpPr/>
          <p:nvPr/>
        </p:nvSpPr>
        <p:spPr>
          <a:xfrm>
            <a:off x="682560" y="549360"/>
            <a:ext cx="219708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夺红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0"/>
          <p:cNvSpPr/>
          <p:nvPr/>
        </p:nvSpPr>
        <p:spPr>
          <a:xfrm>
            <a:off x="324000" y="5661000"/>
            <a:ext cx="1079280" cy="627120"/>
          </a:xfrm>
          <a:prstGeom prst="ellips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1"/>
          <p:cNvSpPr/>
          <p:nvPr/>
        </p:nvSpPr>
        <p:spPr>
          <a:xfrm>
            <a:off x="1332000" y="5086440"/>
            <a:ext cx="1079280" cy="6253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2"/>
          <p:cNvSpPr/>
          <p:nvPr/>
        </p:nvSpPr>
        <p:spPr>
          <a:xfrm>
            <a:off x="2340000" y="4221000"/>
            <a:ext cx="1079640" cy="627120"/>
          </a:xfrm>
          <a:prstGeom prst="ellips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3348000" y="3573360"/>
            <a:ext cx="1079640" cy="627120"/>
          </a:xfrm>
          <a:prstGeom prst="ellipse">
            <a:avLst/>
          </a:pr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4"/>
          <p:cNvSpPr/>
          <p:nvPr/>
        </p:nvSpPr>
        <p:spPr>
          <a:xfrm>
            <a:off x="4572000" y="2854440"/>
            <a:ext cx="1079640" cy="625320"/>
          </a:xfrm>
          <a:prstGeom prst="ellips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5"/>
          <p:cNvSpPr/>
          <p:nvPr/>
        </p:nvSpPr>
        <p:spPr>
          <a:xfrm>
            <a:off x="5435640" y="2205000"/>
            <a:ext cx="1079640" cy="62712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6588000" y="1486080"/>
            <a:ext cx="1079640" cy="625320"/>
          </a:xfrm>
          <a:prstGeom prst="ellips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2340000" y="6199200"/>
            <a:ext cx="54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"/>
                            </p:stCondLst>
                            <p:childTnLst>
                              <p:par>
                                <p:cTn id="102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"/>
                            </p:stCondLst>
                            <p:childTnLst>
                              <p:par>
                                <p:cTn id="109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"/>
                            </p:stCondLst>
                            <p:childTnLst>
                              <p:par>
                                <p:cTn id="130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2388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3"/>
          <p:cNvGrpSpPr/>
          <p:nvPr/>
        </p:nvGrpSpPr>
        <p:grpSpPr>
          <a:xfrm>
            <a:off x="4429080" y="2205000"/>
            <a:ext cx="1079640" cy="2950920"/>
            <a:chOff x="4429080" y="2205000"/>
            <a:chExt cx="1079640" cy="2950920"/>
          </a:xfrm>
        </p:grpSpPr>
        <p:grpSp>
          <p:nvGrpSpPr>
            <p:cNvPr id="179" name="Group 4"/>
            <p:cNvGrpSpPr/>
            <p:nvPr/>
          </p:nvGrpSpPr>
          <p:grpSpPr>
            <a:xfrm>
              <a:off x="4429080" y="2205000"/>
              <a:ext cx="1079640" cy="2950920"/>
              <a:chOff x="4429080" y="2205000"/>
              <a:chExt cx="1079640" cy="2950920"/>
            </a:xfrm>
          </p:grpSpPr>
          <p:sp>
            <p:nvSpPr>
              <p:cNvPr id="180" name="Oval 5"/>
              <p:cNvSpPr/>
              <p:nvPr/>
            </p:nvSpPr>
            <p:spPr>
              <a:xfrm>
                <a:off x="4429080" y="2205000"/>
                <a:ext cx="1079640" cy="1263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17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6"/>
              <p:cNvSpPr/>
              <p:nvPr/>
            </p:nvSpPr>
            <p:spPr>
              <a:xfrm>
                <a:off x="4939920" y="3468960"/>
                <a:ext cx="0" cy="168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7"/>
            <p:cNvSpPr/>
            <p:nvPr/>
          </p:nvSpPr>
          <p:spPr>
            <a:xfrm>
              <a:off x="4494960" y="2432520"/>
              <a:ext cx="86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"/>
          <p:cNvGrpSpPr/>
          <p:nvPr/>
        </p:nvGrpSpPr>
        <p:grpSpPr>
          <a:xfrm>
            <a:off x="5580000" y="1844640"/>
            <a:ext cx="1224000" cy="3168360"/>
            <a:chOff x="5580000" y="1844640"/>
            <a:chExt cx="1224000" cy="3168360"/>
          </a:xfrm>
        </p:grpSpPr>
        <p:grpSp>
          <p:nvGrpSpPr>
            <p:cNvPr id="184" name="Group 9"/>
            <p:cNvGrpSpPr/>
            <p:nvPr/>
          </p:nvGrpSpPr>
          <p:grpSpPr>
            <a:xfrm>
              <a:off x="5580000" y="1844640"/>
              <a:ext cx="1224000" cy="3168360"/>
              <a:chOff x="5580000" y="1844640"/>
              <a:chExt cx="1224000" cy="3168360"/>
            </a:xfrm>
          </p:grpSpPr>
          <p:sp>
            <p:nvSpPr>
              <p:cNvPr id="185" name="Oval 10"/>
              <p:cNvSpPr/>
              <p:nvPr/>
            </p:nvSpPr>
            <p:spPr>
              <a:xfrm>
                <a:off x="5580000" y="1844640"/>
                <a:ext cx="1224000" cy="1356840"/>
              </a:xfrm>
              <a:prstGeom prst="ellipse">
                <a:avLst/>
              </a:prstGeom>
              <a:gradFill rotWithShape="0">
                <a:gsLst>
                  <a:gs pos="0">
                    <a:srgbClr val="799206"/>
                  </a:gs>
                  <a:gs pos="50000">
                    <a:srgbClr val="ffffff"/>
                  </a:gs>
                  <a:gs pos="100000">
                    <a:srgbClr val="79920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1"/>
              <p:cNvSpPr/>
              <p:nvPr/>
            </p:nvSpPr>
            <p:spPr>
              <a:xfrm>
                <a:off x="6159240" y="3201480"/>
                <a:ext cx="0" cy="1811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2"/>
            <p:cNvSpPr/>
            <p:nvPr/>
          </p:nvSpPr>
          <p:spPr>
            <a:xfrm>
              <a:off x="5871240" y="2196720"/>
              <a:ext cx="7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1332000" y="2205000"/>
            <a:ext cx="1082520" cy="2877840"/>
            <a:chOff x="1332000" y="2205000"/>
            <a:chExt cx="1082520" cy="2877840"/>
          </a:xfrm>
        </p:grpSpPr>
        <p:sp>
          <p:nvSpPr>
            <p:cNvPr id="189" name="Oval 14"/>
            <p:cNvSpPr/>
            <p:nvPr/>
          </p:nvSpPr>
          <p:spPr>
            <a:xfrm>
              <a:off x="1332000" y="2205000"/>
              <a:ext cx="1082520" cy="123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59760" y="3437640"/>
              <a:ext cx="0" cy="16452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6"/>
          <p:cNvGrpSpPr/>
          <p:nvPr/>
        </p:nvGrpSpPr>
        <p:grpSpPr>
          <a:xfrm>
            <a:off x="7885080" y="2060640"/>
            <a:ext cx="1116000" cy="3025440"/>
            <a:chOff x="7885080" y="2060640"/>
            <a:chExt cx="1116000" cy="3025440"/>
          </a:xfrm>
        </p:grpSpPr>
        <p:sp>
          <p:nvSpPr>
            <p:cNvPr id="192" name="Oval 17"/>
            <p:cNvSpPr/>
            <p:nvPr/>
          </p:nvSpPr>
          <p:spPr>
            <a:xfrm>
              <a:off x="7885080" y="2060640"/>
              <a:ext cx="111600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8427600" y="3356280"/>
              <a:ext cx="0" cy="17298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9"/>
          <p:cNvGrpSpPr/>
          <p:nvPr/>
        </p:nvGrpSpPr>
        <p:grpSpPr>
          <a:xfrm>
            <a:off x="6372360" y="3357720"/>
            <a:ext cx="1082520" cy="3742920"/>
            <a:chOff x="6372360" y="3357720"/>
            <a:chExt cx="1082520" cy="3742920"/>
          </a:xfrm>
        </p:grpSpPr>
        <p:sp>
          <p:nvSpPr>
            <p:cNvPr id="195" name="Oval 20"/>
            <p:cNvSpPr/>
            <p:nvPr/>
          </p:nvSpPr>
          <p:spPr>
            <a:xfrm>
              <a:off x="6372360" y="3357720"/>
              <a:ext cx="1082520" cy="132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6898680" y="4677840"/>
              <a:ext cx="0" cy="24228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2"/>
          <p:cNvGrpSpPr/>
          <p:nvPr/>
        </p:nvGrpSpPr>
        <p:grpSpPr>
          <a:xfrm>
            <a:off x="7380360" y="3933720"/>
            <a:ext cx="1042920" cy="3025440"/>
            <a:chOff x="7380360" y="3933720"/>
            <a:chExt cx="1042920" cy="3025440"/>
          </a:xfrm>
        </p:grpSpPr>
        <p:grpSp>
          <p:nvGrpSpPr>
            <p:cNvPr id="198" name="Group 23"/>
            <p:cNvGrpSpPr/>
            <p:nvPr/>
          </p:nvGrpSpPr>
          <p:grpSpPr>
            <a:xfrm>
              <a:off x="7380360" y="3933720"/>
              <a:ext cx="1042920" cy="3025440"/>
              <a:chOff x="7380360" y="3933720"/>
              <a:chExt cx="1042920" cy="3025440"/>
            </a:xfrm>
          </p:grpSpPr>
          <p:sp>
            <p:nvSpPr>
              <p:cNvPr id="199" name="Oval 24"/>
              <p:cNvSpPr/>
              <p:nvPr/>
            </p:nvSpPr>
            <p:spPr>
              <a:xfrm>
                <a:off x="7380360" y="3933720"/>
                <a:ext cx="1042920" cy="129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5"/>
              <p:cNvSpPr/>
              <p:nvPr/>
            </p:nvSpPr>
            <p:spPr>
              <a:xfrm>
                <a:off x="7887240" y="5229360"/>
                <a:ext cx="0" cy="1729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26"/>
            <p:cNvSpPr/>
            <p:nvPr/>
          </p:nvSpPr>
          <p:spPr>
            <a:xfrm>
              <a:off x="7661160" y="42213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7"/>
          <p:cNvGrpSpPr/>
          <p:nvPr/>
        </p:nvGrpSpPr>
        <p:grpSpPr>
          <a:xfrm>
            <a:off x="2052720" y="3502080"/>
            <a:ext cx="1295280" cy="3383640"/>
            <a:chOff x="2052720" y="3502080"/>
            <a:chExt cx="1295280" cy="3383640"/>
          </a:xfrm>
        </p:grpSpPr>
        <p:grpSp>
          <p:nvGrpSpPr>
            <p:cNvPr id="203" name="Group 28"/>
            <p:cNvGrpSpPr/>
            <p:nvPr/>
          </p:nvGrpSpPr>
          <p:grpSpPr>
            <a:xfrm>
              <a:off x="2052720" y="3502080"/>
              <a:ext cx="1051920" cy="3383640"/>
              <a:chOff x="2052720" y="3502080"/>
              <a:chExt cx="1051920" cy="3383640"/>
            </a:xfrm>
          </p:grpSpPr>
          <p:sp>
            <p:nvSpPr>
              <p:cNvPr id="204" name="Oval 29"/>
              <p:cNvSpPr/>
              <p:nvPr/>
            </p:nvSpPr>
            <p:spPr>
              <a:xfrm>
                <a:off x="2052720" y="3502080"/>
                <a:ext cx="1051920" cy="144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0"/>
              <p:cNvSpPr/>
              <p:nvPr/>
            </p:nvSpPr>
            <p:spPr>
              <a:xfrm>
                <a:off x="2563920" y="4952520"/>
                <a:ext cx="0" cy="1933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31"/>
            <p:cNvSpPr/>
            <p:nvPr/>
          </p:nvSpPr>
          <p:spPr>
            <a:xfrm>
              <a:off x="2134080" y="3803400"/>
              <a:ext cx="121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雪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2"/>
          <p:cNvGrpSpPr/>
          <p:nvPr/>
        </p:nvGrpSpPr>
        <p:grpSpPr>
          <a:xfrm>
            <a:off x="108000" y="1773360"/>
            <a:ext cx="934920" cy="3453840"/>
            <a:chOff x="108000" y="1773360"/>
            <a:chExt cx="934920" cy="3453840"/>
          </a:xfrm>
        </p:grpSpPr>
        <p:grpSp>
          <p:nvGrpSpPr>
            <p:cNvPr id="208" name="Group 33"/>
            <p:cNvGrpSpPr/>
            <p:nvPr/>
          </p:nvGrpSpPr>
          <p:grpSpPr>
            <a:xfrm>
              <a:off x="108000" y="1773360"/>
              <a:ext cx="934920" cy="3453840"/>
              <a:chOff x="108000" y="1773360"/>
              <a:chExt cx="934920" cy="3453840"/>
            </a:xfrm>
          </p:grpSpPr>
          <p:sp>
            <p:nvSpPr>
              <p:cNvPr id="209" name="Oval 34"/>
              <p:cNvSpPr/>
              <p:nvPr/>
            </p:nvSpPr>
            <p:spPr>
              <a:xfrm>
                <a:off x="108000" y="1773360"/>
                <a:ext cx="934920" cy="147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5"/>
              <p:cNvSpPr/>
              <p:nvPr/>
            </p:nvSpPr>
            <p:spPr>
              <a:xfrm>
                <a:off x="588240" y="3252600"/>
                <a:ext cx="0" cy="1974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36"/>
            <p:cNvSpPr/>
            <p:nvPr/>
          </p:nvSpPr>
          <p:spPr>
            <a:xfrm>
              <a:off x="323640" y="2132640"/>
              <a:ext cx="572400" cy="76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7"/>
          <p:cNvGrpSpPr/>
          <p:nvPr/>
        </p:nvGrpSpPr>
        <p:grpSpPr>
          <a:xfrm>
            <a:off x="3564000" y="3502080"/>
            <a:ext cx="1441080" cy="2661840"/>
            <a:chOff x="3564000" y="3502080"/>
            <a:chExt cx="1441080" cy="2661840"/>
          </a:xfrm>
        </p:grpSpPr>
        <p:grpSp>
          <p:nvGrpSpPr>
            <p:cNvPr id="213" name="Group 38"/>
            <p:cNvGrpSpPr/>
            <p:nvPr/>
          </p:nvGrpSpPr>
          <p:grpSpPr>
            <a:xfrm>
              <a:off x="3564000" y="3502080"/>
              <a:ext cx="1053720" cy="2661840"/>
              <a:chOff x="3564000" y="3502080"/>
              <a:chExt cx="1053720" cy="2661840"/>
            </a:xfrm>
          </p:grpSpPr>
          <p:sp>
            <p:nvSpPr>
              <p:cNvPr id="214" name="Oval 39"/>
              <p:cNvSpPr/>
              <p:nvPr/>
            </p:nvSpPr>
            <p:spPr>
              <a:xfrm>
                <a:off x="3564000" y="3502080"/>
                <a:ext cx="1053720" cy="145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0"/>
              <p:cNvSpPr/>
              <p:nvPr/>
            </p:nvSpPr>
            <p:spPr>
              <a:xfrm>
                <a:off x="4133880" y="4952880"/>
                <a:ext cx="0" cy="1211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41"/>
            <p:cNvSpPr/>
            <p:nvPr/>
          </p:nvSpPr>
          <p:spPr>
            <a:xfrm>
              <a:off x="3785760" y="381492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42"/>
          <p:cNvGrpSpPr/>
          <p:nvPr/>
        </p:nvGrpSpPr>
        <p:grpSpPr>
          <a:xfrm>
            <a:off x="612720" y="3213000"/>
            <a:ext cx="1152720" cy="3239640"/>
            <a:chOff x="612720" y="3213000"/>
            <a:chExt cx="1152720" cy="3239640"/>
          </a:xfrm>
        </p:grpSpPr>
        <p:grpSp>
          <p:nvGrpSpPr>
            <p:cNvPr id="218" name="Group 43"/>
            <p:cNvGrpSpPr/>
            <p:nvPr/>
          </p:nvGrpSpPr>
          <p:grpSpPr>
            <a:xfrm>
              <a:off x="612720" y="3213000"/>
              <a:ext cx="1152720" cy="3239640"/>
              <a:chOff x="612720" y="3213000"/>
              <a:chExt cx="1152720" cy="3239640"/>
            </a:xfrm>
          </p:grpSpPr>
          <p:sp>
            <p:nvSpPr>
              <p:cNvPr id="219" name="Oval 44"/>
              <p:cNvSpPr/>
              <p:nvPr/>
            </p:nvSpPr>
            <p:spPr>
              <a:xfrm>
                <a:off x="612720" y="3213000"/>
                <a:ext cx="1152720" cy="138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5"/>
              <p:cNvSpPr/>
              <p:nvPr/>
            </p:nvSpPr>
            <p:spPr>
              <a:xfrm>
                <a:off x="1158120" y="4600440"/>
                <a:ext cx="0" cy="1852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46"/>
            <p:cNvSpPr/>
            <p:nvPr/>
          </p:nvSpPr>
          <p:spPr>
            <a:xfrm>
              <a:off x="756720" y="335700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47"/>
          <p:cNvGrpSpPr/>
          <p:nvPr/>
        </p:nvGrpSpPr>
        <p:grpSpPr>
          <a:xfrm>
            <a:off x="2916360" y="2133720"/>
            <a:ext cx="1152360" cy="2952360"/>
            <a:chOff x="2916360" y="2133720"/>
            <a:chExt cx="1152360" cy="2952360"/>
          </a:xfrm>
        </p:grpSpPr>
        <p:grpSp>
          <p:nvGrpSpPr>
            <p:cNvPr id="223" name="Group 48"/>
            <p:cNvGrpSpPr/>
            <p:nvPr/>
          </p:nvGrpSpPr>
          <p:grpSpPr>
            <a:xfrm>
              <a:off x="2916360" y="2133720"/>
              <a:ext cx="1152360" cy="2952360"/>
              <a:chOff x="2916360" y="2133720"/>
              <a:chExt cx="1152360" cy="2952360"/>
            </a:xfrm>
          </p:grpSpPr>
          <p:sp>
            <p:nvSpPr>
              <p:cNvPr id="224" name="Oval 49"/>
              <p:cNvSpPr/>
              <p:nvPr/>
            </p:nvSpPr>
            <p:spPr>
              <a:xfrm>
                <a:off x="2916360" y="2133720"/>
                <a:ext cx="115236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50"/>
              <p:cNvSpPr/>
              <p:nvPr/>
            </p:nvSpPr>
            <p:spPr>
              <a:xfrm>
                <a:off x="3461760" y="3398040"/>
                <a:ext cx="0" cy="1688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51"/>
            <p:cNvSpPr/>
            <p:nvPr/>
          </p:nvSpPr>
          <p:spPr>
            <a:xfrm>
              <a:off x="3045960" y="2493360"/>
              <a:ext cx="86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52"/>
          <p:cNvGrpSpPr/>
          <p:nvPr/>
        </p:nvGrpSpPr>
        <p:grpSpPr>
          <a:xfrm>
            <a:off x="5076720" y="3573360"/>
            <a:ext cx="1110600" cy="3095280"/>
            <a:chOff x="5076720" y="3573360"/>
            <a:chExt cx="1110600" cy="3095280"/>
          </a:xfrm>
        </p:grpSpPr>
        <p:grpSp>
          <p:nvGrpSpPr>
            <p:cNvPr id="228" name="Group 53"/>
            <p:cNvGrpSpPr/>
            <p:nvPr/>
          </p:nvGrpSpPr>
          <p:grpSpPr>
            <a:xfrm>
              <a:off x="5076720" y="3573360"/>
              <a:ext cx="1110600" cy="3095280"/>
              <a:chOff x="5076720" y="3573360"/>
              <a:chExt cx="1110600" cy="3095280"/>
            </a:xfrm>
          </p:grpSpPr>
          <p:sp>
            <p:nvSpPr>
              <p:cNvPr id="229" name="Oval 54"/>
              <p:cNvSpPr/>
              <p:nvPr/>
            </p:nvSpPr>
            <p:spPr>
              <a:xfrm>
                <a:off x="5076720" y="3573360"/>
                <a:ext cx="1110600" cy="13255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5"/>
              <p:cNvSpPr/>
              <p:nvPr/>
            </p:nvSpPr>
            <p:spPr>
              <a:xfrm>
                <a:off x="5602320" y="4898880"/>
                <a:ext cx="0" cy="1769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56"/>
            <p:cNvSpPr/>
            <p:nvPr/>
          </p:nvSpPr>
          <p:spPr>
            <a:xfrm>
              <a:off x="5221440" y="3815640"/>
              <a:ext cx="86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57"/>
          <p:cNvSpPr/>
          <p:nvPr/>
        </p:nvSpPr>
        <p:spPr>
          <a:xfrm>
            <a:off x="1312200" y="404640"/>
            <a:ext cx="1415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放气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3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395280" y="4530600"/>
            <a:ext cx="2049480" cy="194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4716360" y="3718080"/>
            <a:ext cx="2543400" cy="266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6192720" y="374760"/>
            <a:ext cx="2494080" cy="287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5"/>
          <a:stretch/>
        </p:blipFill>
        <p:spPr>
          <a:xfrm>
            <a:off x="3279600" y="2502000"/>
            <a:ext cx="2103480" cy="2089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1384560" y="477720"/>
            <a:ext cx="141516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摘星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881080" y="523872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小乌鸦爱妈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2737080" y="1495440"/>
            <a:ext cx="155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爸爸的力气真大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093480" y="2430360"/>
            <a:ext cx="149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自己的事情自己做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270320" y="3367080"/>
            <a:ext cx="13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寒冷的冬天来了，要下雪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2977200" y="4303800"/>
            <a:ext cx="305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我问妈妈：“您口渴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"/>
          <p:cNvPicPr/>
          <p:nvPr/>
        </p:nvPicPr>
        <p:blipFill>
          <a:blip r:embed="rId6"/>
          <a:stretch/>
        </p:blipFill>
        <p:spPr>
          <a:xfrm>
            <a:off x="3132000" y="11736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4"/>
          <p:cNvSpPr/>
          <p:nvPr/>
        </p:nvSpPr>
        <p:spPr>
          <a:xfrm>
            <a:off x="5940360" y="623736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7301"/>
                </a:moveTo>
                <a:lnTo>
                  <a:pt x="12723" y="7301"/>
                </a:lnTo>
                <a:lnTo>
                  <a:pt x="13106" y="7667"/>
                </a:lnTo>
                <a:lnTo>
                  <a:pt x="22315" y="7667"/>
                </a:lnTo>
                <a:lnTo>
                  <a:pt x="22872" y="8224"/>
                </a:lnTo>
                <a:lnTo>
                  <a:pt x="22872" y="8772"/>
                </a:lnTo>
                <a:lnTo>
                  <a:pt x="24717" y="8772"/>
                </a:lnTo>
                <a:lnTo>
                  <a:pt x="25083" y="8224"/>
                </a:lnTo>
                <a:lnTo>
                  <a:pt x="25822" y="8224"/>
                </a:lnTo>
                <a:lnTo>
                  <a:pt x="25822" y="13376"/>
                </a:lnTo>
                <a:lnTo>
                  <a:pt x="25083" y="13376"/>
                </a:lnTo>
                <a:lnTo>
                  <a:pt x="24717" y="12828"/>
                </a:lnTo>
                <a:lnTo>
                  <a:pt x="22872" y="12828"/>
                </a:lnTo>
                <a:lnTo>
                  <a:pt x="22872" y="14107"/>
                </a:lnTo>
                <a:lnTo>
                  <a:pt x="13289" y="14107"/>
                </a:lnTo>
                <a:lnTo>
                  <a:pt x="13289" y="9877"/>
                </a:lnTo>
                <a:lnTo>
                  <a:pt x="13106" y="9877"/>
                </a:lnTo>
                <a:lnTo>
                  <a:pt x="12723" y="10243"/>
                </a:lnTo>
                <a:lnTo>
                  <a:pt x="1180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献爱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84360" y="1341360"/>
            <a:ext cx="7704000" cy="2879640"/>
          </a:xfrm>
          <a:prstGeom prst="cloudCallout">
            <a:avLst>
              <a:gd name="adj1" fmla="val -46046"/>
              <a:gd name="adj2" fmla="val 6062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063960" y="170172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同学之间交流一下你曾经做过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些让爸爸妈妈高兴的事，商量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下用哪些实际行动向爸爸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献上一份爱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252360" y="4726080"/>
            <a:ext cx="18842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F45D-9908-4A04-B95D-7F1AF73B05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602160" cy="237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384360" cy="244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1476360" y="27097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156360" y="2781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鹦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542880" y="3502080"/>
            <a:ext cx="3527640" cy="244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044720" y="602136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5219640" y="3573360"/>
            <a:ext cx="333396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5724360" y="5950080"/>
            <a:ext cx="20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乌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0240" y="-20520"/>
            <a:ext cx="9186840" cy="687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12720" y="765000"/>
            <a:ext cx="763272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借助拼音自读课文，做到读通顺，读流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、用你喜欢的方式勾画出小乌鸦说的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16720" y="522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>
            <a:hlinkClick r:id="rId2"/>
          </p:cNvPr>
          <p:cNvSpPr/>
          <p:nvPr/>
        </p:nvSpPr>
        <p:spPr>
          <a:xfrm>
            <a:off x="6300720" y="6237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7301"/>
                </a:moveTo>
                <a:lnTo>
                  <a:pt x="11913" y="7301"/>
                </a:lnTo>
                <a:lnTo>
                  <a:pt x="12296" y="7667"/>
                </a:lnTo>
                <a:lnTo>
                  <a:pt x="21505" y="7667"/>
                </a:lnTo>
                <a:lnTo>
                  <a:pt x="22062" y="8224"/>
                </a:lnTo>
                <a:lnTo>
                  <a:pt x="22062" y="8772"/>
                </a:lnTo>
                <a:lnTo>
                  <a:pt x="23907" y="8772"/>
                </a:lnTo>
                <a:lnTo>
                  <a:pt x="24273" y="8224"/>
                </a:lnTo>
                <a:lnTo>
                  <a:pt x="25012" y="8224"/>
                </a:lnTo>
                <a:lnTo>
                  <a:pt x="25012" y="13376"/>
                </a:lnTo>
                <a:lnTo>
                  <a:pt x="24273" y="13376"/>
                </a:lnTo>
                <a:lnTo>
                  <a:pt x="23907" y="12828"/>
                </a:lnTo>
                <a:lnTo>
                  <a:pt x="22062" y="12828"/>
                </a:lnTo>
                <a:lnTo>
                  <a:pt x="22062" y="14107"/>
                </a:lnTo>
                <a:lnTo>
                  <a:pt x="12479" y="14107"/>
                </a:lnTo>
                <a:lnTo>
                  <a:pt x="12479" y="9877"/>
                </a:lnTo>
                <a:lnTo>
                  <a:pt x="12296" y="9877"/>
                </a:lnTo>
                <a:lnTo>
                  <a:pt x="11913" y="10243"/>
                </a:lnTo>
                <a:lnTo>
                  <a:pt x="1100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9640" y="3933720"/>
            <a:ext cx="820908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妈妈，您饿了吧？ 老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妈妈，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了吧？ 老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妈妈，您冷了吧？ 老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43440" y="3860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6160" y="378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07440" y="4797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707440" y="56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243440" y="4726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243440" y="56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692360" y="465444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692360" y="638172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1835280" y="5518080"/>
            <a:ext cx="3889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dur="indefinite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9"/>
          <p:cNvSpPr/>
          <p:nvPr/>
        </p:nvSpPr>
        <p:spPr>
          <a:xfrm>
            <a:off x="3203640" y="330984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476360" y="11016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41320" y="43545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07040" y="1341360"/>
            <a:ext cx="54838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森林里有个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乌鸦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妈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她年纪大了，已经没有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力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行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55640" y="2925720"/>
            <a:ext cx="7345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天快要下雪了，乌鸦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妈身上盖着几片落叶，静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卧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己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的巢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-25560"/>
            <a:ext cx="9132840" cy="6839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42920" y="1270080"/>
            <a:ext cx="67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这时，她的儿女们叫着，朝家里飞来。小乌鸦们带来了食物和遮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寒冷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的枝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-3240"/>
            <a:ext cx="919332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12360" y="3141720"/>
            <a:ext cx="111348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115360" y="1557360"/>
            <a:ext cx="5016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他们把树枝铺得又松软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厚实，然后围着妈妈，嘴对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地把食物喂到妈妈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口中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13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55640" y="1341360"/>
            <a:ext cx="755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下雪了，洁白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雪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飘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洒洒地落下来，小乌鸦们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在妈妈身旁，他们觉得温暖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66560" y="333360"/>
            <a:ext cx="82090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资料 ：</a:t>
            </a:r>
            <a:r>
              <a:rPr b="1" lang="zh-CN" sz="35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500" spc="-1" strike="noStrike">
                <a:solidFill>
                  <a:srgbClr val="cc00cc"/>
                </a:solidFill>
                <a:latin typeface="Arial"/>
              </a:rPr>
              <a:t>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91103"/>
                </a:solidFill>
                <a:latin typeface="Arial"/>
              </a:rPr>
              <a:t>乌鸦反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在传说中，乌鸦反哺的故事是最让人感动的一个故事，乌鸦——是一种通体漆黑、面貌丑陋的小鸟。据说这种鸟在母亲的哺育下长大后，当母亲年老体衰，不能觅食或者双目失明飞不动的时候，它的子女就四处去寻找可口的食物，衔回来嘴对嘴地喂到母亲的口中，回报母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的养育之恩，并且从不感到厌烦，一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到老乌鸦临终，再也吃不下东西为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这就是人们常说的“乌鸦反哺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20:48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17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