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8F2E-9782-4BEB-88E4-9D778146AF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08EC-D3A7-4331-A31E-07B67C3ACD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2D8-9D6E-4A13-A649-3F4A7314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58D-710C-44B5-B62A-DC041010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D20-8E79-4C89-8D7C-5B9E05A6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448-DBC7-40E8-A8F9-9B34F965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FF4-AE54-4067-9628-97F6A382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88C-DD13-4E6F-8E22-BA5D06EC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64C-3736-4D70-AAEB-CD31FEA2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EF2-FBCD-46DF-B095-A242E3BE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2B7-615F-496F-8B8C-79EA9554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2B7-0C28-4DB4-AF67-DCEACA6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79A-F06E-4A22-8A16-E0B2CCA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7CB-4EDC-4B48-B114-ABF3AE7C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7B45-3465-4C73-88A4-EADF98B0DE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838960" y="853920"/>
            <a:ext cx="34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课  小溪笑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209680" y="1828800"/>
            <a:ext cx="4654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导入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识字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6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7" action="ppaction://hlinksldjump"/>
              </a:rPr>
              <a:t>课文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8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9" action="ppaction://hlinksldjump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27000" y="5937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38080" y="83808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小兔往水里扔纸屑，小猴往水里丢果皮，小猪往水里倒脏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过了些日子，小溪变了，变得黑黑的，臭臭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小动物们急了：“小溪生病啦！快去请医生。”小鸟说：“先别请，大家想一想，小溪为什么会生病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大家听了，仔细想想，都不好意思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5715000" y="3048120"/>
            <a:ext cx="3124080" cy="1981080"/>
          </a:xfrm>
          <a:prstGeom prst="cloudCallout">
            <a:avLst>
              <a:gd name="adj1" fmla="val 51319"/>
              <a:gd name="adj2" fmla="val 4759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小动物们为什么都不好意思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600200" y="1219320"/>
            <a:ext cx="6324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914400" y="160020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809880" y="236232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diudiu.png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5400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2532960" y="609588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动物们在做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" descr="lajixiaoxi &amp;gp=0.jpg"/>
          <p:cNvPicPr/>
          <p:nvPr/>
        </p:nvPicPr>
        <p:blipFill>
          <a:blip r:embed="rId1"/>
          <a:stretch/>
        </p:blipFill>
        <p:spPr>
          <a:xfrm>
            <a:off x="0" y="0"/>
            <a:ext cx="4876920" cy="50292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hei21&amp;gp=0.jpg"/>
          <p:cNvPicPr/>
          <p:nvPr/>
        </p:nvPicPr>
        <p:blipFill>
          <a:blip r:embed="rId2"/>
          <a:stretch/>
        </p:blipFill>
        <p:spPr>
          <a:xfrm>
            <a:off x="4876920" y="0"/>
            <a:ext cx="411480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5489280" y="510552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溪后来变成什么样的了？是什么原因？（黑黑的、臭臭的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88960" y="5715000"/>
            <a:ext cx="380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比较 黑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黑黑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臭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臭臭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5259600" y="2362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以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78160" y="2362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259600" y="3276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后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78160" y="3276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生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426708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426708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569960" y="3336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743200" y="25146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taolun.png"/>
          <p:cNvPicPr/>
          <p:nvPr/>
        </p:nvPicPr>
        <p:blipFill>
          <a:blip r:embed="rId1"/>
          <a:stretch/>
        </p:blipFill>
        <p:spPr>
          <a:xfrm>
            <a:off x="1295280" y="380880"/>
            <a:ext cx="5816880" cy="4319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2617200" y="5181480"/>
            <a:ext cx="3152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觉得他们会在讨论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溪为什么会生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怎样才能使小溪变回原样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"/>
          <p:cNvSpPr/>
          <p:nvPr/>
        </p:nvSpPr>
        <p:spPr>
          <a:xfrm>
            <a:off x="5486400" y="3276720"/>
            <a:ext cx="2819520" cy="1828800"/>
          </a:xfrm>
          <a:prstGeom prst="cloudCallout">
            <a:avLst>
              <a:gd name="adj1" fmla="val 46398"/>
              <a:gd name="adj2" fmla="val 46439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小溪变回了原样吗？你替他高兴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80880" y="4572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小兔不往水里扔纸屑了，小猴不往水里丢果皮了，小猪也不往水里倒脏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又过了些日子，小溪的病好了。溪水清清的，绿绿的。它唱着歌儿边跑边笑，笑出了串串酒窝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2971800" y="281952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5259600" y="2362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以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78160" y="2362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259600" y="3276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后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78160" y="3276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生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259600" y="42512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现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278160" y="42512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笑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426708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426708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670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569960" y="3336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2743200" y="25146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7621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填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346480" y="236232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 rot="10800000">
            <a:off x="2346120" y="312372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889280" y="358128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 rot="17786400">
            <a:off x="1658880" y="2757240"/>
            <a:ext cx="685800" cy="6541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92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 rot="3670800">
            <a:off x="3030120" y="2757240"/>
            <a:ext cx="685800" cy="6541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7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819520" y="358128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6324480" y="236232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 rot="10800000">
            <a:off x="6324120" y="312372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5867280" y="358128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 rot="3670800">
            <a:off x="6992640" y="2757240"/>
            <a:ext cx="685800" cy="6541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7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781680" y="361476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 rot="16598400">
            <a:off x="5621400" y="2757240"/>
            <a:ext cx="685800" cy="6541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04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525680" y="2133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清清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116600" y="2133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绿绿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783480" y="2133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黑黑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601640" y="3581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024440" y="3581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783480" y="3581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38280" y="304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665360" y="11365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溪  扔  屑  猪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371600" y="743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102280" y="74304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176960" y="762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z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脏  些  臭  病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19320" y="35812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zā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192480" y="350532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i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276720" y="7621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ē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981320" y="350532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919560" y="35053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ì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hockwaveFlash1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5" name="ShockwaveFlash2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ShockwaveFlash3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ShockwaveFlash4" descr=""/>
          <p:cNvPicPr/>
          <p:nvPr/>
        </p:nvPicPr>
        <p:blipFill>
          <a:blip r:embed="rId5"/>
          <a:stretch/>
        </p:blipFill>
        <p:spPr>
          <a:xfrm>
            <a:off x="7238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ShockwaveFlash6" descr=""/>
          <p:cNvPicPr/>
          <p:nvPr/>
        </p:nvPicPr>
        <p:blipFill>
          <a:blip r:embed="rId6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ShockwaveFlash7" descr=""/>
          <p:cNvPicPr/>
          <p:nvPr/>
        </p:nvPicPr>
        <p:blipFill>
          <a:blip r:embed="rId7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ShockwaveFlash8" descr=""/>
          <p:cNvPicPr/>
          <p:nvPr/>
        </p:nvPicPr>
        <p:blipFill>
          <a:blip r:embed="rId8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ShockwaveFlash9" descr=""/>
          <p:cNvPicPr/>
          <p:nvPr/>
        </p:nvPicPr>
        <p:blipFill>
          <a:blip r:embed="rId9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1"/>
          <p:cNvPicPr/>
          <p:nvPr/>
        </p:nvPicPr>
        <p:blipFill>
          <a:blip r:embed="rId1"/>
          <a:stretch/>
        </p:blipFill>
        <p:spPr>
          <a:xfrm>
            <a:off x="666720" y="725400"/>
            <a:ext cx="7810560" cy="540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298760" y="624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922920" y="198108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结　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853920" y="5413320"/>
            <a:ext cx="65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6267-34C8-4E73-AA9A-F364A0AE4F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4024440" y="6094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小溪笑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666720" y="1876320"/>
            <a:ext cx="781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溪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xī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水清清的，绿绿的，天天唱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zhe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快乐的歌，向前奔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367452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</a:rPr>
              <a:t>小溪笑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09480" y="99072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往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wǎnɡ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里扔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rēnɡ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纸屑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xiè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小猴往水里丢果皮，小猪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zhū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往水里倒脏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zānɡ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914400" y="28954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过了些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xiē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子，小溪变了，变得黑黑的，臭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chòu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臭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228600" y="0"/>
            <a:ext cx="76960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小动物们急了：“小溪生病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bìnɡ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啦！快去请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医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y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生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shēnɡ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小鸟说：“先别请，大家想一想，小溪为什么会生病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大家听了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仔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zǐ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细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xì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想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都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dō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好意思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80880" y="380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小兔不往水里扔纸屑了，小猴不往水里丢果皮了，小猪也不往水里倒脏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过了些日子，小溪的病好了。溪水清清的，绿绿的。它唱着歌儿边跑边笑，笑出了串串酒窝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024440" y="6094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小溪笑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5486400" y="3733920"/>
            <a:ext cx="2743200" cy="1447560"/>
          </a:xfrm>
          <a:prstGeom prst="cloudCallout">
            <a:avLst>
              <a:gd name="adj1" fmla="val 58217"/>
              <a:gd name="adj2" fmla="val 6951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以前的小溪是怎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80880" y="2225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</a:t>
            </a:r>
            <a:r>
              <a:rPr b="0" lang="en-US" sz="2400" spc="-1" strike="noStrike">
                <a:solidFill>
                  <a:srgbClr val="333399"/>
                </a:solidFill>
                <a:latin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小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xī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的水清清的，绿绿的，天天唱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zhe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快乐的歌，向前奔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2590920" y="26827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4114800" y="26226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6019920" y="2682720"/>
            <a:ext cx="2590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01"/>
          <p:cNvPicPr/>
          <p:nvPr/>
        </p:nvPicPr>
        <p:blipFill>
          <a:blip r:embed="rId1"/>
          <a:stretch/>
        </p:blipFill>
        <p:spPr>
          <a:xfrm>
            <a:off x="762120" y="380880"/>
            <a:ext cx="781056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2649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溪开始是怎样的？（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清清的，绿绿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788400" y="5638680"/>
            <a:ext cx="449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比较    清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清清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绿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绿绿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659560" y="58672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觉得哪个好为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69960" y="3336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259600" y="2362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以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78160" y="2362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743200" y="25146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426708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6:57:55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2:55Z</dcterms:modified>
  <cp:revision>1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