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80D3-725D-475B-94CA-F15E90BDE64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F8B7-03F5-4257-94D9-8D847E7CE03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CBE4-FF15-4C2B-8FBE-D4D10C63A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7EE8-2282-4C12-82AF-0DD5AEEB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E680-A834-401D-AEFA-7719CE896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97CC-7EB1-4026-94E5-7D52F578F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F092-8709-4EA3-ABB7-5C9D766A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54CF-0A72-45EB-819C-8E9B547E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C9F9-41F8-4221-B9ED-DCBC8B20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F74B-E4A8-4332-88F7-40822AEC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24CE-1BD4-47EB-A8FE-C338E934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7F9A-424A-41CE-A564-B2412A25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764A-5F9B-4C87-9665-010841C1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77B6-8CC0-4752-B4EC-DAF56BED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BD18-4B75-4E39-A31E-B6BB8030BB8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2298;&#19979;&#38632;&#21862;&#12299;&#35838;&#20214;&#65288;&#20864;&#25945;&#29256;&#23567;&#23398;&#35821;&#25991;&#20108;&#24180;&#32423;&#19979;&#20876;&#35838;&#20214;&#65289;.ppt#Slide 20" TargetMode="External"/><Relationship Id="rId2" Type="http://schemas.openxmlformats.org/officeDocument/2006/relationships/hyperlink" Target="file:///&#12298;&#19979;&#38632;&#21862;&#12299;&#35838;&#20214;&#65288;&#20864;&#25945;&#29256;&#23567;&#23398;&#35821;&#25991;&#20108;&#24180;&#32423;&#19979;&#20876;&#35838;&#20214;&#65289;.ppt#Slide 21" TargetMode="External"/><Relationship Id="rId3" Type="http://schemas.openxmlformats.org/officeDocument/2006/relationships/hyperlink" Target="file:///&#12298;&#19979;&#38632;&#21862;&#12299;&#35838;&#20214;&#65288;&#20864;&#25945;&#29256;&#23567;&#23398;&#35821;&#25991;&#20108;&#24180;&#32423;&#19979;&#20876;&#35838;&#20214;&#65289;.ppt#Slide 22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2298;&#19979;&#38632;&#21862;&#12299;&#35838;&#20214;&#65288;&#20864;&#25945;&#29256;&#23567;&#23398;&#35821;&#25991;&#20108;&#24180;&#32423;&#19979;&#20876;&#35838;&#20214;&#65289;.ppt#Slide 10" TargetMode="External"/><Relationship Id="rId2" Type="http://schemas.openxmlformats.org/officeDocument/2006/relationships/hyperlink" Target="file:///&#12298;&#19979;&#38632;&#21862;&#12299;&#35838;&#20214;&#65288;&#20864;&#25945;&#29256;&#23567;&#23398;&#35821;&#25991;&#20108;&#24180;&#32423;&#19979;&#20876;&#35838;&#20214;&#65289;.ppt#Slide 13" TargetMode="External"/><Relationship Id="rId3" Type="http://schemas.openxmlformats.org/officeDocument/2006/relationships/hyperlink" Target="file:///&#12298;&#19979;&#38632;&#21862;&#12299;&#35838;&#20214;&#65288;&#20864;&#25945;&#29256;&#23567;&#23398;&#35821;&#25991;&#20108;&#24180;&#32423;&#19979;&#20876;&#35838;&#20214;&#65289;.ppt#Slide 15" TargetMode="External"/><Relationship Id="rId4" Type="http://schemas.openxmlformats.org/officeDocument/2006/relationships/slide" Target="slide13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2318400" y="1833480"/>
            <a:ext cx="486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2060"/>
                </a:solidFill>
                <a:latin typeface="楷体_GB2312"/>
              </a:rPr>
              <a:t>21 </a:t>
            </a:r>
            <a:r>
              <a:rPr b="1" lang="zh-CN" sz="9600" spc="-1" strike="noStrike">
                <a:solidFill>
                  <a:srgbClr val="002060"/>
                </a:solidFill>
                <a:latin typeface="楷体_GB2312"/>
              </a:rPr>
              <a:t>下雨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"/>
          <p:cNvSpPr/>
          <p:nvPr/>
        </p:nvSpPr>
        <p:spPr>
          <a:xfrm>
            <a:off x="366840" y="5280120"/>
            <a:ext cx="68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幻灯片之家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下雨"/>
          <p:cNvPicPr/>
          <p:nvPr/>
        </p:nvPicPr>
        <p:blipFill>
          <a:blip r:embed="rId1"/>
          <a:stretch/>
        </p:blipFill>
        <p:spPr>
          <a:xfrm>
            <a:off x="0" y="0"/>
            <a:ext cx="9144000" cy="76453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0" y="0"/>
            <a:ext cx="9144000" cy="1252800"/>
          </a:xfrm>
          <a:prstGeom prst="rect">
            <a:avLst/>
          </a:prstGeom>
          <a:solidFill>
            <a:srgbClr val="80808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一会儿，滴答、滴答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滴答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…小雨点落下来了。它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落在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面上，像敲小鼓；它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掉在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池塘里，逗得池水笑起朵朵花。抬头看天，小雨点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连成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条条银线，被风一吹歪歪斜斜，像喝醉了酒，又像在跳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>
            <a:hlinkClick r:id="rId2" action="ppaction://hlinksldjump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ff9900"/>
                </a:solidFill>
                <a:latin typeface="Arial"/>
              </a:rPr>
              <a:t>不一会儿，滴答、滴答、滴答</a:t>
            </a: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……</a:t>
            </a:r>
            <a:r>
              <a:rPr b="1" lang="zh-CN" sz="4400" spc="-1" strike="noStrike">
                <a:solidFill>
                  <a:srgbClr val="ff9900"/>
                </a:solidFill>
                <a:latin typeface="Arial"/>
              </a:rPr>
              <a:t>小雨点落下来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191628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它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地面上，像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鼓；他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池塘里，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得池水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起朵朵花。抬头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天，小雨点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成一条条银线，被风一吹歪歪斜斜，像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了酒，又像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   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877040" y="1844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宋体"/>
              </a:rPr>
              <a:t>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620040" y="1935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宋体"/>
              </a:rPr>
              <a:t>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2453400" y="25858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宋体"/>
              </a:rPr>
              <a:t>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6691320" y="2637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宋体"/>
              </a:rPr>
              <a:t>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1290600" y="3357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宋体"/>
              </a:rPr>
              <a:t>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6609600" y="3357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443320" y="4005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宋体"/>
              </a:rPr>
              <a:t>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148360" y="465444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宋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宋体"/>
              </a:rPr>
              <a:t>喝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2603880" y="53737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宋体"/>
              </a:rPr>
              <a:t>跳着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雨景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116000" y="3716280"/>
            <a:ext cx="73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一会儿，哗啦、哗啦、哗啦……小雨点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汇集在一起，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变成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溪，在地上流淌着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它冲干净了石阶，洗干净了操场，那一条条的柏油马路，变得溜光发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">
            <a:hlinkClick r:id="rId1" action="ppaction://hlinksldjump"/>
          </p:cNvPr>
          <p:cNvSpPr/>
          <p:nvPr/>
        </p:nvSpPr>
        <p:spPr>
          <a:xfrm>
            <a:off x="8381880" y="60958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476360" y="2060640"/>
            <a:ext cx="65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不怕雨，光着头，光着脚丫，追着雨花跑。有的手提凉鞋，有的身披雨衣，有的挥动小棍儿，像一群小鸭……在雨中，我们上学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">
            <a:hlinkClick r:id="rId1" action="ppaction://hlinksldjump"/>
          </p:cNvPr>
          <p:cNvSpPr/>
          <p:nvPr/>
        </p:nvSpPr>
        <p:spPr>
          <a:xfrm>
            <a:off x="8534520" y="59436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476360" y="2060640"/>
            <a:ext cx="651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不怕雨，</a:t>
            </a:r>
            <a:r>
              <a:rPr b="1" lang="zh-CN" sz="4000" spc="-1" strike="noStrike">
                <a:solidFill>
                  <a:srgbClr val="ff3300"/>
                </a:solidFill>
                <a:latin typeface="微软雅黑"/>
                <a:ea typeface="微软雅黑"/>
              </a:rPr>
              <a:t>光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着头，</a:t>
            </a:r>
            <a:r>
              <a:rPr b="1" lang="zh-CN" sz="4000" spc="-1" strike="noStrike">
                <a:solidFill>
                  <a:srgbClr val="ff3300"/>
                </a:solidFill>
                <a:latin typeface="微软雅黑"/>
                <a:ea typeface="微软雅黑"/>
              </a:rPr>
              <a:t>光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着脚丫，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追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着雨花</a:t>
            </a:r>
            <a:r>
              <a:rPr b="1" lang="zh-CN" sz="4000" spc="-1" strike="noStrike">
                <a:solidFill>
                  <a:srgbClr val="ff3300"/>
                </a:solidFill>
                <a:latin typeface="微软雅黑"/>
                <a:ea typeface="微软雅黑"/>
              </a:rPr>
              <a:t>跑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有的手</a:t>
            </a:r>
            <a:r>
              <a:rPr b="1" lang="zh-CN" sz="4000" spc="-1" strike="noStrike">
                <a:solidFill>
                  <a:srgbClr val="ff3300"/>
                </a:solidFill>
                <a:latin typeface="微软雅黑"/>
                <a:ea typeface="微软雅黑"/>
              </a:rPr>
              <a:t>提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凉鞋，有的身</a:t>
            </a:r>
            <a:r>
              <a:rPr b="1" lang="zh-CN" sz="4000" spc="-1" strike="noStrike">
                <a:solidFill>
                  <a:srgbClr val="ff3300"/>
                </a:solidFill>
                <a:latin typeface="微软雅黑"/>
                <a:ea typeface="微软雅黑"/>
              </a:rPr>
              <a:t>披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雨衣，有的</a:t>
            </a:r>
            <a:r>
              <a:rPr b="1" lang="zh-CN" sz="4000" spc="-1" strike="noStrike">
                <a:solidFill>
                  <a:srgbClr val="ff3300"/>
                </a:solidFill>
                <a:latin typeface="微软雅黑"/>
                <a:ea typeface="微软雅黑"/>
              </a:rPr>
              <a:t>挥动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棍儿，像一群小鸭……在雨中，我们上学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3">
            <a:hlinkClick r:id="rId1" action="ppaction://hlinksldjump"/>
          </p:cNvPr>
          <p:cNvSpPr/>
          <p:nvPr/>
        </p:nvSpPr>
        <p:spPr>
          <a:xfrm>
            <a:off x="8534520" y="59436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2440080" y="1413000"/>
            <a:ext cx="40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的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的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的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028960" y="3573360"/>
            <a:ext cx="588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雨啦，同学们高兴极了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有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雨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欢叫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有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雨中奔跑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有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兴奋地踩着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你喜欢在雨中做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93840" y="1557360"/>
            <a:ext cx="96091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喜欢在雨中（        ）。我们结伴而出，（    ）起手，（      ）准水坑，径直（    ）向里面，每次踩下去，都会（                 ），水花溅到（         ），会（                    ）；水花溅到（         ），能（                    ）；水花溅到（         ），激起（                 ）；水花溅到（         ），画出（         ）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听  雨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11970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突然下了一场雨，时大时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当你认真地在一旁听，会感觉雨声很神奇、悦耳。这时候，耳朵里只有那雨声，叮咚，嘀嗒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那一种韵律让人回味无穷。我喜欢听雨，感受这一种难以说出的美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听见了雨正在编秦新的曲子。它们有的落在石头上，发出嗒嗒的响声；有的落在水里，叮咚一声，让人惊奇；有的在树上做游戏，碰到树叶，发出沙沙的声音。这不同的声音吸引着我，使我不忍心离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雨停了，我站在树下，陷入了沉思。突然有一颗大雨点落在我的身上。我想是雨被我的专心所感动，送我一个特殊的礼物吧。顿时，我的心里似乎也流进了甜甜的雨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2925360" y="1628640"/>
            <a:ext cx="3753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满满一坛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</a:rPr>
              <a:t>酒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贪婪一小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</a:rPr>
              <a:t>卒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一口接一口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楷体_GB2312"/>
              </a:rPr>
              <a:t>醉  醉  醉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"/>
          <p:cNvSpPr/>
          <p:nvPr/>
        </p:nvSpPr>
        <p:spPr>
          <a:xfrm>
            <a:off x="297000" y="5546880"/>
            <a:ext cx="55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614760" y="1268280"/>
            <a:ext cx="2466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不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坐好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正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不了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歪歪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斜斜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真不妙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2572560" y="2349360"/>
            <a:ext cx="475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楷体_GB2312"/>
              </a:rPr>
              <a:t>汇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</a:rPr>
              <a:t>汇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楷体_GB2312"/>
              </a:rPr>
              <a:t>江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     长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</a:rPr>
              <a:t>江</a:t>
            </a:r>
            <a:r>
              <a:rPr b="1" lang="en-US" sz="6000" spc="-1" strike="noStrike">
                <a:solidFill>
                  <a:srgbClr val="ff3300"/>
                </a:solidFill>
                <a:latin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9FC2-8F0B-4A0B-84EC-0D24600D862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529200" y="18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美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815120" y="1701720"/>
            <a:ext cx="5838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★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蚂蚁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着悄悄话：“要下雨啦！快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搬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家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★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条条银线被风一吹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歪歪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斜斜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像喝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醉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★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雨点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汇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集在一起，变成小溪，在地上流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★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条条的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柏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油马路，变得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溜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光发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041840" y="3524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认词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55640" y="1413000"/>
            <a:ext cx="8424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微软雅黑"/>
                <a:ea typeface="微软雅黑"/>
              </a:rPr>
              <a:t>蚂蚁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4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搬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家     </a:t>
            </a:r>
            <a:r>
              <a:rPr b="1" lang="zh-CN" sz="4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柏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油马路    石</a:t>
            </a:r>
            <a:r>
              <a:rPr b="1" lang="zh-CN" sz="4400" spc="-1" strike="noStrike">
                <a:solidFill>
                  <a:srgbClr val="ff3300"/>
                </a:solidFill>
                <a:latin typeface="微软雅黑"/>
                <a:ea typeface="微软雅黑"/>
              </a:rPr>
              <a:t>阶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</a:t>
            </a:r>
            <a:r>
              <a:rPr b="1" lang="zh-CN" sz="4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淌 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4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汇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集     </a:t>
            </a:r>
            <a:r>
              <a:rPr b="1" lang="zh-CN" sz="4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溜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光发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微软雅黑"/>
                <a:ea typeface="微软雅黑"/>
              </a:rPr>
              <a:t>醉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酒     凉</a:t>
            </a:r>
            <a:r>
              <a:rPr b="1" lang="zh-CN" sz="4400" spc="-1" strike="noStrike">
                <a:solidFill>
                  <a:srgbClr val="ff3300"/>
                </a:solidFill>
                <a:latin typeface="微软雅黑"/>
                <a:ea typeface="微软雅黑"/>
              </a:rPr>
              <a:t>鞋 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4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歪歪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斜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726120" y="1033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交朋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760680" y="1268280"/>
            <a:ext cx="7495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蚂    蚁    搬    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柏    淌    阶    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醉    鞋    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741720" y="5950080"/>
            <a:ext cx="193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hlinkClick r:id="rId1"/>
              </a:rPr>
              <a:t>z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hlinkClick r:id="rId2"/>
              </a:rPr>
              <a:t>w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hlinkClick r:id="rId3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6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雨"/>
          <p:cNvPicPr/>
          <p:nvPr/>
        </p:nvPicPr>
        <p:blipFill>
          <a:blip r:embed="rId1"/>
          <a:stretch/>
        </p:blipFill>
        <p:spPr>
          <a:xfrm>
            <a:off x="0" y="0"/>
            <a:ext cx="9144000" cy="7424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0" y="2286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宋体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天阴了，云低了，太阳躲起来了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下雨  鱼"/>
          <p:cNvPicPr/>
          <p:nvPr/>
        </p:nvPicPr>
        <p:blipFill>
          <a:blip r:embed="rId1"/>
          <a:stretch/>
        </p:blipFill>
        <p:spPr>
          <a:xfrm>
            <a:off x="4427640" y="0"/>
            <a:ext cx="4152960" cy="3524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下雨  蚂蚁"/>
          <p:cNvPicPr/>
          <p:nvPr/>
        </p:nvPicPr>
        <p:blipFill>
          <a:blip r:embed="rId2"/>
          <a:stretch/>
        </p:blipFill>
        <p:spPr>
          <a:xfrm>
            <a:off x="0" y="3419640"/>
            <a:ext cx="4392720" cy="3438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柳树"/>
          <p:cNvPicPr/>
          <p:nvPr/>
        </p:nvPicPr>
        <p:blipFill>
          <a:blip r:embed="rId3"/>
          <a:stretch/>
        </p:blipFill>
        <p:spPr>
          <a:xfrm>
            <a:off x="0" y="0"/>
            <a:ext cx="4211640" cy="337968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5"/>
          <p:cNvSpPr/>
          <p:nvPr/>
        </p:nvSpPr>
        <p:spPr>
          <a:xfrm>
            <a:off x="4967280" y="3645000"/>
            <a:ext cx="4718160" cy="3213000"/>
          </a:xfrm>
          <a:prstGeom prst="cloudCallout">
            <a:avLst>
              <a:gd name="adj1" fmla="val -83245"/>
              <a:gd name="adj2" fmla="val 4893"/>
            </a:avLst>
          </a:prstGeom>
          <a:solidFill>
            <a:srgbClr val="a4fa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要下雨啦，要下雨啦！快搬家，快搬家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1692360" y="0"/>
            <a:ext cx="3095640" cy="2521080"/>
          </a:xfrm>
          <a:prstGeom prst="cloudCallout">
            <a:avLst>
              <a:gd name="adj1" fmla="val -44203"/>
              <a:gd name="adj2" fmla="val 7002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燕子掠过树梢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5398920" y="0"/>
            <a:ext cx="3745080" cy="18730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a0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鱼儿跳出水面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0" y="3352680"/>
            <a:ext cx="3059280" cy="2808360"/>
          </a:xfrm>
          <a:prstGeom prst="cloudCallout">
            <a:avLst>
              <a:gd name="adj1" fmla="val -34277"/>
              <a:gd name="adj2" fmla="val 38185"/>
            </a:avLst>
          </a:prstGeom>
          <a:solidFill>
            <a:srgbClr val="eab4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蚂蚁交头接耳地说着悄悄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2090880" y="1773360"/>
            <a:ext cx="520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雨中有哪些美丽的景色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3708720" y="3213000"/>
            <a:ext cx="1034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默读课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出语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谈谈感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6048360" y="6111720"/>
            <a:ext cx="1248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_GB2312"/>
                <a:hlinkClick r:id="rId1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_GB2312"/>
                <a:hlinkClick r:id="rId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_GB2312"/>
                <a:hlinkClick r:id="rId3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>
            <a:hlinkClick r:id="rId4" action="ppaction://hlinksldjump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雨景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09:01:4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3:00Z</dcterms:modified>
  <cp:revision>5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