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FFAF-990F-4A0A-A48A-4D05A52F0F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A2BD-1EC1-4843-B7DC-8330E1FECBD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4BEC-228A-4E7A-8380-071F8EADFB7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1E6-FAE9-4BF4-A4D2-CC8CB3BF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CC75-2375-4914-9075-1FB89E86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C02-474E-4277-8C5A-82B8D3BA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BEC-F3D0-415C-A466-FF424DE0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8679-6644-4932-8188-CA8D4A44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F0A7-0B20-4D73-A065-07D74036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CB51-C10E-4155-9AC3-5633094A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0784-05C2-400D-BC3A-7E7C0474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5AB6-63AC-45B2-85DF-A64306A8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F4FF-2A29-4688-8209-041D7857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D845-88A1-48D4-9360-1EDC816B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301-54C2-4AF6-A65A-CB3E23AE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052B-7DEC-402A-BABE-1DF41CD6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E3F8-8709-4BF6-AB5B-A1FE02A3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DFEB-7204-4A6A-BE84-39704712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F113-757C-48C5-A750-F4033C18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DEEC-2407-4936-9A66-7927724E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E2E9-84A7-4E15-A48D-D525108C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3023-B454-4C63-97D0-1B83084F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B11D8-2055-46E5-82F6-140B31B6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6F954-FD8C-4DA4-BFE9-8F75FE8E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4356-CE81-44C3-8A93-C19A2E18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12F-3856-4A26-8117-CB50FDEE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7010A-E0A6-49BF-AF44-2B1B1F17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2460B-3F46-44A6-A04E-3674E91C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1E12A-F5F5-40D3-86C2-DFF14C67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5646-88DF-412D-AAAF-80A7CF95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ED60-3A2F-4EE2-84F5-60339925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CDD7-6A24-4F92-84B8-CF673143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B9A4-2357-417D-B159-00A5FD38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0F3-4A34-4353-BF0B-22F33A1E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208-4906-4620-81C0-9BC1DF30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8A2-1B3D-45F0-AA5C-8BCEE6C3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78E-E577-4EAE-B57C-D9449EB8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57F-A770-42CD-A8E5-C6E4908A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424-38B1-41B0-BF9A-DDB9A23F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159D-4C15-4AE8-9728-75F74AB456A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0183-8C8E-40F8-AC4E-7D8098C88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E87A-F25D-490F-A89D-AFA3EDEF15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4"/>
          <p:cNvSpPr txBox="1"/>
          <p:nvPr/>
        </p:nvSpPr>
        <p:spPr>
          <a:xfrm>
            <a:off x="2327400" y="838080"/>
            <a:ext cx="4248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蝌蚪</a:t>
            </a:r>
            <a:endParaRPr b="1" lang="en-US" sz="66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0" name="矩形 4"/>
          <p:cNvSpPr/>
          <p:nvPr/>
        </p:nvSpPr>
        <p:spPr>
          <a:xfrm>
            <a:off x="174096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5c897dfdc839cc0f09244daf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284289726478233976"/>
          <p:cNvPicPr/>
          <p:nvPr/>
        </p:nvPicPr>
        <p:blipFill>
          <a:blip r:embed="rId1"/>
          <a:stretch/>
        </p:blipFill>
        <p:spPr>
          <a:xfrm>
            <a:off x="684360" y="0"/>
            <a:ext cx="359388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82d7ccf71f54642ddcc474f0"/>
          <p:cNvPicPr/>
          <p:nvPr/>
        </p:nvPicPr>
        <p:blipFill>
          <a:blip r:embed="rId2"/>
          <a:stretch/>
        </p:blipFill>
        <p:spPr>
          <a:xfrm>
            <a:off x="4788000" y="0"/>
            <a:ext cx="372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4006514818500047552"/>
          <p:cNvPicPr/>
          <p:nvPr/>
        </p:nvPicPr>
        <p:blipFill>
          <a:blip r:embed="rId1"/>
          <a:stretch/>
        </p:blipFill>
        <p:spPr>
          <a:xfrm>
            <a:off x="0" y="189000"/>
            <a:ext cx="907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20091025065012283"/>
          <p:cNvPicPr/>
          <p:nvPr/>
        </p:nvPicPr>
        <p:blipFill>
          <a:blip r:embed="rId1"/>
          <a:stretch/>
        </p:blipFill>
        <p:spPr>
          <a:xfrm>
            <a:off x="0" y="136440"/>
            <a:ext cx="91440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0f4d261f11817b1c314e150f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3390084619504622730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70059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  <a:ea typeface="黑体"/>
              </a:rPr>
              <a:t>作业活动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6600"/>
                </a:solidFill>
                <a:latin typeface="Arial"/>
                <a:ea typeface="黑体"/>
              </a:rPr>
              <a:t>小蝌蚪在旅游中会遇到的事情，请你把自己的想法给画下来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6600"/>
                </a:solidFill>
                <a:latin typeface="Arial"/>
                <a:ea typeface="黑体"/>
              </a:rPr>
              <a:t>大胆想象，画有趣的蝌蚪组合，适当加入环境、背景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4682021879195-1_e"/>
          <p:cNvPicPr/>
          <p:nvPr/>
        </p:nvPicPr>
        <p:blipFill>
          <a:blip r:embed="rId2"/>
          <a:stretch/>
        </p:blipFill>
        <p:spPr>
          <a:xfrm>
            <a:off x="1042920" y="83664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360" y="765000"/>
            <a:ext cx="706752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Arial"/>
                <a:ea typeface="黑体"/>
              </a:rPr>
              <a:t>请注意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4682021879195-1_e"/>
          <p:cNvPicPr/>
          <p:nvPr/>
        </p:nvPicPr>
        <p:blipFill>
          <a:blip r:embed="rId2"/>
          <a:stretch/>
        </p:blipFill>
        <p:spPr>
          <a:xfrm>
            <a:off x="755640" y="907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ertongxiuxian2_0140"/>
          <p:cNvPicPr/>
          <p:nvPr/>
        </p:nvPicPr>
        <p:blipFill>
          <a:blip r:embed="rId3"/>
          <a:stretch/>
        </p:blipFill>
        <p:spPr>
          <a:xfrm>
            <a:off x="5003640" y="4076640"/>
            <a:ext cx="2543400" cy="25434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684360" y="249192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黑体"/>
              </a:rPr>
              <a:t>构图饱满、画面丰富多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黑体"/>
              </a:rPr>
              <a:t>色彩鲜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黑体"/>
              </a:rPr>
              <a:t>先铅笔构图、再黑笔勾边、最后涂色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925A-5DD0-4811-9C20-D485667C2F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6"/>
          <p:cNvSpPr/>
          <p:nvPr/>
        </p:nvSpPr>
        <p:spPr>
          <a:xfrm>
            <a:off x="611280" y="836640"/>
            <a:ext cx="7488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Comic Sans MS"/>
                <a:ea typeface="黑体"/>
              </a:rPr>
              <a:t>小小黑豆水中游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Comic Sans MS"/>
                <a:ea typeface="黑体"/>
              </a:rPr>
              <a:t>细长尾巴圆圆头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65464"/>
          <p:cNvPicPr/>
          <p:nvPr/>
        </p:nvPicPr>
        <p:blipFill>
          <a:blip r:embed="rId1"/>
          <a:stretch/>
        </p:blipFill>
        <p:spPr>
          <a:xfrm rot="1016400">
            <a:off x="3995280" y="3573360"/>
            <a:ext cx="2952720" cy="244656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1"/>
          <p:cNvSpPr/>
          <p:nvPr/>
        </p:nvSpPr>
        <p:spPr>
          <a:xfrm>
            <a:off x="1600200" y="617688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1391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想一想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4682021879195-1_e"/>
          <p:cNvPicPr/>
          <p:nvPr/>
        </p:nvPicPr>
        <p:blipFill>
          <a:blip r:embed="rId2"/>
          <a:stretch/>
        </p:blipFill>
        <p:spPr>
          <a:xfrm>
            <a:off x="3564000" y="981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ertongxiuxian2_0140"/>
          <p:cNvPicPr/>
          <p:nvPr/>
        </p:nvPicPr>
        <p:blipFill>
          <a:blip r:embed="rId3"/>
          <a:stretch/>
        </p:blipFill>
        <p:spPr>
          <a:xfrm>
            <a:off x="6084720" y="4005360"/>
            <a:ext cx="2543400" cy="2543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914400" y="177336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小蝌蚪在旅途中能遇到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042920" y="3429000"/>
            <a:ext cx="4969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547640" y="3284640"/>
            <a:ext cx="49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池塘、草、花、荷叶鱼、青蛙妈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鲤鱼、乌龟、蜻蜓、小鸟等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100" spc="-1" strike="noStrike">
                <a:solidFill>
                  <a:srgbClr val="ff6600"/>
                </a:solidFill>
                <a:latin typeface="Arial"/>
                <a:ea typeface="黑体"/>
              </a:rPr>
              <a:t>大家一起想一想：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4000" y="1600200"/>
            <a:ext cx="964872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6600"/>
                </a:solidFill>
                <a:latin typeface="Arial"/>
              </a:rPr>
              <a:t>小</a:t>
            </a:r>
            <a:r>
              <a:rPr b="1" lang="zh-CN" sz="5000" spc="-1" strike="noStrike">
                <a:solidFill>
                  <a:srgbClr val="ff6600"/>
                </a:solidFill>
                <a:latin typeface="Arial"/>
                <a:ea typeface="黑体"/>
              </a:rPr>
              <a:t>蝌蚪长大之后变成了什么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8f11a587173ef80366096e25"/>
          <p:cNvPicPr/>
          <p:nvPr/>
        </p:nvPicPr>
        <p:blipFill>
          <a:blip r:embed="rId2"/>
          <a:stretch/>
        </p:blipFill>
        <p:spPr>
          <a:xfrm>
            <a:off x="684360" y="2492280"/>
            <a:ext cx="3867120" cy="3591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04df2f2e7ac503624ec2265a"/>
          <p:cNvPicPr/>
          <p:nvPr/>
        </p:nvPicPr>
        <p:blipFill>
          <a:blip r:embed="rId3"/>
          <a:stretch/>
        </p:blipFill>
        <p:spPr>
          <a:xfrm>
            <a:off x="4643280" y="2565360"/>
            <a:ext cx="40323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20080509231138800"/>
          <p:cNvPicPr/>
          <p:nvPr/>
        </p:nvPicPr>
        <p:blipFill>
          <a:blip r:embed="rId1"/>
          <a:stretch/>
        </p:blipFill>
        <p:spPr>
          <a:xfrm>
            <a:off x="1692360" y="260280"/>
            <a:ext cx="6686640" cy="64087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1274760" y="1125360"/>
            <a:ext cx="48888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688680" y="476280"/>
            <a:ext cx="729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图片欣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9:21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5:42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