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3BA8-B5EE-4383-9686-D200269C7A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4063-3707-4773-A15C-5376B99E69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5256-64A4-4CD1-B5B2-541F79DEB2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1C62-063C-44B4-82A9-ABFB01EC7C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D244-BE6D-47E4-8475-F72C025D64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449C-353B-4D23-BB05-8C6DA363C5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7FAD-4E1A-44D5-A4BD-19ABEAC799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26D2-FB87-49D4-B97F-8493DFB218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DA31-C6D2-458A-BAB7-1CCFC3951B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87D9-C902-4917-97FD-D7646FFD34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2382-A902-409A-9356-0BCBC2FB7A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22BA-BFF1-41CE-95B6-AA09E4FF4B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6925-1311-4273-ADD0-B7CE8E6E08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6B53-753E-481B-87DF-ECCA45E66D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A63B-E4EB-4E26-9B17-B6FD7113CF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F78E-C964-4054-B573-DAE3D5244A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EDD4-4C36-45DC-9AB8-0D6C8E21CE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25DC-5019-4E35-BDDE-5037FAB549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76B-94C3-446F-9641-F57A8AE2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F6E-A021-495E-9B95-9E54015A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968-B42F-437C-A272-BE2BA584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5AA-5421-43DA-806E-0EF11CF9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E35-EA58-40AB-A738-051D6011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202-9695-41EB-8C2E-81F48102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B93-2C9D-42AA-B2A8-E835ADFE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1AB-21B0-4DCA-9205-9975C977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90A-4DE6-4838-B2F6-52F56506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1EE-682F-4FBB-93D8-B6D3E87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E9D-94E3-47EC-AA29-8F8BC30A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6B5-F69E-4164-800C-EAABCFEB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E6A1-9229-4230-B47A-9BAEE7AA6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581280" y="258840"/>
            <a:ext cx="5170680" cy="589428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 rot="5400000">
            <a:off x="-630360" y="2786040"/>
            <a:ext cx="598824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round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00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中宋"/>
              </a:rPr>
              <a:t>有个孩子叫咪咪乔</a:t>
            </a:r>
            <a:endParaRPr b="1" lang="en-US" sz="1800" spc="1" strike="noStrike">
              <a:ln w="12600">
                <a:solidFill>
                  <a:srgbClr val="c4b596"/>
                </a:solidFill>
                <a:round/>
              </a:ln>
              <a:gradFill rotWithShape="0">
                <a:gsLst>
                  <a:gs pos="0">
                    <a:srgbClr val="ffff99"/>
                  </a:gs>
                  <a:gs pos="100000">
                    <a:srgbClr val="ff0000"/>
                  </a:gs>
                </a:gsLst>
                <a:lin ang="135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3493800" y="61689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600200" y="2457720"/>
            <a:ext cx="6858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是她的孩子。咪咪乔是有生命和人权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600200" y="3829320"/>
            <a:ext cx="69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虽说我俩表示了加倍的歉意，女儿依旧以任性的哭闹表达强烈的抗议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600200" y="5200920"/>
            <a:ext cx="7010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记得那天晚上，女儿是在抽噎声中睡去的，睡梦中的小脸上满是泪痕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752480" y="762120"/>
            <a:ext cx="5791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女儿对待咪咪乔：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600200" y="1470600"/>
            <a:ext cx="7391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把女儿放进自行车后座，对她说：“坐好。”女儿把布娃娃放在自己的小膝盖上，拍拍她说：“坐好。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-3402000" y="-2212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057400" y="384156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小女儿很认真地和布娃娃讲话，可以看出她把“咪咪乔”当“宝宝”看，当作有生命的人来看。由此可见，孩子内心的纯真善良，不管是“有生命”或者“没有生命”的，在孩子们的眼里都一样受到尊重，受到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884200" y="170233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以看出她把“咪咪乔”当“宝宝”看，当作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486840" y="21014280"/>
            <a:ext cx="2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生命的人来看。由此可见，孩子内心的纯真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884200" y="2500704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良，不管是“有生命”或者“没有生命”的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402240" y="28759680"/>
            <a:ext cx="40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在孩子们的眼里都一样受到尊重，受到重视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95280" y="3049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重点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905120" y="1391040"/>
            <a:ext cx="6629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咪咪乔的处境十分危险，她是怎样化险为夷、转危为安的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362320" y="2984040"/>
            <a:ext cx="24382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交警叔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果断做手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跳下岗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抱了起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举手敬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190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895480" y="4019040"/>
            <a:ext cx="5639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交警叔叔把咪咪乔当作一个有生命的人来看待，充满尊重，这也是对女孩的尊重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209680" y="2362320"/>
            <a:ext cx="1143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752480" y="1153440"/>
            <a:ext cx="70106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交警叔叔的举动中，你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981080" y="60948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476880" cy="43815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038480" y="129528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立正，举手敬礼：“请照顾好你的孩子。”却并不把咪咪乔给我，转身几步到女儿面前，郑重地交给她，且又是一个立正，举手敬礼：“请照顾好你的孩子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两次“请照顾好你的孩子”有什么不同？交警之所以这么做的原因，仅仅是因为喜欢女孩和咪咪乔吗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057400" y="249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用以前未曾有过的温情和内疚抚摩着咪咪乔。咪咪乔仍是一副憨态可掬的模样，面对她的憨笑，我觉得更加惭愧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836160" y="4422240"/>
            <a:ext cx="3790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”为什么内疚、惭愧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057400" y="609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590920" y="91440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结尾补叙，拓展思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09680" y="2057400"/>
            <a:ext cx="640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”看到这节断了的手指头，更加感动惭愧。“我”能为女儿做些什么呢？“我”点亮灯光，把那节手指头小心翼翼地贴好，把“咪咪乔”放回女儿的枕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从这以后，我们一家和“咪咪乔”之间又发生了怎样的故事呢？请同学们课下续写故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1535040" y="626760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2743200" y="2743200"/>
            <a:ext cx="3505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3E39-9BAF-46FE-B419-2C93C6A2A3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905120" y="2286000"/>
            <a:ext cx="6918120" cy="38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华文细黑"/>
                <a:ea typeface="华文细黑"/>
              </a:rPr>
              <a:t>xī gài         rén quán       xū wě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膝 盖    人 权      虚 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华文细黑"/>
                <a:ea typeface="华文细黑"/>
              </a:rPr>
              <a:t>qiàn yì        jiāo jǐng         yīng ér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歉 意    交 警      婴 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809880" y="83808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字词正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752480" y="182880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初读课文，用自己的话说说课文讲了哪几件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找一找：文中讲了哪几个人物？他们和“咪咪乔”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细读课文并思考：女儿、“我”、丈夫和交警各是怎样对待咪咪乔的？结合具体语句谈谈你对这些人物的看法，并有感情地朗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429000" y="7621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提纲引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4"/>
          <p:cNvSpPr/>
          <p:nvPr/>
        </p:nvSpPr>
        <p:spPr>
          <a:xfrm>
            <a:off x="3276720" y="26226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1219320" y="609480"/>
            <a:ext cx="7619760" cy="4267440"/>
          </a:xfrm>
          <a:prstGeom prst="cloudCallout">
            <a:avLst>
              <a:gd name="adj1" fmla="val -45407"/>
              <a:gd name="adj2" fmla="val 58222"/>
            </a:avLst>
          </a:prstGeom>
          <a:solidFill>
            <a:srgbClr val="badde1">
              <a:alpha val="6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这篇课文讲述的故事和一个叫“咪咪乔”的布娃娃有关。既然咪咪乔是个布娃娃，为什么文中题目却说它是个“孩子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057400" y="53341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23880" y="228600"/>
            <a:ext cx="70866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中记叙了哪几件与咪咪乔有关的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600200" y="2590920"/>
            <a:ext cx="77724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楷体"/>
              </a:rPr>
              <a:t>1.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"/>
              </a:rPr>
              <a:t>带女儿及女儿的“宝宝”咪咪乔出门；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楷体"/>
              </a:rPr>
              <a:t>2.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"/>
              </a:rPr>
              <a:t>爸爸妈妈严重伤害了咪咪乔事件；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楷体"/>
              </a:rPr>
              <a:t>3.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"/>
              </a:rPr>
              <a:t>十字路口交警抢救咪咪乔的感人瞬间；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990099"/>
                </a:solidFill>
                <a:latin typeface="Arial"/>
                <a:ea typeface="楷体"/>
              </a:rPr>
              <a:t>4.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楷体"/>
              </a:rPr>
              <a:t>妈妈被交警感动满怀愧疚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600200" y="68580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件事是现在发生的？哪件事是过去发生的？找找文中表示时间变化的语句，划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209680" y="2895480"/>
            <a:ext cx="41911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楷体"/>
              </a:rPr>
              <a:t>“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楷体"/>
              </a:rPr>
              <a:t>终于有一天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楷体"/>
              </a:rPr>
              <a:t>“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楷体"/>
              </a:rPr>
              <a:t>话回到现在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9900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楷体"/>
              </a:rPr>
              <a:t>“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楷体"/>
              </a:rPr>
              <a:t>那天晚上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905120" y="990720"/>
            <a:ext cx="70102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插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作者在叙述主要情节或中心事件发展过程中，暂时中断叙述的线索，即不依时间顺序插入有关的另一故事片段或事件，对主要情节或中心事件作必要的铺垫、照应、补充、说明，使情节更完整，结构更严密，内容更充实。插叙结束后，再继续原来的叙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447920" y="152280"/>
            <a:ext cx="7696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读插叙部分，“我”、丈夫和女儿是怎样对待布娃娃咪咪乔的？找出相关的句子批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207160" y="2517480"/>
            <a:ext cx="241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我”和丈夫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-2386080" y="-2124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0927800" y="1935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习以为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0981800" y="23756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附和女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0894320" y="278755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不耐烦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-2386080" y="-2124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0927800" y="1935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习以为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10981800" y="23756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附和女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10894320" y="2787552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不耐烦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5029200" y="2523240"/>
            <a:ext cx="2362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习以为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附和女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不耐烦了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2147760" y="4574880"/>
            <a:ext cx="115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女儿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170600" y="4574880"/>
            <a:ext cx="292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有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生命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人权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-18156240" y="-2090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26294760" y="2430828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指人享有的人身自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26363160" y="27535680"/>
            <a:ext cx="66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和各种民主权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-18156240" y="-2090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26294760" y="2430828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指人享有的人身自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26363160" y="27535680"/>
            <a:ext cx="66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</a:rPr>
              <a:t>和各种民主权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4343400" y="5932440"/>
            <a:ext cx="426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楷体"/>
                <a:ea typeface="楷体"/>
              </a:rPr>
              <a:t>指人享有的人身自由和各种民主权利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下箭头 23"/>
          <p:cNvSpPr/>
          <p:nvPr/>
        </p:nvSpPr>
        <p:spPr>
          <a:xfrm>
            <a:off x="6553080" y="533412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badde1">
              <a:alpha val="61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752480" y="2874600"/>
            <a:ext cx="6477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们是在哼哼哈哈地将就着附和女儿，在下意识中，却在等待着女儿慢慢长大，从童话世界里剥离出来，和我们取得共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752480" y="4820040"/>
            <a:ext cx="6400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让我们不耐烦了，后来我们干脆不予理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752480" y="762120"/>
            <a:ext cx="6172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”、丈夫对待咪咪乔：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9T00:50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5:24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