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8.jpeg" ContentType="image/jpeg"/>
  <Override PartName="/ppt/media/image26.jpeg" ContentType="image/jpeg"/>
  <Override PartName="/ppt/media/image25.jpeg" ContentType="image/jpeg"/>
  <Override PartName="/ppt/media/image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E4FD-9FE6-448E-B2A0-1061DA9B6020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4641-508A-43BC-A617-40A9091CAC45}" type="slidenum">
              <a:rPr b="1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55B-05E3-48FD-AFEC-FA0F3E3D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8E85-909C-4AAF-A045-9DD32576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B2B-1CE3-482B-847B-1B9D2FC3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387-DC0B-45DA-8EB4-13A08682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9954-8466-4B91-B4F1-AEF9DEEF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3D06-D13D-4DDC-B0E8-1F1B4E10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62C1-1B75-4B87-9978-A62F913B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486E-4054-4751-B0CB-17A30ACA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D1D1-4C29-458B-B730-21F84465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B4E4-ED20-4B00-A074-67038585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F60A-BA37-44BA-B202-EC8F719D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D6BB-448A-43E5-8917-8FB84393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1357-AEEA-4316-BCCE-63622A0D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2407-518E-44D2-9C85-1BBB6B8E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6203-6775-4270-B2CA-D624A2D6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7A32-B96F-425D-9B3D-CA8ECA5E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F8DA-F638-4E43-A575-39B04724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ADD2-E9D5-428B-97B0-68A90300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68FC-F62F-480C-8999-27A45225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01C-91CC-409B-BEF8-B24F784C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E27D-FB00-4643-9373-057C1C31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B4E-2B96-4700-B342-9FFF27A0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2FBC-43D8-4630-A8D3-38585EA6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585-96C8-496D-954C-0A4A25C3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E081-1832-4BB0-BE5D-EBD2BDD74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5BC2-E604-4A71-B7F1-00F428B4C655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101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4583160" y="150804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多列尔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汤姆</a:t>
            </a: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684360" y="168120"/>
            <a:ext cx="5127480" cy="133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中宋"/>
              </a:rPr>
              <a:t>阳光下的皮肤</a:t>
            </a:r>
            <a:endParaRPr b="1" lang="en-US" sz="24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92" name="矩形 6" descr=""/>
          <p:cNvPicPr/>
          <p:nvPr/>
        </p:nvPicPr>
        <p:blipFill>
          <a:blip r:embed="rId4"/>
          <a:stretch/>
        </p:blipFill>
        <p:spPr>
          <a:xfrm>
            <a:off x="1428840" y="5875200"/>
            <a:ext cx="6402240" cy="560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AfricaFamine_08"/>
          <p:cNvPicPr/>
          <p:nvPr/>
        </p:nvPicPr>
        <p:blipFill>
          <a:blip r:embed="rId1"/>
          <a:stretch/>
        </p:blipFill>
        <p:spPr>
          <a:xfrm>
            <a:off x="3780000" y="0"/>
            <a:ext cx="5364000" cy="4105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AfricaFamine_27"/>
          <p:cNvPicPr/>
          <p:nvPr/>
        </p:nvPicPr>
        <p:blipFill>
          <a:blip r:embed="rId2"/>
          <a:stretch/>
        </p:blipFill>
        <p:spPr>
          <a:xfrm>
            <a:off x="0" y="0"/>
            <a:ext cx="3817800" cy="4149720"/>
          </a:xfrm>
          <a:prstGeom prst="rect">
            <a:avLst/>
          </a:prstGeom>
          <a:ln w="0">
            <a:noFill/>
          </a:ln>
        </p:spPr>
      </p:pic>
      <p:sp>
        <p:nvSpPr>
          <p:cNvPr id="124" name="WordArt 4"/>
          <p:cNvSpPr txBox="1"/>
          <p:nvPr/>
        </p:nvSpPr>
        <p:spPr>
          <a:xfrm>
            <a:off x="395280" y="5013360"/>
            <a:ext cx="3200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街头常见的暴乱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067280" y="4581360"/>
            <a:ext cx="47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右图是骚乱中汽车爆炸案的一幕，整个汽车已经被炸得粉碎。一个被炸伤半边脸庞的无辜孩子，一边痛哭一边却不忘安慰自己的父亲。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W020060321407397138736"/>
          <p:cNvPicPr/>
          <p:nvPr/>
        </p:nvPicPr>
        <p:blipFill>
          <a:blip r:embed="rId1"/>
          <a:stretch/>
        </p:blipFill>
        <p:spPr>
          <a:xfrm>
            <a:off x="0" y="0"/>
            <a:ext cx="4500720" cy="4292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W020060321407294785215"/>
          <p:cNvPicPr/>
          <p:nvPr/>
        </p:nvPicPr>
        <p:blipFill>
          <a:blip r:embed="rId2"/>
          <a:stretch/>
        </p:blipFill>
        <p:spPr>
          <a:xfrm>
            <a:off x="5364000" y="0"/>
            <a:ext cx="3780000" cy="4292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5038560" y="4508640"/>
            <a:ext cx="4105440" cy="45972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这是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005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年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日，一名无家可归的黑人男子在海滩钻进塑料袋里躲避飓风袭击。 </a:t>
            </a: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68360" y="4581360"/>
            <a:ext cx="4033800" cy="94716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这是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005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年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日，在一家酒吧外，几名白人警察殴打一名老年黑人男子。</a:t>
            </a:r>
            <a:endParaRPr b="1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" name="WordArt 6"/>
          <p:cNvSpPr txBox="1"/>
          <p:nvPr/>
        </p:nvSpPr>
        <p:spPr>
          <a:xfrm rot="5400000">
            <a:off x="3108240" y="1940040"/>
            <a:ext cx="36734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种族歧视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2009370437199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50560" y="260280"/>
            <a:ext cx="7272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非洲孩子桑巴哈对战争、贫穷的憎恨，对和平发展的渴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11280" y="1413000"/>
            <a:ext cx="756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课文中介绍的南非是新南非建立以前的南非，今天的南非人民靠着自己的努力，令世界刮目相看。</a:t>
            </a:r>
            <a:endParaRPr b="1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国家和民族是如此，对于一个人来说同样如此。如果你想获得他人的尊重，只有凭借自身的能力和实力，无论你拥有何种皮肤，如果你是一名强者，你就可以给你的皮肤涂上一层耀眼的色彩，在绿茵场上，贝利、罗纳尔多正凭借他们超众的球技，使人们忘记了他们的肤色，成为人们眼中完美的英雄。</a:t>
            </a:r>
            <a:endParaRPr b="1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还知道哪些黑人名人呢？</a:t>
            </a:r>
            <a:endParaRPr b="1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200812120652652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406440" y="263700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①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阳光下的皮肤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到底是什么意思？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②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能不能说所有人的皮肤都是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阳光下的皮     肤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？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" name="WordArt 3"/>
          <p:cNvSpPr txBox="1"/>
          <p:nvPr/>
        </p:nvSpPr>
        <p:spPr>
          <a:xfrm>
            <a:off x="2484360" y="1052640"/>
            <a:ext cx="3167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议和说</a:t>
            </a:r>
            <a:endParaRPr b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37" name="Picture 4" descr="小恐龙"/>
          <p:cNvPicPr/>
          <p:nvPr/>
        </p:nvPicPr>
        <p:blipFill>
          <a:blip r:embed="rId2"/>
          <a:stretch/>
        </p:blipFill>
        <p:spPr>
          <a:xfrm>
            <a:off x="395280" y="404640"/>
            <a:ext cx="1201680" cy="1621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20089281367531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3951360" y="548280"/>
            <a:ext cx="94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平等、尊严、和平、友好！</a:t>
            </a: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40" name="Picture 3" descr="12184137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39640" y="4149720"/>
            <a:ext cx="807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3399ff"/>
                </a:solidFill>
                <a:latin typeface="宋体"/>
              </a:rPr>
              <a:t>生活在同一个太阳下。愿我们都有一颗博爱和宽容之心，不同国家，不同地域，不同种族的人们紧密团结起来，高举民主、平等的旗帜，手拉手，心连心，共同创造一个美好和谐的大家庭。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42" name="Picture 3" descr="755262_500"/>
          <p:cNvPicPr/>
          <p:nvPr/>
        </p:nvPicPr>
        <p:blipFill>
          <a:blip r:embed="rId1"/>
          <a:stretch/>
        </p:blipFill>
        <p:spPr>
          <a:xfrm>
            <a:off x="0" y="0"/>
            <a:ext cx="9144000" cy="407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2009340453101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333000"/>
            <a:ext cx="83026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练习题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58560" y="134100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一写出下列词语的近义词或反义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近义词： 清晰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——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笔直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——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高达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____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洪亮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反义词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: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调皮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——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活跃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高大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——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洪亮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清晰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——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刮目相看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二  给下列加点字注音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感</a:t>
            </a:r>
            <a:r>
              <a:rPr b="0" i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慨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（     ）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噎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住（   ）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歧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视（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热泪盈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眶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（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201061184253846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250560" y="765000"/>
            <a:ext cx="830556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三、根据意思写词语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不能再用老眼光去看待。（    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真诚而坦率。（   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激动得眼泪充满了眼眶。（   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体谅他人体贴他人，很会换位思考。（ 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1B1E-131D-40D4-AE51-9953EEB48B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20085191743371884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69674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258920" y="1915200"/>
            <a:ext cx="690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幼圆"/>
                <a:ea typeface="幼圆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幼圆"/>
                <a:ea typeface="幼圆"/>
              </a:rPr>
              <a:t>自由、快速地去默读课文。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幼圆"/>
                <a:ea typeface="幼圆"/>
              </a:rPr>
              <a:t>思考：本文主要讲了一个什么故事？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幼圆"/>
                <a:ea typeface="幼圆"/>
              </a:rPr>
              <a:t>      </a:t>
            </a:r>
            <a:r>
              <a:rPr b="1" lang="zh-CN" sz="3200" spc="-1" strike="noStrike">
                <a:solidFill>
                  <a:srgbClr val="cc0066"/>
                </a:solidFill>
                <a:latin typeface="幼圆"/>
                <a:ea typeface="幼圆"/>
              </a:rPr>
              <a:t>表达了怎样的心声？</a:t>
            </a:r>
            <a:r>
              <a:rPr b="1" lang="zh-CN" sz="3200" spc="-1" strike="noStrike">
                <a:solidFill>
                  <a:srgbClr val="0033cc"/>
                </a:solidFill>
                <a:latin typeface="幼圆"/>
                <a:ea typeface="幼圆"/>
              </a:rPr>
              <a:t> 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116000" y="364500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讲述了一个国际少年班的学生渴望和平           的故事。</a:t>
            </a:r>
            <a:endParaRPr b="1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讲述了南非黑人求平等、求生存的心声。</a:t>
            </a:r>
            <a:endParaRPr b="1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6" name="Picture 4" descr="休息的小蜜蜂"/>
          <p:cNvPicPr/>
          <p:nvPr/>
        </p:nvPicPr>
        <p:blipFill>
          <a:blip r:embed="rId2"/>
          <a:stretch/>
        </p:blipFill>
        <p:spPr>
          <a:xfrm>
            <a:off x="0" y="4941720"/>
            <a:ext cx="2087640" cy="206244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1"/>
          <p:cNvSpPr/>
          <p:nvPr/>
        </p:nvSpPr>
        <p:spPr>
          <a:xfrm>
            <a:off x="828720" y="6172200"/>
            <a:ext cx="71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更多免费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PP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模板尽在：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http://www.eeppt.com</a:t>
            </a: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2010222206386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cc0066"/>
            </a:solidFill>
            <a:miter/>
          </a:ln>
        </p:spPr>
      </p:pic>
      <p:sp>
        <p:nvSpPr>
          <p:cNvPr id="99" name="WordArt 2"/>
          <p:cNvSpPr txBox="1"/>
          <p:nvPr/>
        </p:nvSpPr>
        <p:spPr>
          <a:xfrm>
            <a:off x="684360" y="2708280"/>
            <a:ext cx="698328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 </a:t>
            </a:r>
            <a:r>
              <a:rPr b="1" lang="zh-CN" sz="24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我们，是一个大家庭 ！</a:t>
            </a:r>
            <a:endParaRPr b="1" lang="en-US" sz="24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667480" y="4024440"/>
            <a:ext cx="3476520" cy="2833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1332000" y="1557360"/>
            <a:ext cx="60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这个国际少年班的老师是谁？她常说的一句话是什么？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332000" y="45813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cc"/>
                </a:solidFill>
                <a:latin typeface="Times New Roman"/>
              </a:rPr>
              <a:t>莱斯小姐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20091111224059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"/>
          <p:cNvSpPr/>
          <p:nvPr/>
        </p:nvSpPr>
        <p:spPr>
          <a:xfrm>
            <a:off x="1763640" y="333360"/>
            <a:ext cx="738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各个国家的同学在利用口语来展示自己国家的风采时，你认为：</a:t>
            </a:r>
            <a:endParaRPr b="1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）哪个国家的同学介绍得好？你为什么欣赏他的介绍呢？</a:t>
            </a:r>
            <a:endParaRPr b="1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）哪一个国家的学生介绍得最精彩？最形象？</a:t>
            </a:r>
            <a:endParaRPr b="1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在口语交际中，新加坡的李德远和韩国来的金顺玉的对话是什么意思？（能否表演一番）他们好像伤害到了彼此，你从中得到了哪些关于说话的技巧呢？</a:t>
            </a:r>
            <a:endParaRPr b="1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8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6" name="Picture 4" descr="f2c05d378c9ae8f2a2cc2b4b"/>
          <p:cNvPicPr/>
          <p:nvPr/>
        </p:nvPicPr>
        <p:blipFill>
          <a:blip r:embed="rId1"/>
          <a:stretch/>
        </p:blipFill>
        <p:spPr>
          <a:xfrm>
            <a:off x="0" y="3240"/>
            <a:ext cx="9325080" cy="6854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250920" y="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我们是个大家庭</a:t>
            </a:r>
            <a:endParaRPr b="1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0" y="620640"/>
            <a:ext cx="49687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荷兰 </a:t>
            </a: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美国 </a:t>
            </a: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日本</a:t>
            </a: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法国 </a:t>
            </a: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德国 </a:t>
            </a: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新加坡 </a:t>
            </a: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韩国  </a:t>
            </a: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俄罗斯  </a:t>
            </a: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中国  </a:t>
            </a: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南非</a:t>
            </a: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419640" y="18900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你能想象小朋友在介绍自己国家时的心情吗？</a:t>
            </a: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2008121502418897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可是，在这个国际班里，南非孩子该怎样介绍他的国家呢？精读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6—2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自然段，你从中体会到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20094701839448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2578680" y="1340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南非孩子 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39640" y="234936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我的心突然紧张了起来，从一开始，我就在考虑，该如何介绍我的南非呢？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1255680" cy="1423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755640" y="3789360"/>
            <a:ext cx="48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非洲孩子桑巴哈：     </a:t>
            </a: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   “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我们还很落后，缺水，奇缺！还有战争！”</a:t>
            </a: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201047215154601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"/>
          <p:cNvSpPr/>
          <p:nvPr/>
        </p:nvSpPr>
        <p:spPr>
          <a:xfrm>
            <a:off x="1008000" y="1125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“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我们的国家，很美。但还有问题，比如有暴乱，还有种族歧视。前不久，我和母亲上公园，一不小心，我踩了一位白人的脚。他骂我‘黑鬼’，是‘猪’！我真想狠狠揍他，可我咬咬牙，忍住了。因为他和我是一个国家的公民。我想他有一天会醒悟。我是黑皮肤，我也想像一切美丽的国家美丽的公民一样，高昂着头自由地生活。母亲告诉我说，南非人也是很美的。我们是黑皮肤，可它也是阳光下的肤色！” 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6bf0782c75c5afef8a139925"/>
          <p:cNvPicPr/>
          <p:nvPr/>
        </p:nvPicPr>
        <p:blipFill>
          <a:blip r:embed="rId1"/>
          <a:stretch/>
        </p:blipFill>
        <p:spPr>
          <a:xfrm>
            <a:off x="0" y="0"/>
            <a:ext cx="7093080" cy="5445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395280" y="544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自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世纪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0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年代以来，非洲少雨，连年干旱，成千上万的人民在饥饿中、在瘟疫中备受折磨而走向死亡。 </a:t>
            </a: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" name="WordArt 4"/>
          <p:cNvSpPr txBox="1"/>
          <p:nvPr/>
        </p:nvSpPr>
        <p:spPr>
          <a:xfrm rot="5400000">
            <a:off x="5808240" y="2263680"/>
            <a:ext cx="3816360" cy="530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33cc"/>
                  </a:solidFill>
                  <a:round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贫穷干旱的南非</a:t>
            </a:r>
            <a:endParaRPr b="1" i="1" lang="en-US" sz="2400" spc="1" strike="noStrike">
              <a:ln w="9360">
                <a:solidFill>
                  <a:srgbClr val="0033cc"/>
                </a:solidFill>
                <a:round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1:47:0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8:33Z</dcterms:modified>
  <cp:revision>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NXTAG2">
    <vt:lpwstr>000800dc03000000000001024120</vt:lpwstr>
  </property>
</Properties>
</file>