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jpeg" ContentType="image/jpeg"/>
  <Override PartName="/ppt/media/image32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CDD6-D51C-4391-86B9-9496DFD226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64B5-AFCB-46A2-84CB-A9F8476CD328}" type="slidenum">
              <a:rPr b="0" lang="zh-CN" sz="12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25E-A130-468F-AC01-F768B3D7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4D4-3EAC-46F4-97DA-21CEE2F8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473-FCA1-4DD1-9BF5-459DDAF8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BC0-944C-4316-A4B7-A79EEA4E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04F-1C6D-4317-8A85-2913AEFF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830-DA70-4EF6-B286-55AC36AA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65C-75BB-4268-89F1-EA009C23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AA0-27AF-4456-AD67-BA42D6DE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B1A-E4B9-41CC-84AC-EE1183BF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A5A-CD54-4710-B5A4-00548FF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15E-6753-4931-BBE4-A6F62324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B7A-D1CE-4380-A3E5-75745AB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509D-5AC0-4BFF-B112-606C4AA6A7B4}" type="slidenum">
              <a:rPr b="0" lang="en-US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yh_shao.exe" TargetMode="External"/><Relationship Id="rId2" Type="http://schemas.openxmlformats.org/officeDocument/2006/relationships/hyperlink" Target="file:///yh_chi.exe" TargetMode="External"/><Relationship Id="rId3" Type="http://schemas.openxmlformats.org/officeDocument/2006/relationships/hyperlink" Target="file:///yh_jin.exe" TargetMode="External"/><Relationship Id="rId4" Type="http://schemas.openxmlformats.org/officeDocument/2006/relationships/hyperlink" Target="file:///yh_mei.exe" TargetMode="External"/><Relationship Id="rId5" Type="http://schemas.openxmlformats.org/officeDocument/2006/relationships/hyperlink" Target="file:///yh_pai.exe" TargetMode="External"/><Relationship Id="rId6" Type="http://schemas.openxmlformats.org/officeDocument/2006/relationships/hyperlink" Target="file:///yh_she.exe" TargetMode="External"/><Relationship Id="rId7" Type="http://schemas.openxmlformats.org/officeDocument/2006/relationships/hyperlink" Target="file:///yh_fen.exe" TargetMode="External"/><Relationship Id="rId8" Type="http://schemas.openxmlformats.org/officeDocument/2006/relationships/hyperlink" Target="file:///yh_duan.exe" TargetMode="External"/><Relationship Id="rId9" Type="http://schemas.openxmlformats.org/officeDocument/2006/relationships/hyperlink" Target="file:///yh_cu.exe" TargetMode="External"/><Relationship Id="rId10" Type="http://schemas.openxmlformats.org/officeDocument/2006/relationships/hyperlink" Target="file:///yh_yao.exe" TargetMode="External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xxyw.cn/ebook/4/images/034_JPG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xxyw.cn/ebook/4/images/035_JPG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1871280" y="5291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a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a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3430800" y="170028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7400"/>
                </a:solidFill>
                <a:latin typeface="华文中宋"/>
                <a:ea typeface="华文中宋"/>
              </a:rPr>
              <a:t>雨后</a:t>
            </a:r>
            <a:endParaRPr b="0" lang="en-US" sz="115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juē        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biàn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小妹妹</a:t>
            </a:r>
            <a:r>
              <a:rPr b="1" lang="zh-CN" sz="3200" spc="-1" strike="noStrike">
                <a:solidFill>
                  <a:srgbClr val="661b0e"/>
                </a:solidFill>
                <a:latin typeface="Times New Roman"/>
              </a:rPr>
              <a:t>撅着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两条短粗的小辫，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jǐn       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kù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紧紧跟在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泥裤子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后面，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227640" y="4005360"/>
            <a:ext cx="1343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yu7"/>
          <p:cNvPicPr/>
          <p:nvPr/>
        </p:nvPicPr>
        <p:blipFill>
          <a:blip r:embed="rId1"/>
          <a:stretch/>
        </p:blipFill>
        <p:spPr>
          <a:xfrm>
            <a:off x="3809880" y="3338640"/>
            <a:ext cx="4724640" cy="303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yu10"/>
          <p:cNvPicPr/>
          <p:nvPr/>
        </p:nvPicPr>
        <p:blipFill>
          <a:blip r:embed="rId2"/>
          <a:stretch/>
        </p:blipFill>
        <p:spPr>
          <a:xfrm>
            <a:off x="450720" y="914400"/>
            <a:ext cx="3257640" cy="5114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yu12"/>
          <p:cNvPicPr/>
          <p:nvPr/>
        </p:nvPicPr>
        <p:blipFill>
          <a:blip r:embed="rId3"/>
          <a:stretch/>
        </p:blipFill>
        <p:spPr>
          <a:xfrm>
            <a:off x="3809880" y="260280"/>
            <a:ext cx="4724640" cy="30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小学语文（散文）02-1"/>
          <p:cNvPicPr/>
          <p:nvPr/>
        </p:nvPicPr>
        <p:blipFill>
          <a:blip r:embed="rId1"/>
          <a:stretch/>
        </p:blipFill>
        <p:spPr>
          <a:xfrm>
            <a:off x="1187280" y="1012680"/>
            <a:ext cx="1730520" cy="471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3708360" y="1557360"/>
            <a:ext cx="23036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雨后的叶子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6" name="Picture 12" descr="雨后的叶子"/>
          <p:cNvPicPr/>
          <p:nvPr/>
        </p:nvPicPr>
        <p:blipFill>
          <a:blip r:embed="rId2"/>
          <a:stretch/>
        </p:blipFill>
        <p:spPr>
          <a:xfrm>
            <a:off x="2124000" y="2349360"/>
            <a:ext cx="5113440" cy="383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小学语文（散文）02-1"/>
          <p:cNvPicPr/>
          <p:nvPr/>
        </p:nvPicPr>
        <p:blipFill>
          <a:blip r:embed="rId1"/>
          <a:stretch/>
        </p:blipFill>
        <p:spPr>
          <a:xfrm>
            <a:off x="1187280" y="1012680"/>
            <a:ext cx="1730520" cy="471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81440" y="1628640"/>
            <a:ext cx="23032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雨后的校园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9" name="Picture 6" descr="初夏雨后的校园"/>
          <p:cNvPicPr/>
          <p:nvPr/>
        </p:nvPicPr>
        <p:blipFill>
          <a:blip r:embed="rId2"/>
          <a:stretch/>
        </p:blipFill>
        <p:spPr>
          <a:xfrm>
            <a:off x="1908000" y="2421000"/>
            <a:ext cx="532800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学语文（散文）02-1"/>
          <p:cNvPicPr/>
          <p:nvPr/>
        </p:nvPicPr>
        <p:blipFill>
          <a:blip r:embed="rId1"/>
          <a:stretch/>
        </p:blipFill>
        <p:spPr>
          <a:xfrm>
            <a:off x="1187280" y="1012680"/>
            <a:ext cx="1730520" cy="471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781440" y="1628640"/>
            <a:ext cx="23032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雨后彩虹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92" name="Picture 5" descr="雨后彩虹"/>
          <p:cNvPicPr/>
          <p:nvPr/>
        </p:nvPicPr>
        <p:blipFill>
          <a:blip r:embed="rId2"/>
          <a:stretch/>
        </p:blipFill>
        <p:spPr>
          <a:xfrm>
            <a:off x="1908000" y="2421000"/>
            <a:ext cx="53294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孩子们有的</a:t>
            </a:r>
            <a:r>
              <a:rPr b="0" lang="zh-CN" sz="3200" spc="-1" strike="noStrike" u="sng">
                <a:solidFill>
                  <a:srgbClr val="007400"/>
                </a:solidFill>
                <a:uFillTx/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 ，有的</a:t>
            </a:r>
            <a:r>
              <a:rPr b="0" lang="zh-CN" sz="3200" spc="-1" strike="noStrike" u="sng">
                <a:solidFill>
                  <a:srgbClr val="007400"/>
                </a:solidFill>
                <a:uFillTx/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还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有的</a:t>
            </a:r>
            <a:r>
              <a:rPr b="0" lang="zh-CN" sz="3200" spc="-1" strike="noStrike" u="sng">
                <a:solidFill>
                  <a:srgbClr val="007400"/>
                </a:solidFill>
                <a:uFillTx/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。            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482560" y="981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400"/>
                </a:solidFill>
                <a:latin typeface="Arial"/>
                <a:ea typeface="楷体_GB2312"/>
              </a:rPr>
              <a:t>快快乐乐学词语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131280" y="170028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洋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17440" y="167652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赤</a:t>
            </a: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脚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629400" y="1676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妹妹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20560" y="281952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滑</a:t>
            </a: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了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跤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724280" y="2819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踩</a:t>
            </a: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着水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629400" y="2819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泥</a:t>
            </a: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土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040920" y="373392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裤</a:t>
            </a: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子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72428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射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6629400" y="3733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奋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8954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骄傲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648320" y="4724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两</a:t>
            </a: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条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662940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长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短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939480" y="553068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唇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5860440" y="548640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痛</a:t>
            </a:r>
            <a:r>
              <a:rPr b="1" lang="zh-CN" sz="2800" spc="-1" strike="noStrike">
                <a:solidFill>
                  <a:srgbClr val="007400"/>
                </a:solidFill>
                <a:latin typeface="Arial"/>
                <a:ea typeface="楷体_GB2312"/>
              </a:rPr>
              <a:t>快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小学语文（散文）02-1"/>
          <p:cNvPicPr/>
          <p:nvPr/>
        </p:nvPicPr>
        <p:blipFill>
          <a:blip r:embed="rId1"/>
          <a:stretch/>
        </p:blipFill>
        <p:spPr>
          <a:xfrm>
            <a:off x="1187280" y="1012680"/>
            <a:ext cx="1730520" cy="47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雨后的广场"/>
          <p:cNvPicPr/>
          <p:nvPr/>
        </p:nvPicPr>
        <p:blipFill>
          <a:blip r:embed="rId2"/>
          <a:stretch/>
        </p:blipFill>
        <p:spPr>
          <a:xfrm>
            <a:off x="2484360" y="1700280"/>
            <a:ext cx="3600360" cy="4549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481040" y="2482200"/>
            <a:ext cx="5763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雨后的广场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372360" y="2565360"/>
            <a:ext cx="1944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们想去雨后的广场看看、玩玩吗？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8"/>
          <p:cNvSpPr/>
          <p:nvPr/>
        </p:nvSpPr>
        <p:spPr>
          <a:xfrm>
            <a:off x="1619280" y="1700280"/>
            <a:ext cx="5905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听课文朗读，把不认识的字画出来，借助拼音读准确。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14" name="Picture 10" descr="小学语文（散文）02-2"/>
          <p:cNvPicPr/>
          <p:nvPr/>
        </p:nvPicPr>
        <p:blipFill>
          <a:blip r:embed="rId1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sound"/>
          <p:cNvPicPr/>
          <p:nvPr/>
        </p:nvPicPr>
        <p:blipFill>
          <a:blip r:embed="rId2"/>
          <a:stretch/>
        </p:blipFill>
        <p:spPr>
          <a:xfrm>
            <a:off x="7667640" y="1844640"/>
            <a:ext cx="639720" cy="582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课文插图"/>
          <p:cNvPicPr/>
          <p:nvPr/>
        </p:nvPicPr>
        <p:blipFill>
          <a:blip r:embed="rId3"/>
          <a:stretch/>
        </p:blipFill>
        <p:spPr>
          <a:xfrm>
            <a:off x="2050920" y="2852640"/>
            <a:ext cx="51850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27"/>
          <p:cNvSpPr/>
          <p:nvPr/>
        </p:nvSpPr>
        <p:spPr>
          <a:xfrm>
            <a:off x="2050920" y="2997360"/>
            <a:ext cx="619308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                            </a:t>
            </a:r>
            <a:r>
              <a:rPr b="1" lang="en-US" sz="2600" spc="-1" strike="noStrike">
                <a:solidFill>
                  <a:srgbClr val="3333cc"/>
                </a:solidFill>
                <a:latin typeface="宋体"/>
              </a:rPr>
              <a:t>biàn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1"/>
              </a:rPr>
              <a:t>梢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2"/>
              </a:rPr>
              <a:t>赤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脚  使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3"/>
              </a:rPr>
              <a:t>劲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4"/>
              </a:rPr>
              <a:t>妹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妹  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5"/>
              </a:rPr>
              <a:t>拍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拍  小 辫 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                       </a:t>
            </a:r>
            <a:r>
              <a:rPr b="1" lang="en-US" sz="2600" spc="-1" strike="noStrike">
                <a:solidFill>
                  <a:srgbClr val="3333cc"/>
                </a:solidFill>
                <a:latin typeface="宋体"/>
              </a:rPr>
              <a:t>zāo</a:t>
            </a:r>
            <a:r>
              <a:rPr b="1" lang="en-US" sz="2400" spc="-1" strike="noStrike">
                <a:solidFill>
                  <a:srgbClr val="3333cc"/>
                </a:solidFill>
                <a:latin typeface="Century Gothic"/>
              </a:rPr>
              <a:t>g</a:t>
            </a:r>
            <a:r>
              <a:rPr b="1" lang="en-US" sz="2600" spc="-1" strike="noStrike">
                <a:solidFill>
                  <a:srgbClr val="3333cc"/>
                </a:solidFill>
                <a:latin typeface="宋体"/>
              </a:rPr>
              <a:t>āo chún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发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6"/>
              </a:rPr>
              <a:t>射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兴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7"/>
              </a:rPr>
              <a:t>奋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8"/>
              </a:rPr>
              <a:t>短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9"/>
              </a:rPr>
              <a:t>粗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10"/>
              </a:rPr>
              <a:t>咬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着 糟 糕   唇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18" name="Picture 1033" descr="小学语文（散文）02-2"/>
          <p:cNvPicPr/>
          <p:nvPr/>
        </p:nvPicPr>
        <p:blipFill>
          <a:blip r:embed="rId11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35"/>
          <p:cNvSpPr/>
          <p:nvPr/>
        </p:nvSpPr>
        <p:spPr>
          <a:xfrm>
            <a:off x="1979640" y="1916280"/>
            <a:ext cx="54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认一认，读一读，写一写。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0920" y="1916280"/>
            <a:ext cx="842472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小朋友，你都听到哪些动物的叫声？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请用：我听到</a:t>
            </a:r>
            <a:r>
              <a:rPr b="0" lang="zh-CN" sz="3200" spc="-1" strike="noStrike" u="sng">
                <a:solidFill>
                  <a:srgbClr val="007400"/>
                </a:solidFill>
                <a:uFillTx/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（动物）在</a:t>
            </a:r>
            <a:r>
              <a:rPr b="0" lang="zh-CN" sz="3200" spc="-1" strike="noStrike" u="sng">
                <a:solidFill>
                  <a:srgbClr val="007400"/>
                </a:solidFill>
                <a:uFillTx/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7400"/>
                </a:solidFill>
                <a:latin typeface="Times New Roman"/>
              </a:rPr>
              <a:t>地叫</a:t>
            </a:r>
            <a:r>
              <a:rPr b="0" lang="zh-CN" sz="3200" spc="-1" strike="noStrike" u="sng">
                <a:solidFill>
                  <a:srgbClr val="0074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赤脚      树梢      使劲       妹妹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发射      兴奋      嫩绿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糟糕      踩脚      溅起       孩子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广场      神仙      快乐       欢喜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希望      撅嘴      骄傲       摔跤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短粗的小辫          咬着唇儿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21" name="Ink 5" descr=""/>
          <p:cNvPicPr/>
          <p:nvPr/>
        </p:nvPicPr>
        <p:blipFill>
          <a:blip r:embed="rId1"/>
          <a:stretch/>
        </p:blipFill>
        <p:spPr>
          <a:xfrm>
            <a:off x="968400" y="2467080"/>
            <a:ext cx="5472000" cy="1807920"/>
          </a:xfrm>
          <a:prstGeom prst="rect">
            <a:avLst/>
          </a:prstGeom>
          <a:ln w="0">
            <a:noFill/>
          </a:ln>
        </p:spPr>
      </p:pic>
      <p:pic>
        <p:nvPicPr>
          <p:cNvPr id="122" name="Ink 6" descr=""/>
          <p:cNvPicPr/>
          <p:nvPr/>
        </p:nvPicPr>
        <p:blipFill>
          <a:blip r:embed="rId2"/>
          <a:stretch/>
        </p:blipFill>
        <p:spPr>
          <a:xfrm>
            <a:off x="1003320" y="3648240"/>
            <a:ext cx="5327640" cy="1884240"/>
          </a:xfrm>
          <a:prstGeom prst="rect">
            <a:avLst/>
          </a:prstGeom>
          <a:ln w="0">
            <a:noFill/>
          </a:ln>
        </p:spPr>
      </p:pic>
      <p:pic>
        <p:nvPicPr>
          <p:cNvPr id="123" name="Ink 7" descr=""/>
          <p:cNvPicPr/>
          <p:nvPr/>
        </p:nvPicPr>
        <p:blipFill>
          <a:blip r:embed="rId3"/>
          <a:stretch/>
        </p:blipFill>
        <p:spPr>
          <a:xfrm>
            <a:off x="8264520" y="4384800"/>
            <a:ext cx="33480" cy="33120"/>
          </a:xfrm>
          <a:prstGeom prst="rect">
            <a:avLst/>
          </a:prstGeom>
          <a:ln w="0">
            <a:noFill/>
          </a:ln>
        </p:spPr>
      </p:pic>
      <p:pic>
        <p:nvPicPr>
          <p:cNvPr id="124" name="Ink 8" descr=""/>
          <p:cNvPicPr/>
          <p:nvPr/>
        </p:nvPicPr>
        <p:blipFill>
          <a:blip r:embed="rId4"/>
          <a:stretch/>
        </p:blipFill>
        <p:spPr>
          <a:xfrm>
            <a:off x="1074600" y="4210200"/>
            <a:ext cx="901800" cy="117360"/>
          </a:xfrm>
          <a:prstGeom prst="rect">
            <a:avLst/>
          </a:prstGeom>
          <a:ln w="0">
            <a:noFill/>
          </a:ln>
        </p:spPr>
      </p:pic>
      <p:pic>
        <p:nvPicPr>
          <p:cNvPr id="125" name="Ink 9" descr=""/>
          <p:cNvPicPr/>
          <p:nvPr/>
        </p:nvPicPr>
        <p:blipFill>
          <a:blip r:embed="rId5"/>
          <a:stretch/>
        </p:blipFill>
        <p:spPr>
          <a:xfrm>
            <a:off x="4154400" y="4226040"/>
            <a:ext cx="592200" cy="42840"/>
          </a:xfrm>
          <a:prstGeom prst="rect">
            <a:avLst/>
          </a:prstGeom>
          <a:ln w="0">
            <a:noFill/>
          </a:ln>
        </p:spPr>
      </p:pic>
      <p:pic>
        <p:nvPicPr>
          <p:cNvPr id="126" name="Ink 10" descr=""/>
          <p:cNvPicPr/>
          <p:nvPr/>
        </p:nvPicPr>
        <p:blipFill>
          <a:blip r:embed="rId6"/>
          <a:stretch/>
        </p:blipFill>
        <p:spPr>
          <a:xfrm>
            <a:off x="5581800" y="4232160"/>
            <a:ext cx="879480" cy="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2028960" y="836640"/>
            <a:ext cx="4343400" cy="4494960"/>
            <a:chOff x="2028960" y="836640"/>
            <a:chExt cx="4343400" cy="4494960"/>
          </a:xfrm>
        </p:grpSpPr>
        <p:grpSp>
          <p:nvGrpSpPr>
            <p:cNvPr id="130" name="Group 5"/>
            <p:cNvGrpSpPr/>
            <p:nvPr/>
          </p:nvGrpSpPr>
          <p:grpSpPr>
            <a:xfrm>
              <a:off x="2028960" y="1068840"/>
              <a:ext cx="4343400" cy="4262760"/>
              <a:chOff x="2028960" y="1068840"/>
              <a:chExt cx="4343400" cy="4262760"/>
            </a:xfrm>
          </p:grpSpPr>
          <p:sp>
            <p:nvSpPr>
              <p:cNvPr id="131" name="Rectangle 6"/>
              <p:cNvSpPr/>
              <p:nvPr/>
            </p:nvSpPr>
            <p:spPr>
              <a:xfrm>
                <a:off x="2028960" y="1068840"/>
                <a:ext cx="4343400" cy="4262760"/>
              </a:xfrm>
              <a:prstGeom prst="rect">
                <a:avLst/>
              </a:prstGeom>
              <a:solidFill>
                <a:srgbClr val="ffffff"/>
              </a:solidFill>
              <a:ln w="41400">
                <a:solidFill>
                  <a:srgbClr val="007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32" name="Line 7"/>
              <p:cNvSpPr/>
              <p:nvPr/>
            </p:nvSpPr>
            <p:spPr>
              <a:xfrm>
                <a:off x="2028960" y="3238920"/>
                <a:ext cx="4343400" cy="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33" name="Line 8"/>
              <p:cNvSpPr/>
              <p:nvPr/>
            </p:nvSpPr>
            <p:spPr>
              <a:xfrm>
                <a:off x="4200480" y="1068840"/>
                <a:ext cx="0" cy="426276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Text Box 9"/>
            <p:cNvSpPr/>
            <p:nvPr/>
          </p:nvSpPr>
          <p:spPr>
            <a:xfrm>
              <a:off x="2463120" y="836640"/>
              <a:ext cx="3764160" cy="43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赤</a:t>
              </a:r>
              <a:endParaRPr b="0" lang="en-US" sz="28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2028960" y="836640"/>
            <a:ext cx="4343400" cy="4494960"/>
            <a:chOff x="2028960" y="836640"/>
            <a:chExt cx="4343400" cy="4494960"/>
          </a:xfrm>
        </p:grpSpPr>
        <p:grpSp>
          <p:nvGrpSpPr>
            <p:cNvPr id="138" name="Group 5"/>
            <p:cNvGrpSpPr/>
            <p:nvPr/>
          </p:nvGrpSpPr>
          <p:grpSpPr>
            <a:xfrm>
              <a:off x="2028960" y="1068840"/>
              <a:ext cx="4343400" cy="4262760"/>
              <a:chOff x="2028960" y="1068840"/>
              <a:chExt cx="4343400" cy="4262760"/>
            </a:xfrm>
          </p:grpSpPr>
          <p:sp>
            <p:nvSpPr>
              <p:cNvPr id="139" name="Rectangle 6"/>
              <p:cNvSpPr/>
              <p:nvPr/>
            </p:nvSpPr>
            <p:spPr>
              <a:xfrm>
                <a:off x="2028960" y="1068840"/>
                <a:ext cx="4343400" cy="4262760"/>
              </a:xfrm>
              <a:prstGeom prst="rect">
                <a:avLst/>
              </a:prstGeom>
              <a:solidFill>
                <a:srgbClr val="ffffff"/>
              </a:solidFill>
              <a:ln w="41400">
                <a:solidFill>
                  <a:srgbClr val="007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40" name="Line 7"/>
              <p:cNvSpPr/>
              <p:nvPr/>
            </p:nvSpPr>
            <p:spPr>
              <a:xfrm>
                <a:off x="2028960" y="3238920"/>
                <a:ext cx="4343400" cy="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41" name="Line 8"/>
              <p:cNvSpPr/>
              <p:nvPr/>
            </p:nvSpPr>
            <p:spPr>
              <a:xfrm>
                <a:off x="4200480" y="1068840"/>
                <a:ext cx="0" cy="426276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Text Box 9"/>
            <p:cNvSpPr/>
            <p:nvPr/>
          </p:nvSpPr>
          <p:spPr>
            <a:xfrm>
              <a:off x="2463120" y="836640"/>
              <a:ext cx="3764160" cy="43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劲</a:t>
              </a:r>
              <a:endParaRPr b="0" lang="en-US" sz="28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2028960" y="836640"/>
            <a:ext cx="4343400" cy="4494960"/>
            <a:chOff x="2028960" y="836640"/>
            <a:chExt cx="4343400" cy="4494960"/>
          </a:xfrm>
        </p:grpSpPr>
        <p:grpSp>
          <p:nvGrpSpPr>
            <p:cNvPr id="146" name="Group 5"/>
            <p:cNvGrpSpPr/>
            <p:nvPr/>
          </p:nvGrpSpPr>
          <p:grpSpPr>
            <a:xfrm>
              <a:off x="2028960" y="1068840"/>
              <a:ext cx="4343400" cy="4262760"/>
              <a:chOff x="2028960" y="1068840"/>
              <a:chExt cx="4343400" cy="4262760"/>
            </a:xfrm>
          </p:grpSpPr>
          <p:sp>
            <p:nvSpPr>
              <p:cNvPr id="147" name="Rectangle 6"/>
              <p:cNvSpPr/>
              <p:nvPr/>
            </p:nvSpPr>
            <p:spPr>
              <a:xfrm>
                <a:off x="2028960" y="1068840"/>
                <a:ext cx="4343400" cy="4262760"/>
              </a:xfrm>
              <a:prstGeom prst="rect">
                <a:avLst/>
              </a:prstGeom>
              <a:solidFill>
                <a:srgbClr val="ffffff"/>
              </a:solidFill>
              <a:ln w="41400">
                <a:solidFill>
                  <a:srgbClr val="007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48" name="Line 7"/>
              <p:cNvSpPr/>
              <p:nvPr/>
            </p:nvSpPr>
            <p:spPr>
              <a:xfrm>
                <a:off x="2028960" y="3238920"/>
                <a:ext cx="4343400" cy="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4200480" y="1068840"/>
                <a:ext cx="0" cy="426276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Text Box 9"/>
            <p:cNvSpPr/>
            <p:nvPr/>
          </p:nvSpPr>
          <p:spPr>
            <a:xfrm>
              <a:off x="2463120" y="836640"/>
              <a:ext cx="3764160" cy="43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妹</a:t>
              </a:r>
              <a:endParaRPr b="0" lang="en-US" sz="28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2028960" y="836640"/>
            <a:ext cx="4343400" cy="4494960"/>
            <a:chOff x="2028960" y="836640"/>
            <a:chExt cx="4343400" cy="4494960"/>
          </a:xfrm>
        </p:grpSpPr>
        <p:grpSp>
          <p:nvGrpSpPr>
            <p:cNvPr id="154" name="Group 5"/>
            <p:cNvGrpSpPr/>
            <p:nvPr/>
          </p:nvGrpSpPr>
          <p:grpSpPr>
            <a:xfrm>
              <a:off x="2028960" y="1068840"/>
              <a:ext cx="4343400" cy="4262760"/>
              <a:chOff x="2028960" y="1068840"/>
              <a:chExt cx="4343400" cy="4262760"/>
            </a:xfrm>
          </p:grpSpPr>
          <p:sp>
            <p:nvSpPr>
              <p:cNvPr id="155" name="Rectangle 6"/>
              <p:cNvSpPr/>
              <p:nvPr/>
            </p:nvSpPr>
            <p:spPr>
              <a:xfrm>
                <a:off x="2028960" y="1068840"/>
                <a:ext cx="4343400" cy="4262760"/>
              </a:xfrm>
              <a:prstGeom prst="rect">
                <a:avLst/>
              </a:prstGeom>
              <a:solidFill>
                <a:srgbClr val="ffffff"/>
              </a:solidFill>
              <a:ln w="41400">
                <a:solidFill>
                  <a:srgbClr val="007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56" name="Line 7"/>
              <p:cNvSpPr/>
              <p:nvPr/>
            </p:nvSpPr>
            <p:spPr>
              <a:xfrm>
                <a:off x="2028960" y="3238920"/>
                <a:ext cx="4343400" cy="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57" name="Line 8"/>
              <p:cNvSpPr/>
              <p:nvPr/>
            </p:nvSpPr>
            <p:spPr>
              <a:xfrm>
                <a:off x="4200480" y="1068840"/>
                <a:ext cx="0" cy="426276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9"/>
            <p:cNvSpPr/>
            <p:nvPr/>
          </p:nvSpPr>
          <p:spPr>
            <a:xfrm>
              <a:off x="2463120" y="836640"/>
              <a:ext cx="3764160" cy="43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射</a:t>
              </a:r>
              <a:endParaRPr b="0" lang="en-US" sz="28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028960" y="836640"/>
            <a:ext cx="4343400" cy="4494960"/>
            <a:chOff x="2028960" y="836640"/>
            <a:chExt cx="4343400" cy="4494960"/>
          </a:xfrm>
        </p:grpSpPr>
        <p:grpSp>
          <p:nvGrpSpPr>
            <p:cNvPr id="162" name="Group 5"/>
            <p:cNvGrpSpPr/>
            <p:nvPr/>
          </p:nvGrpSpPr>
          <p:grpSpPr>
            <a:xfrm>
              <a:off x="2028960" y="1068840"/>
              <a:ext cx="4343400" cy="4262760"/>
              <a:chOff x="2028960" y="1068840"/>
              <a:chExt cx="4343400" cy="4262760"/>
            </a:xfrm>
          </p:grpSpPr>
          <p:sp>
            <p:nvSpPr>
              <p:cNvPr id="163" name="Rectangle 6"/>
              <p:cNvSpPr/>
              <p:nvPr/>
            </p:nvSpPr>
            <p:spPr>
              <a:xfrm>
                <a:off x="2028960" y="1068840"/>
                <a:ext cx="4343400" cy="4262760"/>
              </a:xfrm>
              <a:prstGeom prst="rect">
                <a:avLst/>
              </a:prstGeom>
              <a:solidFill>
                <a:srgbClr val="ffffff"/>
              </a:solidFill>
              <a:ln w="41400">
                <a:solidFill>
                  <a:srgbClr val="007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028960" y="3238920"/>
                <a:ext cx="4343400" cy="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4200480" y="1068840"/>
                <a:ext cx="0" cy="426276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9"/>
            <p:cNvSpPr/>
            <p:nvPr/>
          </p:nvSpPr>
          <p:spPr>
            <a:xfrm>
              <a:off x="2463120" y="836640"/>
              <a:ext cx="3764160" cy="43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奋</a:t>
              </a:r>
              <a:endParaRPr b="0" lang="en-US" sz="28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2028960" y="836640"/>
            <a:ext cx="4343400" cy="4494960"/>
            <a:chOff x="2028960" y="836640"/>
            <a:chExt cx="4343400" cy="4494960"/>
          </a:xfrm>
        </p:grpSpPr>
        <p:grpSp>
          <p:nvGrpSpPr>
            <p:cNvPr id="170" name="Group 5"/>
            <p:cNvGrpSpPr/>
            <p:nvPr/>
          </p:nvGrpSpPr>
          <p:grpSpPr>
            <a:xfrm>
              <a:off x="2028960" y="1068840"/>
              <a:ext cx="4343400" cy="4262760"/>
              <a:chOff x="2028960" y="1068840"/>
              <a:chExt cx="4343400" cy="4262760"/>
            </a:xfrm>
          </p:grpSpPr>
          <p:sp>
            <p:nvSpPr>
              <p:cNvPr id="171" name="Rectangle 6"/>
              <p:cNvSpPr/>
              <p:nvPr/>
            </p:nvSpPr>
            <p:spPr>
              <a:xfrm>
                <a:off x="2028960" y="1068840"/>
                <a:ext cx="4343400" cy="4262760"/>
              </a:xfrm>
              <a:prstGeom prst="rect">
                <a:avLst/>
              </a:prstGeom>
              <a:solidFill>
                <a:srgbClr val="ffffff"/>
              </a:solidFill>
              <a:ln w="41400">
                <a:solidFill>
                  <a:srgbClr val="007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72" name="Line 7"/>
              <p:cNvSpPr/>
              <p:nvPr/>
            </p:nvSpPr>
            <p:spPr>
              <a:xfrm>
                <a:off x="2028960" y="3238920"/>
                <a:ext cx="4343400" cy="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73" name="Line 8"/>
              <p:cNvSpPr/>
              <p:nvPr/>
            </p:nvSpPr>
            <p:spPr>
              <a:xfrm>
                <a:off x="4200480" y="1068840"/>
                <a:ext cx="0" cy="426276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9"/>
            <p:cNvSpPr/>
            <p:nvPr/>
          </p:nvSpPr>
          <p:spPr>
            <a:xfrm>
              <a:off x="2463120" y="836640"/>
              <a:ext cx="3764160" cy="43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粗</a:t>
              </a:r>
              <a:endParaRPr b="0" lang="en-US" sz="28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2028960" y="836640"/>
            <a:ext cx="4343400" cy="4494960"/>
            <a:chOff x="2028960" y="836640"/>
            <a:chExt cx="4343400" cy="4494960"/>
          </a:xfrm>
        </p:grpSpPr>
        <p:grpSp>
          <p:nvGrpSpPr>
            <p:cNvPr id="178" name="Group 5"/>
            <p:cNvGrpSpPr/>
            <p:nvPr/>
          </p:nvGrpSpPr>
          <p:grpSpPr>
            <a:xfrm>
              <a:off x="2028960" y="1068840"/>
              <a:ext cx="4343400" cy="4262760"/>
              <a:chOff x="2028960" y="1068840"/>
              <a:chExt cx="4343400" cy="4262760"/>
            </a:xfrm>
          </p:grpSpPr>
          <p:sp>
            <p:nvSpPr>
              <p:cNvPr id="179" name="Rectangle 6"/>
              <p:cNvSpPr/>
              <p:nvPr/>
            </p:nvSpPr>
            <p:spPr>
              <a:xfrm>
                <a:off x="2028960" y="1068840"/>
                <a:ext cx="4343400" cy="4262760"/>
              </a:xfrm>
              <a:prstGeom prst="rect">
                <a:avLst/>
              </a:prstGeom>
              <a:solidFill>
                <a:srgbClr val="ffffff"/>
              </a:solidFill>
              <a:ln w="41400">
                <a:solidFill>
                  <a:srgbClr val="007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80" name="Line 7"/>
              <p:cNvSpPr/>
              <p:nvPr/>
            </p:nvSpPr>
            <p:spPr>
              <a:xfrm>
                <a:off x="2028960" y="3238920"/>
                <a:ext cx="4343400" cy="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181" name="Line 8"/>
              <p:cNvSpPr/>
              <p:nvPr/>
            </p:nvSpPr>
            <p:spPr>
              <a:xfrm>
                <a:off x="4200480" y="1068840"/>
                <a:ext cx="0" cy="426276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Text Box 9"/>
            <p:cNvSpPr/>
            <p:nvPr/>
          </p:nvSpPr>
          <p:spPr>
            <a:xfrm>
              <a:off x="2463120" y="836640"/>
              <a:ext cx="3764160" cy="43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咬</a:t>
              </a:r>
              <a:endParaRPr b="0" lang="en-US" sz="28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547640" y="1916280"/>
            <a:ext cx="612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课文写了雨后小朋友玩水、踩水的欢乐场景，那么多快乐似神仙的孩子，你知道课文里谁快乐得像神仙一样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</a:rPr>
              <a:t>吗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？课文里还有谁也快乐？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84" name="Picture 3" descr="小学语文（散文）02-2"/>
          <p:cNvPicPr/>
          <p:nvPr/>
        </p:nvPicPr>
        <p:blipFill>
          <a:blip r:embed="rId1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animal03"/>
          <p:cNvPicPr/>
          <p:nvPr/>
        </p:nvPicPr>
        <p:blipFill>
          <a:blip r:embed="rId2"/>
          <a:stretch/>
        </p:blipFill>
        <p:spPr>
          <a:xfrm>
            <a:off x="5940360" y="4292640"/>
            <a:ext cx="14810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88" name="Picture 5" descr="034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035_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05240" y="0"/>
            <a:ext cx="48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2028960" y="836640"/>
            <a:ext cx="4343400" cy="4494960"/>
            <a:chOff x="2028960" y="836640"/>
            <a:chExt cx="4343400" cy="4494960"/>
          </a:xfrm>
        </p:grpSpPr>
        <p:grpSp>
          <p:nvGrpSpPr>
            <p:cNvPr id="52" name="Group 5"/>
            <p:cNvGrpSpPr/>
            <p:nvPr/>
          </p:nvGrpSpPr>
          <p:grpSpPr>
            <a:xfrm>
              <a:off x="2028960" y="1068840"/>
              <a:ext cx="4343400" cy="4262760"/>
              <a:chOff x="2028960" y="1068840"/>
              <a:chExt cx="4343400" cy="426276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2028960" y="1068840"/>
                <a:ext cx="4343400" cy="4262760"/>
              </a:xfrm>
              <a:prstGeom prst="rect">
                <a:avLst/>
              </a:prstGeom>
              <a:solidFill>
                <a:srgbClr val="ffffff"/>
              </a:solidFill>
              <a:ln w="41400">
                <a:solidFill>
                  <a:srgbClr val="007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2028960" y="3238920"/>
                <a:ext cx="4343400" cy="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55" name="Line 8"/>
              <p:cNvSpPr/>
              <p:nvPr/>
            </p:nvSpPr>
            <p:spPr>
              <a:xfrm>
                <a:off x="4200480" y="1068840"/>
                <a:ext cx="0" cy="426276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Text Box 9"/>
            <p:cNvSpPr/>
            <p:nvPr/>
          </p:nvSpPr>
          <p:spPr>
            <a:xfrm>
              <a:off x="2463120" y="836640"/>
              <a:ext cx="3764160" cy="43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梢</a:t>
              </a:r>
              <a:endParaRPr b="0" lang="en-US" sz="28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踩水"/>
          <p:cNvPicPr/>
          <p:nvPr/>
        </p:nvPicPr>
        <p:blipFill>
          <a:blip r:embed="rId1"/>
          <a:stretch/>
        </p:blipFill>
        <p:spPr>
          <a:xfrm>
            <a:off x="0" y="4076640"/>
            <a:ext cx="2548080" cy="278136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"/>
          <p:cNvGrpSpPr/>
          <p:nvPr/>
        </p:nvGrpSpPr>
        <p:grpSpPr>
          <a:xfrm>
            <a:off x="2195640" y="691920"/>
            <a:ext cx="8153280" cy="3484080"/>
            <a:chOff x="2195640" y="691920"/>
            <a:chExt cx="8153280" cy="3484080"/>
          </a:xfrm>
        </p:grpSpPr>
        <p:sp>
          <p:nvSpPr>
            <p:cNvPr id="192" name="Text Box 4"/>
            <p:cNvSpPr/>
            <p:nvPr/>
          </p:nvSpPr>
          <p:spPr>
            <a:xfrm>
              <a:off x="2195640" y="1029960"/>
              <a:ext cx="8153280" cy="31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小哥哥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使劲</a:t>
              </a: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地</a:t>
              </a:r>
              <a:r>
                <a:rPr b="1" lang="zh-CN" sz="3600" spc="-1" strike="noStrike">
                  <a:solidFill>
                    <a:srgbClr val="00cc99"/>
                  </a:solidFill>
                  <a:latin typeface="Times New Roman"/>
                  <a:ea typeface="楷体_GB2312"/>
                </a:rPr>
                <a:t>踩</a:t>
              </a: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着水，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把水花溅起多高。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他喊：“</a:t>
              </a:r>
              <a:r>
                <a:rPr b="1" lang="zh-CN" sz="3600" spc="-1" strike="noStrike">
                  <a:solidFill>
                    <a:srgbClr val="00cc99"/>
                  </a:solidFill>
                  <a:latin typeface="Times New Roman"/>
                  <a:ea typeface="楷体_GB2312"/>
                </a:rPr>
                <a:t>妹</a:t>
              </a: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，小心，滑！”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说着自己就</a:t>
              </a:r>
              <a:r>
                <a:rPr b="1" lang="zh-CN" sz="3600" spc="-1" strike="noStrike">
                  <a:solidFill>
                    <a:srgbClr val="00cc99"/>
                  </a:solidFill>
                  <a:latin typeface="Times New Roman"/>
                  <a:ea typeface="楷体_GB2312"/>
                </a:rPr>
                <a:t>滑</a:t>
              </a: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了一</a:t>
              </a:r>
              <a:r>
                <a:rPr b="1" lang="zh-CN" sz="3600" spc="-1" strike="noStrike">
                  <a:solidFill>
                    <a:srgbClr val="00cc99"/>
                  </a:solidFill>
                  <a:latin typeface="Times New Roman"/>
                  <a:ea typeface="楷体_GB2312"/>
                </a:rPr>
                <a:t>跤</a:t>
              </a: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！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grpSp>
          <p:nvGrpSpPr>
            <p:cNvPr id="193" name="Group 5"/>
            <p:cNvGrpSpPr/>
            <p:nvPr/>
          </p:nvGrpSpPr>
          <p:grpSpPr>
            <a:xfrm>
              <a:off x="4921200" y="691920"/>
              <a:ext cx="1218600" cy="536040"/>
              <a:chOff x="4921200" y="691920"/>
              <a:chExt cx="1218600" cy="536040"/>
            </a:xfrm>
          </p:grpSpPr>
          <p:grpSp>
            <p:nvGrpSpPr>
              <p:cNvPr id="194" name="Group 6"/>
              <p:cNvGrpSpPr/>
              <p:nvPr/>
            </p:nvGrpSpPr>
            <p:grpSpPr>
              <a:xfrm>
                <a:off x="5149440" y="691920"/>
                <a:ext cx="303840" cy="152640"/>
                <a:chOff x="5149440" y="691920"/>
                <a:chExt cx="303840" cy="152640"/>
              </a:xfrm>
            </p:grpSpPr>
            <p:sp>
              <p:nvSpPr>
                <p:cNvPr id="195" name="Line 7"/>
                <p:cNvSpPr/>
                <p:nvPr/>
              </p:nvSpPr>
              <p:spPr>
                <a:xfrm>
                  <a:off x="5149440" y="692280"/>
                  <a:ext cx="151920" cy="152280"/>
                </a:xfrm>
                <a:prstGeom prst="line">
                  <a:avLst/>
                </a:prstGeom>
                <a:ln w="38160">
                  <a:solidFill>
                    <a:srgbClr val="007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6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8"/>
                <p:cNvSpPr/>
                <p:nvPr/>
              </p:nvSpPr>
              <p:spPr>
                <a:xfrm flipV="1">
                  <a:off x="5301360" y="691920"/>
                  <a:ext cx="151920" cy="152280"/>
                </a:xfrm>
                <a:prstGeom prst="line">
                  <a:avLst/>
                </a:prstGeom>
                <a:ln w="38160">
                  <a:solidFill>
                    <a:srgbClr val="007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6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9"/>
              <p:cNvSpPr/>
              <p:nvPr/>
            </p:nvSpPr>
            <p:spPr>
              <a:xfrm>
                <a:off x="4921200" y="768240"/>
                <a:ext cx="121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Century Gothic"/>
                  </a:rPr>
                  <a:t>cai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10"/>
            <p:cNvGrpSpPr/>
            <p:nvPr/>
          </p:nvGrpSpPr>
          <p:grpSpPr>
            <a:xfrm>
              <a:off x="3768480" y="2320560"/>
              <a:ext cx="838080" cy="535680"/>
              <a:chOff x="3768480" y="2320560"/>
              <a:chExt cx="838080" cy="535680"/>
            </a:xfrm>
          </p:grpSpPr>
          <p:sp>
            <p:nvSpPr>
              <p:cNvPr id="199" name="Text Box 11"/>
              <p:cNvSpPr/>
              <p:nvPr/>
            </p:nvSpPr>
            <p:spPr>
              <a:xfrm>
                <a:off x="3768480" y="23965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Century Gothic"/>
                  </a:rPr>
                  <a:t>mei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200" name="Line 12"/>
              <p:cNvSpPr/>
              <p:nvPr/>
            </p:nvSpPr>
            <p:spPr>
              <a:xfrm>
                <a:off x="4073400" y="2320560"/>
                <a:ext cx="152280" cy="152280"/>
              </a:xfrm>
              <a:prstGeom prst="line">
                <a:avLst/>
              </a:prstGeom>
              <a:ln w="3816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13"/>
            <p:cNvGrpSpPr/>
            <p:nvPr/>
          </p:nvGrpSpPr>
          <p:grpSpPr>
            <a:xfrm>
              <a:off x="4416480" y="3256920"/>
              <a:ext cx="837720" cy="460080"/>
              <a:chOff x="4416480" y="3256920"/>
              <a:chExt cx="837720" cy="460080"/>
            </a:xfrm>
          </p:grpSpPr>
          <p:sp>
            <p:nvSpPr>
              <p:cNvPr id="202" name="Text Box 14"/>
              <p:cNvSpPr/>
              <p:nvPr/>
            </p:nvSpPr>
            <p:spPr>
              <a:xfrm>
                <a:off x="4416480" y="325728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Century Gothic"/>
                  </a:rPr>
                  <a:t>hua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203" name="Line 15"/>
              <p:cNvSpPr/>
              <p:nvPr/>
            </p:nvSpPr>
            <p:spPr>
              <a:xfrm flipV="1">
                <a:off x="4949280" y="3256920"/>
                <a:ext cx="151920" cy="75960"/>
              </a:xfrm>
              <a:prstGeom prst="line">
                <a:avLst/>
              </a:prstGeom>
              <a:ln w="3816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16"/>
            <p:cNvGrpSpPr/>
            <p:nvPr/>
          </p:nvGrpSpPr>
          <p:grpSpPr>
            <a:xfrm>
              <a:off x="5806800" y="3257280"/>
              <a:ext cx="914040" cy="459720"/>
              <a:chOff x="5806800" y="3257280"/>
              <a:chExt cx="914040" cy="459720"/>
            </a:xfrm>
          </p:grpSpPr>
          <p:sp>
            <p:nvSpPr>
              <p:cNvPr id="205" name="Text Box 17"/>
              <p:cNvSpPr/>
              <p:nvPr/>
            </p:nvSpPr>
            <p:spPr>
              <a:xfrm>
                <a:off x="5806800" y="325728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Century Gothic"/>
                  </a:rPr>
                  <a:t>jiao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206" name="Line 18"/>
              <p:cNvSpPr/>
              <p:nvPr/>
            </p:nvSpPr>
            <p:spPr>
              <a:xfrm>
                <a:off x="6111000" y="3332880"/>
                <a:ext cx="228240" cy="0"/>
              </a:xfrm>
              <a:prstGeom prst="line">
                <a:avLst/>
              </a:prstGeom>
              <a:ln w="3816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Text Box 19"/>
          <p:cNvSpPr/>
          <p:nvPr/>
        </p:nvSpPr>
        <p:spPr>
          <a:xfrm>
            <a:off x="5796000" y="189000"/>
            <a:ext cx="30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Times New Roman"/>
              </a:rPr>
              <a:t>你能做一做这个动作吗？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6804000" y="83664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你能给这个词换一个词，意思差不多吗？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3203640" y="4797360"/>
            <a:ext cx="432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用力，用劲，带劲，还可以说起劲，都可以的，意思都差不多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4498920" y="1844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多高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7040" y="1557360"/>
            <a:ext cx="13993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踩水之乐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踩水"/>
          <p:cNvPicPr/>
          <p:nvPr/>
        </p:nvPicPr>
        <p:blipFill>
          <a:blip r:embed="rId1"/>
          <a:stretch/>
        </p:blipFill>
        <p:spPr>
          <a:xfrm>
            <a:off x="0" y="4076640"/>
            <a:ext cx="2548080" cy="278136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3"/>
          <p:cNvGrpSpPr/>
          <p:nvPr/>
        </p:nvGrpSpPr>
        <p:grpSpPr>
          <a:xfrm>
            <a:off x="1547640" y="404280"/>
            <a:ext cx="8153640" cy="3484440"/>
            <a:chOff x="1547640" y="404280"/>
            <a:chExt cx="8153640" cy="3484440"/>
          </a:xfrm>
        </p:grpSpPr>
        <p:sp>
          <p:nvSpPr>
            <p:cNvPr id="214" name="Text Box 4"/>
            <p:cNvSpPr/>
            <p:nvPr/>
          </p:nvSpPr>
          <p:spPr>
            <a:xfrm>
              <a:off x="1547640" y="742680"/>
              <a:ext cx="8153640" cy="31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小哥哥使劲地</a:t>
              </a:r>
              <a:r>
                <a:rPr b="1" lang="zh-CN" sz="3600" spc="-1" strike="noStrike">
                  <a:solidFill>
                    <a:srgbClr val="00cc99"/>
                  </a:solidFill>
                  <a:latin typeface="Times New Roman"/>
                  <a:ea typeface="楷体_GB2312"/>
                </a:rPr>
                <a:t>踩</a:t>
              </a: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着水，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把水花溅得高高。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他喊：“</a:t>
              </a:r>
              <a:r>
                <a:rPr b="1" lang="zh-CN" sz="3600" spc="-1" strike="noStrike">
                  <a:solidFill>
                    <a:srgbClr val="00cc99"/>
                  </a:solidFill>
                  <a:latin typeface="Times New Roman"/>
                  <a:ea typeface="楷体_GB2312"/>
                </a:rPr>
                <a:t>妹</a:t>
              </a: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，小心，滑！”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说着自己就</a:t>
              </a:r>
              <a:r>
                <a:rPr b="1" lang="zh-CN" sz="3600" spc="-1" strike="noStrike">
                  <a:solidFill>
                    <a:srgbClr val="00cc99"/>
                  </a:solidFill>
                  <a:latin typeface="Times New Roman"/>
                  <a:ea typeface="楷体_GB2312"/>
                </a:rPr>
                <a:t>滑</a:t>
              </a: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了一</a:t>
              </a:r>
              <a:r>
                <a:rPr b="1" lang="zh-CN" sz="3600" spc="-1" strike="noStrike">
                  <a:solidFill>
                    <a:srgbClr val="00cc99"/>
                  </a:solidFill>
                  <a:latin typeface="Times New Roman"/>
                  <a:ea typeface="楷体_GB2312"/>
                </a:rPr>
                <a:t>跤</a:t>
              </a:r>
              <a:r>
                <a:rPr b="1" lang="zh-CN" sz="3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！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grpSp>
          <p:nvGrpSpPr>
            <p:cNvPr id="215" name="Group 5"/>
            <p:cNvGrpSpPr/>
            <p:nvPr/>
          </p:nvGrpSpPr>
          <p:grpSpPr>
            <a:xfrm>
              <a:off x="4273560" y="404280"/>
              <a:ext cx="1218960" cy="536040"/>
              <a:chOff x="4273560" y="404280"/>
              <a:chExt cx="1218960" cy="536040"/>
            </a:xfrm>
          </p:grpSpPr>
          <p:grpSp>
            <p:nvGrpSpPr>
              <p:cNvPr id="216" name="Group 6"/>
              <p:cNvGrpSpPr/>
              <p:nvPr/>
            </p:nvGrpSpPr>
            <p:grpSpPr>
              <a:xfrm>
                <a:off x="4502160" y="404280"/>
                <a:ext cx="304560" cy="152640"/>
                <a:chOff x="4502160" y="404280"/>
                <a:chExt cx="304560" cy="152640"/>
              </a:xfrm>
            </p:grpSpPr>
            <p:sp>
              <p:nvSpPr>
                <p:cNvPr id="217" name="Line 7"/>
                <p:cNvSpPr/>
                <p:nvPr/>
              </p:nvSpPr>
              <p:spPr>
                <a:xfrm>
                  <a:off x="4502160" y="40464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007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6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Line 8"/>
                <p:cNvSpPr/>
                <p:nvPr/>
              </p:nvSpPr>
              <p:spPr>
                <a:xfrm flipV="1">
                  <a:off x="4654440" y="404280"/>
                  <a:ext cx="152280" cy="152280"/>
                </a:xfrm>
                <a:prstGeom prst="line">
                  <a:avLst/>
                </a:prstGeom>
                <a:ln w="38160">
                  <a:solidFill>
                    <a:srgbClr val="007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6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Text Box 9"/>
              <p:cNvSpPr/>
              <p:nvPr/>
            </p:nvSpPr>
            <p:spPr>
              <a:xfrm>
                <a:off x="4273560" y="48060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Century Gothic"/>
                  </a:rPr>
                  <a:t>cai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10"/>
            <p:cNvGrpSpPr/>
            <p:nvPr/>
          </p:nvGrpSpPr>
          <p:grpSpPr>
            <a:xfrm>
              <a:off x="3120840" y="2033280"/>
              <a:ext cx="838080" cy="536040"/>
              <a:chOff x="3120840" y="2033280"/>
              <a:chExt cx="838080" cy="536040"/>
            </a:xfrm>
          </p:grpSpPr>
          <p:sp>
            <p:nvSpPr>
              <p:cNvPr id="221" name="Text Box 11"/>
              <p:cNvSpPr/>
              <p:nvPr/>
            </p:nvSpPr>
            <p:spPr>
              <a:xfrm>
                <a:off x="3120840" y="21096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Century Gothic"/>
                  </a:rPr>
                  <a:t>mei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222" name="Line 12"/>
              <p:cNvSpPr/>
              <p:nvPr/>
            </p:nvSpPr>
            <p:spPr>
              <a:xfrm>
                <a:off x="3425760" y="2033280"/>
                <a:ext cx="152280" cy="152640"/>
              </a:xfrm>
              <a:prstGeom prst="line">
                <a:avLst/>
              </a:prstGeom>
              <a:ln w="3816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13"/>
            <p:cNvGrpSpPr/>
            <p:nvPr/>
          </p:nvGrpSpPr>
          <p:grpSpPr>
            <a:xfrm>
              <a:off x="3768840" y="2970000"/>
              <a:ext cx="838080" cy="459720"/>
              <a:chOff x="3768840" y="2970000"/>
              <a:chExt cx="838080" cy="459720"/>
            </a:xfrm>
          </p:grpSpPr>
          <p:sp>
            <p:nvSpPr>
              <p:cNvPr id="224" name="Text Box 14"/>
              <p:cNvSpPr/>
              <p:nvPr/>
            </p:nvSpPr>
            <p:spPr>
              <a:xfrm>
                <a:off x="3768840" y="29700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Century Gothic"/>
                  </a:rPr>
                  <a:t>hua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225" name="Line 15"/>
              <p:cNvSpPr/>
              <p:nvPr/>
            </p:nvSpPr>
            <p:spPr>
              <a:xfrm flipV="1">
                <a:off x="4302000" y="2970000"/>
                <a:ext cx="151920" cy="76320"/>
              </a:xfrm>
              <a:prstGeom prst="line">
                <a:avLst/>
              </a:prstGeom>
              <a:ln w="3816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16"/>
            <p:cNvGrpSpPr/>
            <p:nvPr/>
          </p:nvGrpSpPr>
          <p:grpSpPr>
            <a:xfrm>
              <a:off x="5159160" y="2970000"/>
              <a:ext cx="914400" cy="459720"/>
              <a:chOff x="5159160" y="2970000"/>
              <a:chExt cx="914400" cy="459720"/>
            </a:xfrm>
          </p:grpSpPr>
          <p:sp>
            <p:nvSpPr>
              <p:cNvPr id="227" name="Text Box 17"/>
              <p:cNvSpPr/>
              <p:nvPr/>
            </p:nvSpPr>
            <p:spPr>
              <a:xfrm>
                <a:off x="5159160" y="2970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Century Gothic"/>
                  </a:rPr>
                  <a:t>jiao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228" name="Line 18"/>
              <p:cNvSpPr/>
              <p:nvPr/>
            </p:nvSpPr>
            <p:spPr>
              <a:xfrm>
                <a:off x="5463720" y="3045960"/>
                <a:ext cx="228600" cy="0"/>
              </a:xfrm>
              <a:prstGeom prst="line">
                <a:avLst/>
              </a:prstGeom>
              <a:ln w="3816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" name="AutoShape 19"/>
          <p:cNvSpPr/>
          <p:nvPr/>
        </p:nvSpPr>
        <p:spPr>
          <a:xfrm>
            <a:off x="2484360" y="3860640"/>
            <a:ext cx="6048360" cy="2997360"/>
          </a:xfrm>
          <a:prstGeom prst="cloudCallout">
            <a:avLst>
              <a:gd name="adj1" fmla="val -60157"/>
              <a:gd name="adj2" fmla="val -13560"/>
            </a:avLst>
          </a:prstGeom>
          <a:solidFill>
            <a:srgbClr val="00cc99"/>
          </a:solidFill>
          <a:ln w="9360">
            <a:solidFill>
              <a:srgbClr val="007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你的哥哥肯定跟课文里的这个哥哥不一样，你的哥哥喜欢“欺负”你，而文中的哥哥却特别关心她的妹妹。你从哪儿可以看出来？</a:t>
            </a:r>
            <a:r>
              <a:rPr b="0" lang="zh-CN" sz="2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3132000" y="2349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妹，小心，滑</a:t>
            </a:r>
            <a:r>
              <a:rPr b="1" lang="zh-CN" sz="3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！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6659640" y="1484280"/>
            <a:ext cx="2627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如果你是课文里的小哥哥，你会怎样朝你的妹妹喊这句话呢？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1"/>
          <p:cNvSpPr/>
          <p:nvPr/>
        </p:nvSpPr>
        <p:spPr>
          <a:xfrm>
            <a:off x="4211640" y="2060640"/>
            <a:ext cx="4176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哥哥使劲地踩着水，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      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jiàn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把水花儿溅起多高。他喊：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          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huá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妹，小心，滑！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说着自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        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jiāo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己就滑了一跤！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4716720" y="4938480"/>
            <a:ext cx="2879280" cy="1739880"/>
            <a:chOff x="4716720" y="4938480"/>
            <a:chExt cx="2879280" cy="1739880"/>
          </a:xfrm>
        </p:grpSpPr>
        <p:sp>
          <p:nvSpPr>
            <p:cNvPr id="235" name="AutoShape 13"/>
            <p:cNvSpPr/>
            <p:nvPr/>
          </p:nvSpPr>
          <p:spPr>
            <a:xfrm rot="378600">
              <a:off x="4787640" y="5084280"/>
              <a:ext cx="2736720" cy="1447920"/>
            </a:xfrm>
            <a:prstGeom prst="cloudCallout">
              <a:avLst>
                <a:gd name="adj1" fmla="val 40509"/>
                <a:gd name="adj2" fmla="val -10432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36" name="Text Box 12"/>
            <p:cNvSpPr/>
            <p:nvPr/>
          </p:nvSpPr>
          <p:spPr>
            <a:xfrm>
              <a:off x="4859280" y="5300640"/>
              <a:ext cx="2592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你觉得这个小哥哥怎么样？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237" name="Picture 14" descr="课文插图（2）"/>
          <p:cNvPicPr/>
          <p:nvPr/>
        </p:nvPicPr>
        <p:blipFill>
          <a:blip r:embed="rId3"/>
          <a:stretch/>
        </p:blipFill>
        <p:spPr>
          <a:xfrm>
            <a:off x="1403280" y="2060640"/>
            <a:ext cx="2511360" cy="3744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6"/>
          <p:cNvSpPr/>
          <p:nvPr/>
        </p:nvSpPr>
        <p:spPr>
          <a:xfrm>
            <a:off x="1187280" y="615636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一个（   ）的小哥哥。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1619280" y="2492280"/>
            <a:ext cx="432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他拍拍水淋淋的泥裤子，嘴里说：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糟糕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——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糟糕！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而他通红欢喜的脸上却发射出兴奋和骄傲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241" name="Group 6"/>
          <p:cNvGrpSpPr/>
          <p:nvPr/>
        </p:nvGrpSpPr>
        <p:grpSpPr>
          <a:xfrm>
            <a:off x="5474880" y="1603800"/>
            <a:ext cx="3412440" cy="2428200"/>
            <a:chOff x="5474880" y="1603800"/>
            <a:chExt cx="3412440" cy="2428200"/>
          </a:xfrm>
        </p:grpSpPr>
        <p:sp>
          <p:nvSpPr>
            <p:cNvPr id="242" name="AutoShape 2"/>
            <p:cNvSpPr/>
            <p:nvPr/>
          </p:nvSpPr>
          <p:spPr>
            <a:xfrm rot="378600">
              <a:off x="5580000" y="1773360"/>
              <a:ext cx="3202200" cy="2089080"/>
            </a:xfrm>
            <a:prstGeom prst="cloudCallout">
              <a:avLst>
                <a:gd name="adj1" fmla="val -55217"/>
                <a:gd name="adj2" fmla="val 5343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43" name="Text Box 5"/>
            <p:cNvSpPr/>
            <p:nvPr/>
          </p:nvSpPr>
          <p:spPr>
            <a:xfrm>
              <a:off x="6013440" y="1924200"/>
              <a:ext cx="25923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小哥哥心里在想什么？你能学学这小哥哥的样来说说吗？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244" name="Rectangle 7"/>
          <p:cNvSpPr/>
          <p:nvPr/>
        </p:nvSpPr>
        <p:spPr>
          <a:xfrm>
            <a:off x="2916360" y="60768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仅可爱还很淘气呢！课文里你能找出这样的句子吗？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619280" y="2543040"/>
            <a:ext cx="41767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拍拍水淋淋的泥裤子，嘴里说：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糕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糕！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619280" y="5157720"/>
            <a:ext cx="496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他一边拍泥裤子，一边说“糟糕”，而脸上又是兴奋和骄傲。这是为什么呢？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1908000" y="1933560"/>
            <a:ext cx="57596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哥哥滑了一跤，把裤子弄脏了，可是为什么嘴里喊着糟糕，糟糕，脸上却发射出兴奋和骄傲呢？       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073240" y="1459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合作讨论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979640" y="3549600"/>
            <a:ext cx="561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     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　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tiáo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哥哥很调皮，他觉得这样很好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</a:rPr>
              <a:t>qù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玩，找到了生活的乐趣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51" name="Picture 10" descr="a8"/>
          <p:cNvPicPr/>
          <p:nvPr/>
        </p:nvPicPr>
        <p:blipFill>
          <a:blip r:embed="rId2"/>
          <a:stretch/>
        </p:blipFill>
        <p:spPr>
          <a:xfrm>
            <a:off x="5940360" y="4508640"/>
            <a:ext cx="16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6255360" y="1698840"/>
            <a:ext cx="3002040" cy="2511000"/>
            <a:chOff x="6255360" y="1698840"/>
            <a:chExt cx="3002040" cy="2511000"/>
          </a:xfrm>
        </p:grpSpPr>
        <p:sp>
          <p:nvSpPr>
            <p:cNvPr id="253" name="AutoShape 2"/>
            <p:cNvSpPr/>
            <p:nvPr/>
          </p:nvSpPr>
          <p:spPr>
            <a:xfrm rot="378600">
              <a:off x="6368760" y="1844280"/>
              <a:ext cx="2774880" cy="2219400"/>
            </a:xfrm>
            <a:prstGeom prst="cloudCallout">
              <a:avLst>
                <a:gd name="adj1" fmla="val -66828"/>
                <a:gd name="adj2" fmla="val 4107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6750000" y="2060640"/>
              <a:ext cx="22320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小妹妹怎样玩水？谁能学着她的样来演一演？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255" name="Picture 3" descr="小学语文（散文）02-3"/>
          <p:cNvPicPr/>
          <p:nvPr/>
        </p:nvPicPr>
        <p:blipFill>
          <a:blip r:embed="rId2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187280" y="1484280"/>
            <a:ext cx="56898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juē       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biàn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妹妹撅着两条短粗的小辫，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jǐn       kù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         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chún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紧紧跟在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泥裤子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后面，她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咬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着唇儿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tí  qún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   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提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着裙儿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轻轻地小心地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跑，心里却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  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shuāi  tòn</a:t>
            </a:r>
            <a:r>
              <a:rPr b="1" lang="en-US" sz="24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kuài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jiāo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希望自己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也摔这么  痛 快 的一跤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！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6255360" y="1914840"/>
            <a:ext cx="3002040" cy="2511000"/>
            <a:chOff x="6255360" y="1914840"/>
            <a:chExt cx="3002040" cy="2511000"/>
          </a:xfrm>
        </p:grpSpPr>
        <p:sp>
          <p:nvSpPr>
            <p:cNvPr id="258" name="AutoShape 3"/>
            <p:cNvSpPr/>
            <p:nvPr/>
          </p:nvSpPr>
          <p:spPr>
            <a:xfrm rot="378600">
              <a:off x="6368760" y="2060280"/>
              <a:ext cx="2774880" cy="2219400"/>
            </a:xfrm>
            <a:prstGeom prst="cloudCallout">
              <a:avLst>
                <a:gd name="adj1" fmla="val -66828"/>
                <a:gd name="adj2" fmla="val 4107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59" name="Text Box 4"/>
            <p:cNvSpPr/>
            <p:nvPr/>
          </p:nvSpPr>
          <p:spPr>
            <a:xfrm>
              <a:off x="6750000" y="2276640"/>
              <a:ext cx="22320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</a:rPr>
                <a:t>小妹妹想摔跤却没有摔跤，奇怪了，这是为什么呢？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260" name="Picture 5" descr="小学语文（散文）02-3"/>
          <p:cNvPicPr/>
          <p:nvPr/>
        </p:nvPicPr>
        <p:blipFill>
          <a:blip r:embed="rId2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"/>
          <p:cNvSpPr/>
          <p:nvPr/>
        </p:nvSpPr>
        <p:spPr>
          <a:xfrm>
            <a:off x="1187280" y="1484280"/>
            <a:ext cx="56898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juē       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biàn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妹妹撅着两条短粗的小辫，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jǐn       kù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         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chún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紧紧跟在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泥裤子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后面，她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咬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着唇儿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tí  qún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   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提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着裙儿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轻轻地小心地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跑，心里却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  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shuāi  tòn</a:t>
            </a:r>
            <a:r>
              <a:rPr b="1" lang="en-US" sz="24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kuài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jiāo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希望自己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也摔这么  痛 快 的一跤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！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2987640" y="47628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摔跤之乐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1692360" y="1916280"/>
            <a:ext cx="6264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妹妹心里在想什么？她那么小心地跟在哥哥后面，可是为什么心里希望也摔一跤？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928880" y="1459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合作讨论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690560" y="3068640"/>
            <a:ext cx="6769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           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tíxǐn</a:t>
            </a:r>
            <a:r>
              <a:rPr b="1" lang="en-US" sz="24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      diē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听了哥哥的提 醒，又见哥哥跌了一跤，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想玩水又有些害怕，可是她太喜欢雨水了，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                 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xiàn mù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觉得哥哥这样子很有趣，好羡  慕哥哥。她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zì háo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为有这样的哥哥而感到快乐和自 豪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619280" y="1773360"/>
            <a:ext cx="316872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   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nèn lǜ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嫩 绿的树梢闪着金光，广场上成了一片海洋！水里一群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chì jiǎo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赤  脚 的孩子，快乐得好像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神仙一样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4411440" y="4122000"/>
            <a:ext cx="3381840" cy="2141640"/>
            <a:chOff x="4411440" y="4122000"/>
            <a:chExt cx="3381840" cy="2141640"/>
          </a:xfrm>
        </p:grpSpPr>
        <p:sp>
          <p:nvSpPr>
            <p:cNvPr id="270" name="AutoShape 2"/>
            <p:cNvSpPr/>
            <p:nvPr/>
          </p:nvSpPr>
          <p:spPr>
            <a:xfrm rot="378600">
              <a:off x="4500720" y="4292280"/>
              <a:ext cx="3203280" cy="1800360"/>
            </a:xfrm>
            <a:prstGeom prst="cloudCallout">
              <a:avLst>
                <a:gd name="adj1" fmla="val -87532"/>
                <a:gd name="adj2" fmla="val -5481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71" name="Text Box 5"/>
            <p:cNvSpPr/>
            <p:nvPr/>
          </p:nvSpPr>
          <p:spPr>
            <a:xfrm>
              <a:off x="4836960" y="4508640"/>
              <a:ext cx="2592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广场成了欢乐的海洋，你仿佛看到了什么？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272" name="Picture 6" descr="课文插图"/>
          <p:cNvPicPr/>
          <p:nvPr/>
        </p:nvPicPr>
        <p:blipFill>
          <a:blip r:embed="rId3"/>
          <a:stretch/>
        </p:blipFill>
        <p:spPr>
          <a:xfrm>
            <a:off x="4932360" y="1989000"/>
            <a:ext cx="2808360" cy="214632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10"/>
          <p:cNvSpPr/>
          <p:nvPr/>
        </p:nvSpPr>
        <p:spPr>
          <a:xfrm>
            <a:off x="3780000" y="0"/>
            <a:ext cx="4105080" cy="2160720"/>
          </a:xfrm>
          <a:prstGeom prst="wedgeEllipseCallout">
            <a:avLst>
              <a:gd name="adj1" fmla="val -32097"/>
              <a:gd name="adj2" fmla="val 68074"/>
            </a:avLst>
          </a:prstGeom>
          <a:solidFill>
            <a:srgbClr val="00cc99"/>
          </a:solidFill>
          <a:ln w="9360">
            <a:solidFill>
              <a:srgbClr val="007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859280" y="836640"/>
            <a:ext cx="2017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4284720" y="260280"/>
            <a:ext cx="33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此刻，如果你也在午后的广场，你会想些什么，你会希望自己做些什么？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0" y="6021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在雨后的广场上，</a:t>
            </a:r>
            <a:r>
              <a:rPr b="1" lang="zh-CN" sz="44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743120" y="134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Arial"/>
                <a:ea typeface="楷体_GB2312"/>
              </a:rPr>
              <a:t>美词积累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342160" y="3429000"/>
            <a:ext cx="408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嫩绿的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树梢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赤脚的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孩子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水淋淋的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泥裤子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短粗的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辫儿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通红欢喜的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脸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痛快的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一跤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727200" y="560520"/>
            <a:ext cx="731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更多免费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模板尽在：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400"/>
                </a:solidFill>
                <a:latin typeface="Times New Roman"/>
              </a:rPr>
              <a:t>这组词有什么特点？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400"/>
                </a:solidFill>
                <a:latin typeface="Times New Roman"/>
              </a:rPr>
              <a:t>糟糕     树</a:t>
            </a:r>
            <a:r>
              <a:rPr b="0" lang="zh-CN" sz="4000" spc="-1" strike="noStrike">
                <a:solidFill>
                  <a:srgbClr val="720202"/>
                </a:solidFill>
                <a:latin typeface="Times New Roman"/>
              </a:rPr>
              <a:t>梢</a:t>
            </a:r>
            <a:r>
              <a:rPr b="0" lang="zh-CN" sz="4000" spc="-1" strike="noStrike">
                <a:solidFill>
                  <a:srgbClr val="007400"/>
                </a:solidFill>
                <a:latin typeface="Times New Roman"/>
              </a:rPr>
              <a:t>    妹妹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3492360" y="2060640"/>
            <a:ext cx="3527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让我们一起来分角色进行朗读吧！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282" name="Group 7"/>
          <p:cNvGrpSpPr/>
          <p:nvPr/>
        </p:nvGrpSpPr>
        <p:grpSpPr>
          <a:xfrm>
            <a:off x="3935520" y="3662640"/>
            <a:ext cx="2496600" cy="1477800"/>
            <a:chOff x="3935520" y="3662640"/>
            <a:chExt cx="2496600" cy="1477800"/>
          </a:xfrm>
        </p:grpSpPr>
        <p:sp>
          <p:nvSpPr>
            <p:cNvPr id="283" name="AutoShape 2"/>
            <p:cNvSpPr/>
            <p:nvPr/>
          </p:nvSpPr>
          <p:spPr>
            <a:xfrm rot="378600">
              <a:off x="3995640" y="3789360"/>
              <a:ext cx="2376360" cy="1224000"/>
            </a:xfrm>
            <a:prstGeom prst="cloudCallout">
              <a:avLst>
                <a:gd name="adj1" fmla="val 94856"/>
                <a:gd name="adj2" fmla="val 4855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4343040" y="3934080"/>
              <a:ext cx="2089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我还会表演呢！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285" name="Picture 6" descr="ren02"/>
          <p:cNvPicPr/>
          <p:nvPr/>
        </p:nvPicPr>
        <p:blipFill>
          <a:blip r:embed="rId3"/>
          <a:stretch/>
        </p:blipFill>
        <p:spPr>
          <a:xfrm>
            <a:off x="1692360" y="2565360"/>
            <a:ext cx="1773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小学语文（散文）02-4"/>
          <p:cNvPicPr/>
          <p:nvPr/>
        </p:nvPicPr>
        <p:blipFill>
          <a:blip r:embed="rId1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1908000" y="3038400"/>
            <a:ext cx="576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能学着课文中写小哥哥、小妹妹一样，把其他小朋友玩水踩水的情景画一画或者写一写吗？ 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88" name="Picture 10" descr="01"/>
          <p:cNvPicPr/>
          <p:nvPr/>
        </p:nvPicPr>
        <p:blipFill>
          <a:blip r:embed="rId2"/>
          <a:stretch/>
        </p:blipFill>
        <p:spPr>
          <a:xfrm>
            <a:off x="1517760" y="1844640"/>
            <a:ext cx="749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CBB5-D916-47C6-A88C-D08FB4E306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7"/>
          <p:cNvSpPr/>
          <p:nvPr/>
        </p:nvSpPr>
        <p:spPr>
          <a:xfrm>
            <a:off x="1476360" y="1800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60" name="Picture 4" descr="2008326104751411_2"/>
          <p:cNvPicPr/>
          <p:nvPr/>
        </p:nvPicPr>
        <p:blipFill>
          <a:blip r:embed="rId1"/>
          <a:stretch/>
        </p:blipFill>
        <p:spPr>
          <a:xfrm>
            <a:off x="0" y="0"/>
            <a:ext cx="96472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6659640" y="2997360"/>
            <a:ext cx="2247840" cy="158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635280" y="414972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400"/>
                </a:solidFill>
                <a:latin typeface="Times New Roman"/>
              </a:rPr>
              <a:t>树梢指树枝的末端，无论是大树头顶还是大树垂下的树枝，在末端就是树梢。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400"/>
                </a:solidFill>
                <a:latin typeface="Times New Roman"/>
              </a:rPr>
              <a:t>这组词注音的字拼音上有什么共同的特点呢？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4292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4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7400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ì</a:t>
            </a:r>
            <a:r>
              <a:rPr b="1" lang="en-US" sz="4000" spc="-1" strike="noStrike">
                <a:solidFill>
                  <a:srgbClr val="007400"/>
                </a:solidFill>
                <a:latin typeface="Times New Roman"/>
              </a:rPr>
              <a:t>n         f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è</a:t>
            </a:r>
            <a:r>
              <a:rPr b="1" lang="en-US" sz="4000" spc="-1" strike="noStrike">
                <a:solidFill>
                  <a:srgbClr val="007400"/>
                </a:solidFill>
                <a:latin typeface="Times New Roman"/>
              </a:rPr>
              <a:t>n    du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ǎ</a:t>
            </a:r>
            <a:r>
              <a:rPr b="1" lang="en-US" sz="4000" spc="-1" strike="noStrike">
                <a:solidFill>
                  <a:srgbClr val="0074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Times New Roman"/>
              </a:rPr>
              <a:t>使劲      兴奋      </a:t>
            </a:r>
            <a:r>
              <a:rPr b="1" lang="zh-CN" sz="4000" spc="-1" strike="noStrike">
                <a:solidFill>
                  <a:srgbClr val="661b0e"/>
                </a:solidFill>
                <a:latin typeface="Times New Roman"/>
              </a:rPr>
              <a:t>短</a:t>
            </a:r>
            <a:r>
              <a:rPr b="1" lang="zh-CN" sz="4000" spc="-1" strike="noStrike">
                <a:solidFill>
                  <a:srgbClr val="007400"/>
                </a:solidFill>
                <a:latin typeface="Times New Roman"/>
              </a:rPr>
              <a:t>粗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124000" y="4653000"/>
            <a:ext cx="48974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400"/>
                </a:solidFill>
                <a:latin typeface="Times New Roman"/>
              </a:rPr>
              <a:t>            </a:t>
            </a:r>
            <a:r>
              <a:rPr b="0" lang="en-US" sz="2600" spc="-1" strike="noStrike">
                <a:solidFill>
                  <a:srgbClr val="007400"/>
                </a:solidFill>
                <a:latin typeface="Times New Roman"/>
              </a:rPr>
              <a:t>xìng(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高兴</a:t>
            </a:r>
            <a:r>
              <a:rPr b="0" lang="en-US" sz="2600" spc="-1" strike="noStrike">
                <a:solidFill>
                  <a:srgbClr val="0074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兴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            </a:t>
            </a:r>
            <a:r>
              <a:rPr b="0" lang="en-US" sz="2600" spc="-1" strike="noStrike">
                <a:solidFill>
                  <a:srgbClr val="007400"/>
                </a:solidFill>
                <a:latin typeface="Times New Roman"/>
              </a:rPr>
              <a:t>xīng(</a:t>
            </a:r>
            <a:r>
              <a:rPr b="0" lang="zh-CN" sz="2600" spc="-1" strike="noStrike">
                <a:solidFill>
                  <a:srgbClr val="007400"/>
                </a:solidFill>
                <a:latin typeface="Times New Roman"/>
              </a:rPr>
              <a:t>兴奋</a:t>
            </a:r>
            <a:r>
              <a:rPr b="0" lang="en-US" sz="2600" spc="-1" strike="noStrike">
                <a:solidFill>
                  <a:srgbClr val="0074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700360" y="4724280"/>
            <a:ext cx="71280" cy="1368720"/>
          </a:xfrm>
          <a:custGeom>
            <a:avLst/>
            <a:gdLst>
              <a:gd name="textAreaLeft" fmla="*/ 45720 w 71280"/>
              <a:gd name="textAreaRight" fmla="*/ 71640 w 71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2028960" y="836640"/>
            <a:ext cx="4343400" cy="4494960"/>
            <a:chOff x="2028960" y="836640"/>
            <a:chExt cx="4343400" cy="4494960"/>
          </a:xfrm>
        </p:grpSpPr>
        <p:grpSp>
          <p:nvGrpSpPr>
            <p:cNvPr id="70" name="Group 5"/>
            <p:cNvGrpSpPr/>
            <p:nvPr/>
          </p:nvGrpSpPr>
          <p:grpSpPr>
            <a:xfrm>
              <a:off x="2028960" y="1068840"/>
              <a:ext cx="4343400" cy="4262760"/>
              <a:chOff x="2028960" y="1068840"/>
              <a:chExt cx="4343400" cy="4262760"/>
            </a:xfrm>
          </p:grpSpPr>
          <p:sp>
            <p:nvSpPr>
              <p:cNvPr id="71" name="Rectangle 6"/>
              <p:cNvSpPr/>
              <p:nvPr/>
            </p:nvSpPr>
            <p:spPr>
              <a:xfrm>
                <a:off x="2028960" y="1068840"/>
                <a:ext cx="4343400" cy="4262760"/>
              </a:xfrm>
              <a:prstGeom prst="rect">
                <a:avLst/>
              </a:prstGeom>
              <a:solidFill>
                <a:srgbClr val="ffffff"/>
              </a:solidFill>
              <a:ln w="41400">
                <a:solidFill>
                  <a:srgbClr val="007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2" name="Line 7"/>
              <p:cNvSpPr/>
              <p:nvPr/>
            </p:nvSpPr>
            <p:spPr>
              <a:xfrm>
                <a:off x="2028960" y="3238920"/>
                <a:ext cx="4343400" cy="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4200480" y="1068840"/>
                <a:ext cx="0" cy="4262760"/>
              </a:xfrm>
              <a:prstGeom prst="line">
                <a:avLst/>
              </a:prstGeom>
              <a:ln w="41400">
                <a:solidFill>
                  <a:srgbClr val="007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Text Box 9"/>
            <p:cNvSpPr/>
            <p:nvPr/>
          </p:nvSpPr>
          <p:spPr>
            <a:xfrm>
              <a:off x="2463120" y="836640"/>
              <a:ext cx="3764160" cy="43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短</a:t>
              </a:r>
              <a:endParaRPr b="0" lang="en-US" sz="28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400"/>
                </a:solidFill>
                <a:latin typeface="Times New Roman"/>
              </a:rPr>
              <a:t>这组词都有什么共同点呢？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00000" y="35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Times New Roman"/>
              </a:rPr>
              <a:t>唇儿       裙儿        水花儿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Times New Roman"/>
              </a:rPr>
              <a:t>哥</a:t>
            </a:r>
            <a:r>
              <a:rPr b="1" lang="zh-CN" sz="4000" spc="-1" strike="noStrike">
                <a:solidFill>
                  <a:srgbClr val="661b0e"/>
                </a:solidFill>
                <a:latin typeface="Times New Roman"/>
              </a:rPr>
              <a:t>哥 </a:t>
            </a:r>
            <a:r>
              <a:rPr b="1" lang="zh-CN" sz="4000" spc="-1" strike="noStrike">
                <a:solidFill>
                  <a:srgbClr val="007400"/>
                </a:solidFill>
                <a:latin typeface="Times New Roman"/>
              </a:rPr>
              <a:t>    拍</a:t>
            </a:r>
            <a:r>
              <a:rPr b="1" lang="zh-CN" sz="4000" spc="-1" strike="noStrike">
                <a:solidFill>
                  <a:srgbClr val="661b0e"/>
                </a:solidFill>
                <a:latin typeface="Times New Roman"/>
              </a:rPr>
              <a:t>拍</a:t>
            </a:r>
            <a:r>
              <a:rPr b="1" lang="zh-CN" sz="4000" spc="-1" strike="noStrike">
                <a:solidFill>
                  <a:srgbClr val="007400"/>
                </a:solidFill>
                <a:latin typeface="Times New Roman"/>
              </a:rPr>
              <a:t>     嘴</a:t>
            </a:r>
            <a:r>
              <a:rPr b="1" lang="zh-CN" sz="4000" spc="-1" strike="noStrike">
                <a:solidFill>
                  <a:srgbClr val="661b0e"/>
                </a:solidFill>
                <a:latin typeface="Times New Roman"/>
              </a:rPr>
              <a:t>里</a:t>
            </a:r>
            <a:r>
              <a:rPr b="1" lang="zh-CN" sz="4000" spc="-1" strike="noStrike">
                <a:solidFill>
                  <a:srgbClr val="007400"/>
                </a:solidFill>
                <a:latin typeface="Times New Roman"/>
              </a:rPr>
              <a:t>    脸</a:t>
            </a:r>
            <a:r>
              <a:rPr b="1" lang="zh-CN" sz="4000" spc="-1" strike="noStrike">
                <a:solidFill>
                  <a:srgbClr val="661b0e"/>
                </a:solidFill>
                <a:latin typeface="Times New Roman"/>
              </a:rPr>
              <a:t>上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6:37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9:21Z</dcterms:modified>
  <cp:revision>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