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12.jpeg" ContentType="image/jpeg"/>
  <Override PartName="/ppt/media/explode.wav" ContentType="audio/x-wav"/>
  <Override PartName="/ppt/media/image7.jpeg" ContentType="image/jpeg"/>
  <Override PartName="/ppt/media/image1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type.wav" ContentType="audio/x-wav"/>
  <Override PartName="/ppt/media/image3.jpeg" ContentType="image/jpeg"/>
  <Override PartName="/ppt/media/suction.wav" ContentType="audio/x-wav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0B4A-C83F-4081-971E-B35805A46D52}" type="slidenum">
              <a:rPr b="0" lang="zh-CN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335F-72F4-47DD-B512-A65C491DE097}" type="slidenum">
              <a:rPr b="0" lang="zh-CN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29A1-0F81-4805-B2ED-1EC13363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B83F-F808-4235-9D52-E4A81A39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DEAD-43EA-45B2-A681-DBD4EDD2C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E759-4EB4-47D7-805C-B8B612A2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A2CE-2EB3-4066-9080-2AC9BDE8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959D-F3DA-4D04-ACC2-DD12E763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6BB1-D14C-495B-AC69-CADE9416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F968-3FEB-4FDB-9D70-BE6D5ABE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F799-B0C6-43EC-A2EA-2981843F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A476-5F48-4B7B-B4F7-63DEE938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4343-F49A-483F-824B-DA633E98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FEB-7B9D-4661-B4D8-DC9412EB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B6C8-1799-4D1C-AA6E-2C3C14D2C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月亮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447920" y="582948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44720" y="475920"/>
            <a:ext cx="9288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ff9999"/>
                </a:solidFill>
                <a:latin typeface="Arial"/>
                <a:ea typeface="黑体"/>
              </a:rPr>
              <a:t>有一次，大风吹呀吹，吹了三天三夜，把一朵小小的蒲公英被吹到了一个很远的地方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34920" y="134100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风停了。蒲公英睁开眼睛一看，啊！这是什么地方？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陌生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的树，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陌生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的山，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陌生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的小河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995640" y="378936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天渐渐黑了，迷路的蒲公英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急得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哭了。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07" name="Picture 4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4572000" y="91440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风停了。蒲公英睁开眼睛一看，啊！这是什么地方？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陌生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树，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陌生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山，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陌生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小河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……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495680" y="434340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天渐渐黑了，迷路的蒲公英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急得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哭了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2987640" cy="42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24000" y="18900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啊，月亮爬上了山顶，真像一只弯弯的小船。小船上有个仙女和一只小白兔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　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2" name="Picture 4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85800" y="838080"/>
            <a:ext cx="3352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啊，月亮爬上了山顶，真像一只弯弯的小船。小船上有个仙女和一只小白兔。　　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图片1"/>
          <p:cNvPicPr/>
          <p:nvPr/>
        </p:nvPicPr>
        <p:blipFill>
          <a:blip r:embed="rId1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867280" cy="42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宋体"/>
              </a:rPr>
              <a:t>我的家在世界的东方，那儿有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最大</a:t>
            </a:r>
            <a:r>
              <a:rPr b="1" lang="zh-CN" sz="4400" spc="-1" strike="noStrike">
                <a:solidFill>
                  <a:srgbClr val="cc0000"/>
                </a:solidFill>
                <a:latin typeface="宋体"/>
              </a:rPr>
              <a:t>的海洋，</a:t>
            </a:r>
            <a:br>
              <a:rPr sz="4400"/>
            </a:br>
            <a:r>
              <a:rPr b="1" lang="zh-CN" sz="4400" spc="-1" strike="noStrike">
                <a:solidFill>
                  <a:srgbClr val="cc0000"/>
                </a:solidFill>
                <a:latin typeface="宋体"/>
              </a:rPr>
              <a:t>那儿有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最高</a:t>
            </a:r>
            <a:r>
              <a:rPr b="1" lang="zh-CN" sz="4400" spc="-1" strike="noStrike">
                <a:solidFill>
                  <a:srgbClr val="cc0000"/>
                </a:solidFill>
                <a:latin typeface="宋体"/>
              </a:rPr>
              <a:t>的山脉，</a:t>
            </a:r>
            <a:br>
              <a:rPr sz="4400"/>
            </a:br>
            <a:r>
              <a:rPr b="1" lang="zh-CN" sz="4400" spc="-1" strike="noStrike">
                <a:solidFill>
                  <a:srgbClr val="cc0000"/>
                </a:solidFill>
                <a:latin typeface="宋体"/>
              </a:rPr>
              <a:t>那儿有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最长</a:t>
            </a:r>
            <a:r>
              <a:rPr b="1" lang="zh-CN" sz="4400" spc="-1" strike="noStrike">
                <a:solidFill>
                  <a:srgbClr val="cc0000"/>
                </a:solidFill>
                <a:latin typeface="宋体"/>
              </a:rPr>
              <a:t>的城墙，</a:t>
            </a:r>
            <a:br>
              <a:rPr sz="4400"/>
            </a:br>
            <a:r>
              <a:rPr b="1" lang="zh-CN" sz="4400" spc="-1" strike="noStrike">
                <a:solidFill>
                  <a:srgbClr val="cc0000"/>
                </a:solidFill>
                <a:latin typeface="宋体"/>
              </a:rPr>
              <a:t>那儿有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最大</a:t>
            </a:r>
            <a:r>
              <a:rPr b="1" lang="zh-CN" sz="4400" spc="-1" strike="noStrike">
                <a:solidFill>
                  <a:srgbClr val="cc0000"/>
                </a:solidFill>
                <a:latin typeface="宋体"/>
              </a:rPr>
              <a:t>的广场</a:t>
            </a:r>
            <a:r>
              <a:rPr b="1" lang="en-US" sz="4400" spc="-1" strike="noStrike">
                <a:solidFill>
                  <a:srgbClr val="cc0000"/>
                </a:solidFill>
                <a:latin typeface="宋体"/>
              </a:rPr>
              <a:t>…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-360" y="188640"/>
            <a:ext cx="42116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小白兔把短尾巴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伸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到船外，尾巴越变越长，一直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拖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到地上，蒲公英沿着兔子尾巴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攀上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了月亮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亮船在云海里飘哇飘，蒲公英看见了世界上最大的海洋，仙女告诉他，那叫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太平洋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"/>
          <p:cNvSpPr/>
          <p:nvPr/>
        </p:nvSpPr>
        <p:spPr>
          <a:xfrm>
            <a:off x="457200" y="5946840"/>
            <a:ext cx="53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00"/>
                </a:solidFill>
                <a:uFillTx/>
                <a:latin typeface="Arial"/>
              </a:rPr>
              <a:t>更多免费</a:t>
            </a:r>
            <a:r>
              <a:rPr b="0" lang="zh-CN" sz="1800" spc="-1" strike="noStrike" u="sng">
                <a:solidFill>
                  <a:srgbClr val="ffff00"/>
                </a:solidFill>
                <a:uFillTx/>
                <a:latin typeface="Arial"/>
              </a:rPr>
              <a:t>PPT</a:t>
            </a:r>
            <a:r>
              <a:rPr b="0" lang="zh-CN" sz="1800" spc="-1" strike="noStrike" u="sng">
                <a:solidFill>
                  <a:srgbClr val="ffff00"/>
                </a:solidFill>
                <a:uFillTx/>
                <a:latin typeface="Arial"/>
              </a:rPr>
              <a:t>模板下载：</a:t>
            </a:r>
            <a:r>
              <a:rPr b="0" lang="zh-CN" sz="1800" spc="-1" strike="noStrike" u="sng">
                <a:solidFill>
                  <a:srgbClr val="ffff00"/>
                </a:solidFill>
                <a:uFillTx/>
                <a:latin typeface="Arial"/>
              </a:rPr>
              <a:t>http://www.eeppt.com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43280" y="333360"/>
            <a:ext cx="450072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蒲公英看见了世界上最高的山，仙女告诉他，那是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喜马拉雅山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突然，地面上出现了一片亮光，仙女告诉她，这就是世界上最大的广场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天安门广场。 那儿的灯发出红的、绿的、蓝的、黄的光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209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月亮船来到了万里长城上空，蒲公英看到了，激动地喊了起来：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停一停，停一停，这就是我的家，我就住在大墙下的一颗小草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4"/>
          <p:cNvSpPr/>
          <p:nvPr/>
        </p:nvSpPr>
        <p:spPr>
          <a:xfrm>
            <a:off x="2354400" y="360360"/>
            <a:ext cx="456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月亮船来到了万里长城上空，蒲公英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看到了，激动地喊了起来：“停一停，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停一停，这就是我的家，我就住在大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墙下的一颗小草旁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1001554_142024082128_2"/>
          <p:cNvPicPr/>
          <p:nvPr/>
        </p:nvPicPr>
        <p:blipFill>
          <a:blip r:embed="rId1"/>
          <a:stretch/>
        </p:blipFill>
        <p:spPr>
          <a:xfrm>
            <a:off x="0" y="0"/>
            <a:ext cx="9269280" cy="68976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179280" y="260280"/>
            <a:ext cx="633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再见，孩子记住你的家叫中国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…”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仙女说着，驾着月亮船走了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51f38498dcfdf22b6f068c9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3886200" y="114300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657600" y="1371600"/>
            <a:ext cx="4572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初读课文，读准字音，遇到不认识的字，用自己喜欢的方式认识它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blinds dir="vert"/>
    <p:sndAc>
      <p:stSnd>
        <p:snd r:embed="rId2" name="explod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51f38498dcfdf22b6f068c9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838080" y="1155600"/>
            <a:ext cx="8001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最大的海洋：太平洋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最高的山脉：喜马拉雅山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最长的城墙：长城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最大的广场：天安门广场 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图片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图片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图片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ACD1-9E21-40C9-9572-0607A6653C3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51f38498dcfdf22b6f068c9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362320" y="6858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陌生的树，陌生的山，陌生的小河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362320" y="3808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ò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809880" y="25639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天渐渐黑了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886200" y="36576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可怜的孩子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343400" y="20574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iàn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4419720" y="3352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án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zoom dir="in"/>
    <p:sndAc>
      <p:stSnd>
        <p:snd r:embed="rId2" name="suction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51f38498dcfdf22b6f068c9d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3429000" y="533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那是 妈妈教给她的一首歌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657600" y="1600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那有最高的山脉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352680" y="228600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白兔把短尾巴伸到船外，尾巴越变越长，一直拖到地上。蒲公英沿着兔子尾巴，攀上了月亮船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5097600" y="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iā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021360" y="114300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ài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4955400" y="32767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uè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3321000" y="425592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uō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6692400" y="42559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án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4946400" y="525780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ān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checker dir="horz"/>
    <p:sndAc>
      <p:stSnd>
        <p:snd r:embed="rId2" name="type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13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2" name="Picture 4" descr="51f38498dcfdf22b6f068c9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4038480" y="838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那是喜马拉雅山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809880" y="1676520"/>
            <a:ext cx="4876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那儿的灯发出红的、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绿的、蓝的、黄的光芒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657600" y="342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蒲公英看到了，激动得喊了起来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3276720" y="51055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仙女说着，驾着月亮船走了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6072480" y="3697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ǎ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7318440" y="20574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áng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670800" y="3048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ī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5335200" y="4724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ià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comb dir="horz"/>
    <p:sndAc>
      <p:stSnd>
        <p:snd r:embed="rId2" name="chimes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51f38498dcfdf22b6f068c9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533520" y="762120"/>
            <a:ext cx="83055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陌生   渐渐  可怜  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教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给  山脉  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越变越长  拖地  沿着  攀上  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喜马拉雅山  光芒  激动  驾船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41360" y="86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89680" y="838080"/>
            <a:ext cx="71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ò           jiàn             lián   jiāo             mài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97160" y="2514600"/>
            <a:ext cx="63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uè                    tuō         Yán        pā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320200" y="4191120"/>
            <a:ext cx="487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ǎ           máng  jī         jià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51f38498dcfdf22b6f068c9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1295280" y="213372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</a:rPr>
              <a:t>教</a:t>
            </a:r>
            <a:endParaRPr b="0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 flipV="1">
            <a:off x="2590920" y="2362320"/>
            <a:ext cx="457200" cy="45720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2590920" y="2819520"/>
            <a:ext cx="457200" cy="53316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3276720" y="1981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200400" y="205740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iāo   (           )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3200400" y="3124080"/>
            <a:ext cx="350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iào   (           )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5234040" y="20574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教书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5234040" y="3124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教师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newsflash/>
    <p:sndAc>
      <p:stSnd>
        <p:snd r:embed="rId2" name="chimes.wav"/>
      </p:stSnd>
    </p:sndAc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77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770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4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51f38498dcfdf22b6f068c9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0" y="38088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陌 渐 怜 </a:t>
            </a:r>
            <a:r>
              <a:rPr b="1" lang="zh-CN" sz="8000" spc="-1" strike="noStrike">
                <a:solidFill>
                  <a:srgbClr val="0066ff"/>
                </a:solidFill>
                <a:latin typeface="Arial"/>
              </a:rPr>
              <a:t>教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 脉 越 拖 沿 攀 雅 芒 激 驾</a:t>
            </a:r>
            <a:endParaRPr b="0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365040" y="936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188640" y="762120"/>
            <a:ext cx="87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ò   jiàn   lián   jiāo   mài   yuè    tuō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29520" y="3124080"/>
            <a:ext cx="746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Yán   pān    yǎ   máng   jī     jià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cover dir="d"/>
    <p:sndAc>
      <p:stSnd>
        <p:snd r:embed="rId2" name="chimes.wav"/>
      </p:stSnd>
    </p:sndAc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0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51f38498dcfdf22b6f068c9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304920" y="1143000"/>
            <a:ext cx="83818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再读课文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弄清楚课文讲了一件什么事情？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蒲公英路过了哪些地方？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cover dir="r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0T13:20:5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5:07Z</dcterms:modified>
  <cp:revision>2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