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cashreg.wav" ContentType="audio/x-wav"/>
  <Override PartName="/ppt/media/image11.png" ContentType="image/png"/>
  <Override PartName="/ppt/media/image7.jpeg" ContentType="image/jpeg"/>
  <Override PartName="/ppt/media/image15.gif" ContentType="image/gif"/>
  <Override PartName="/ppt/media/image17.jpeg" ContentType="image/jpeg"/>
  <Override PartName="/ppt/media/camera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F34E-14A1-4559-B9FC-337A85128B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76BF-2D85-43BD-9B37-FB104536A4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793-7508-407F-85E0-8C56C292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E3B-09FF-45C5-B5F0-0B24F4DE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D48-E9D9-43C6-8E40-3CC0716A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3AF-6B7A-4476-8B8C-3C8D0A7B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4BD-446D-4D93-94FA-8E3FEA5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5D7-FDB7-4FD3-A171-87DB7E8D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DB1-1B54-4672-AB06-0BEB3ACC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AA0-D2FB-4208-9CCC-8EDB411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F2D-712F-438E-AAF3-F2791E6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F6E-10BA-4666-BBBD-8C0995E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CC0-DD2B-41EC-9C24-FF059FB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9A0-CE11-4752-AA0D-AB673C2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6FE4-2FD6-4DBE-9016-B152CD03F9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133720" y="762120"/>
            <a:ext cx="548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257480" y="944640"/>
            <a:ext cx="6629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00"/>
                </a:solidFill>
                <a:latin typeface="Arial"/>
                <a:ea typeface="隶书"/>
              </a:rPr>
              <a:t>一路鲜花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886760" y="57434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512136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爷爷去干什么了？爷爷的心情怎么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"/>
          <p:cNvPicPr/>
          <p:nvPr/>
        </p:nvPicPr>
        <p:blipFill>
          <a:blip r:embed="rId2"/>
          <a:stretch/>
        </p:blipFill>
        <p:spPr>
          <a:xfrm>
            <a:off x="6781680" y="502920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152280" y="39625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  <a:ea typeface="楷体_GB2312"/>
              </a:rPr>
              <a:t>想想</a:t>
            </a:r>
            <a:r>
              <a:rPr b="0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3333.wma" descr=""/>
          <p:cNvPicPr/>
          <p:nvPr/>
        </p:nvPicPr>
        <p:blipFill>
          <a:blip r:embed="rId3"/>
          <a:stretch/>
        </p:blipFill>
        <p:spPr>
          <a:xfrm>
            <a:off x="5638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21932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一年后，爷爷又去干什么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0" y="380880"/>
            <a:ext cx="1752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  <a:ea typeface="黑体"/>
              </a:rPr>
              <a:t>想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3333.wma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111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图片5"/>
          <p:cNvPicPr/>
          <p:nvPr/>
        </p:nvPicPr>
        <p:blipFill>
          <a:blip r:embed="rId1"/>
          <a:stretch/>
        </p:blipFill>
        <p:spPr>
          <a:xfrm>
            <a:off x="-225360" y="-838080"/>
            <a:ext cx="936936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20059311502[1]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371600" y="2286000"/>
            <a:ext cx="7315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这条路为什么会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为</a:t>
            </a:r>
            <a:r>
              <a:rPr b="1" lang="zh-CN" sz="6000" spc="-1" strike="noStrike">
                <a:solidFill>
                  <a:srgbClr val="333399"/>
                </a:solidFill>
                <a:latin typeface="华文中宋"/>
              </a:rPr>
              <a:t>“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鲜花公路</a:t>
            </a:r>
            <a:r>
              <a:rPr b="1" lang="zh-CN" sz="6000" spc="-1" strike="noStrike">
                <a:solidFill>
                  <a:srgbClr val="333399"/>
                </a:solidFill>
                <a:latin typeface="华文中宋"/>
              </a:rPr>
              <a:t>”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bk1[1]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23880" y="2209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如果你作为一名乘客看到这一切，你有什么话对阿光爷爷说，又有什么想做的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295280" y="990720"/>
            <a:ext cx="34290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来说一说</a:t>
            </a:r>
            <a:endParaRPr b="0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755640" y="5559480"/>
            <a:ext cx="49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838080" y="41148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2222.mp3" descr=""/>
          <p:cNvPicPr/>
          <p:nvPr/>
        </p:nvPicPr>
        <p:blipFill>
          <a:blip r:embed="rId2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9273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25B1-ECB4-473C-BC74-FBB7C0582B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图片6"/>
          <p:cNvPicPr/>
          <p:nvPr/>
        </p:nvPicPr>
        <p:blipFill>
          <a:blip r:embed="rId1"/>
          <a:stretch/>
        </p:blipFill>
        <p:spPr>
          <a:xfrm>
            <a:off x="0" y="0"/>
            <a:ext cx="111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95320" y="1523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1066680" y="380880"/>
            <a:ext cx="20574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14400" y="1523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自己读一读课文，注意一定要把课文里的每一个字都读准。如果遇到不认识的字可以借助拼音，或问老师，问同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333.wma" descr=""/>
          <p:cNvPicPr/>
          <p:nvPr/>
        </p:nvPicPr>
        <p:blipFill>
          <a:blip r:embed="rId2"/>
          <a:stretch/>
        </p:blipFill>
        <p:spPr>
          <a:xfrm>
            <a:off x="79246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38080" y="304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之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62520" y="304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往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58000" y="304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退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flipH="1">
            <a:off x="685800" y="2133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一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489480" y="1905120"/>
            <a:ext cx="184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水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629400" y="2057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锄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80880" y="3581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一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657600" y="36576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好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095880" y="35812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又快又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33520" y="5334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很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657600" y="5257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厉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400800" y="5181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铺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6" descr="图片5"/>
          <p:cNvPicPr/>
          <p:nvPr/>
        </p:nvPicPr>
        <p:blipFill>
          <a:blip r:embed="rId1"/>
          <a:stretch/>
        </p:blipFill>
        <p:spPr>
          <a:xfrm>
            <a:off x="304920" y="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图片5"/>
          <p:cNvPicPr/>
          <p:nvPr/>
        </p:nvPicPr>
        <p:blipFill>
          <a:blip r:embed="rId2"/>
          <a:stretch/>
        </p:blipFill>
        <p:spPr>
          <a:xfrm>
            <a:off x="3352680" y="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图片5"/>
          <p:cNvPicPr/>
          <p:nvPr/>
        </p:nvPicPr>
        <p:blipFill>
          <a:blip r:embed="rId3"/>
          <a:stretch/>
        </p:blipFill>
        <p:spPr>
          <a:xfrm>
            <a:off x="6400800" y="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图片5"/>
          <p:cNvPicPr/>
          <p:nvPr/>
        </p:nvPicPr>
        <p:blipFill>
          <a:blip r:embed="rId4"/>
          <a:stretch/>
        </p:blipFill>
        <p:spPr>
          <a:xfrm>
            <a:off x="3352680" y="1676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0" descr="图片5"/>
          <p:cNvPicPr/>
          <p:nvPr/>
        </p:nvPicPr>
        <p:blipFill>
          <a:blip r:embed="rId5"/>
          <a:stretch/>
        </p:blipFill>
        <p:spPr>
          <a:xfrm>
            <a:off x="304920" y="16765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图片5"/>
          <p:cNvPicPr/>
          <p:nvPr/>
        </p:nvPicPr>
        <p:blipFill>
          <a:blip r:embed="rId6"/>
          <a:stretch/>
        </p:blipFill>
        <p:spPr>
          <a:xfrm>
            <a:off x="6248520" y="1752480"/>
            <a:ext cx="2361960" cy="1613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图片5"/>
          <p:cNvPicPr/>
          <p:nvPr/>
        </p:nvPicPr>
        <p:blipFill>
          <a:blip r:embed="rId7"/>
          <a:stretch/>
        </p:blipFill>
        <p:spPr>
          <a:xfrm>
            <a:off x="228600" y="342900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图片5"/>
          <p:cNvPicPr/>
          <p:nvPr/>
        </p:nvPicPr>
        <p:blipFill>
          <a:blip r:embed="rId8"/>
          <a:stretch/>
        </p:blipFill>
        <p:spPr>
          <a:xfrm>
            <a:off x="3276720" y="3352680"/>
            <a:ext cx="2286000" cy="175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2" name="Picture 34" descr="图片5"/>
          <p:cNvPicPr/>
          <p:nvPr/>
        </p:nvPicPr>
        <p:blipFill>
          <a:blip r:embed="rId9"/>
          <a:stretch/>
        </p:blipFill>
        <p:spPr>
          <a:xfrm>
            <a:off x="6248520" y="3352680"/>
            <a:ext cx="236196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图片5"/>
          <p:cNvPicPr/>
          <p:nvPr/>
        </p:nvPicPr>
        <p:blipFill>
          <a:blip r:embed="rId10"/>
          <a:stretch/>
        </p:blipFill>
        <p:spPr>
          <a:xfrm>
            <a:off x="304920" y="5105520"/>
            <a:ext cx="2133360" cy="175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6" descr="图片5"/>
          <p:cNvPicPr/>
          <p:nvPr/>
        </p:nvPicPr>
        <p:blipFill>
          <a:blip r:embed="rId11"/>
          <a:stretch/>
        </p:blipFill>
        <p:spPr>
          <a:xfrm>
            <a:off x="3352680" y="502920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7" descr="图片5"/>
          <p:cNvPicPr/>
          <p:nvPr/>
        </p:nvPicPr>
        <p:blipFill>
          <a:blip r:embed="rId12"/>
          <a:stretch/>
        </p:blipFill>
        <p:spPr>
          <a:xfrm>
            <a:off x="6324480" y="50292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2362320" y="1752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（   ）麻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91120" y="29718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（    ）水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133720" y="42670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（    ）锄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657600" y="5486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（    ）花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581280" y="17524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486400" y="2971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429000" y="4267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5165640" y="563868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4952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1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42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