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0FD2C-44AE-4978-BC31-7B210067606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D65BF-B4A2-4107-92FE-AD71919752B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8F23-35E5-4F6D-812A-CEA29EE06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6801-28EB-450C-B94E-0B91A702C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F68D-4D3C-4253-941C-0F7D2DCE2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1881-6AE0-4CD1-A692-C59A0D92D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9E30-7C2C-4C85-B202-8CD032E45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0F6B-59A4-48DE-8201-FA322A7B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E568-1B11-49E9-AC0F-FBCD3D173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4645-8243-4C4F-A718-F5C2D4EC6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99AB-9349-4DD3-BB5D-7E69CAD10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6973-51A0-422E-846C-132A7CF3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738D-1204-4F5E-A6B8-30B0D84B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36BD-8196-4F44-9026-5FBE5858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CB4A7-AE4E-4A95-A440-1312743E5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3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2108160" y="1341360"/>
            <a:ext cx="48960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c00000"/>
                </a:solidFill>
                <a:latin typeface="隶书"/>
                <a:ea typeface="隶书"/>
              </a:rPr>
              <a:t>元日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0"/>
          <p:cNvSpPr/>
          <p:nvPr/>
        </p:nvSpPr>
        <p:spPr>
          <a:xfrm>
            <a:off x="2270520" y="4354560"/>
            <a:ext cx="5642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20090304194500907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3924360" y="1484280"/>
            <a:ext cx="1224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在噼噼啪啪的爆竹声中，旧的一年过去了，新的一年来到了。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IN$D[GAIT9)FHDI~$@0SUG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迎着和煦的春风，开怀畅饮屠苏酒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1" descr="84f3640ca2c1bdf27acbe15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250920" y="22762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孩子们喝着屠苏酒，会说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-108000" y="620640"/>
            <a:ext cx="9396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迎着和煦的春风，品着新年的吉祥酒，他们可能会说些什么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324000" y="4205160"/>
            <a:ext cx="680400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老年人喝着屠苏酒，会说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250920" y="3268800"/>
            <a:ext cx="822960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年轻人喝着屠苏酒，会说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—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0" descr="891bc7ca8fb4a32f7e3e6f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-181440" y="188640"/>
            <a:ext cx="7489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在王安石担任宰相之后，积极推行新法，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元日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》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就写于这一年的春节。在他的心目中，新的国家政策好像春风浩荡，阳光普照，一定会给国家带来了欣欣向荣、人民安居乐业的新气象，此时此刻，王安石的心情怎样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755640" y="436572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cc"/>
                </a:solidFill>
                <a:latin typeface="隶书"/>
                <a:ea typeface="隶书"/>
              </a:rPr>
              <a:t>兴 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2411280" y="43657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cc"/>
                </a:solidFill>
                <a:latin typeface="隶书"/>
                <a:ea typeface="隶书"/>
              </a:rPr>
              <a:t>激 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4140360" y="436572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cc"/>
                </a:solidFill>
                <a:latin typeface="隶书"/>
                <a:ea typeface="隶书"/>
              </a:rPr>
              <a:t>充 满 信 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891bc7ca8fb4a32f7e3e6f59"/>
          <p:cNvPicPr/>
          <p:nvPr/>
        </p:nvPicPr>
        <p:blipFill>
          <a:blip r:embed="rId1"/>
          <a:stretch/>
        </p:blipFill>
        <p:spPr>
          <a:xfrm>
            <a:off x="-181080" y="0"/>
            <a:ext cx="9433080" cy="69944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1671480" y="1346040"/>
            <a:ext cx="470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684360" y="100476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在噼噼啪啪的爆竹声中，旧的一年过去了，新的一年到了；人们迎着和煦的春风，开怀畅饮屠苏酒。旭日的光辉普照千家万户；为庆祝新春，人们总要拿新的春联换下旧的春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1"/>
          <p:cNvSpPr/>
          <p:nvPr/>
        </p:nvSpPr>
        <p:spPr>
          <a:xfrm>
            <a:off x="228600" y="5111640"/>
            <a:ext cx="578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梅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93f3ff8886cc9c5acafc7a6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9"/>
          <p:cNvSpPr/>
          <p:nvPr/>
        </p:nvSpPr>
        <p:spPr>
          <a:xfrm>
            <a:off x="-3600" y="907920"/>
            <a:ext cx="35024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为  有  暗  香  来 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2764800" y="1844640"/>
            <a:ext cx="424404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王  安  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3184560" y="907920"/>
            <a:ext cx="201924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凌  寒  独  自  开 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2051280" y="1052640"/>
            <a:ext cx="37810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墙  角  数  枝  梅 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4"/>
          <p:cNvSpPr/>
          <p:nvPr/>
        </p:nvSpPr>
        <p:spPr>
          <a:xfrm>
            <a:off x="7087680" y="1125360"/>
            <a:ext cx="147060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梅   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5"/>
          <p:cNvSpPr/>
          <p:nvPr/>
        </p:nvSpPr>
        <p:spPr>
          <a:xfrm>
            <a:off x="1198440" y="907920"/>
            <a:ext cx="279252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遥  知  不  是  雪 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复件 1190013376_bcgz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1547640" y="1341360"/>
            <a:ext cx="3745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泊  船  瓜  洲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755640" y="2060640"/>
            <a:ext cx="360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3953880" y="2133720"/>
            <a:ext cx="124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王 安 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611280" y="2781360"/>
            <a:ext cx="5616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京  口  瓜  洲  一  水  间 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684360" y="357336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钟  山  只  隔  数  重  山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611280" y="4292640"/>
            <a:ext cx="576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春  风  又  绿  江  南  岸 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684360" y="5157720"/>
            <a:ext cx="54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明  月  何  时  照  我  还 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8" descr="8d93c20c791959176259f3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9"/>
          <p:cNvSpPr/>
          <p:nvPr/>
        </p:nvSpPr>
        <p:spPr>
          <a:xfrm rot="1845000">
            <a:off x="1479240" y="1558080"/>
            <a:ext cx="100332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ff"/>
                </a:solidFill>
                <a:latin typeface="Arial"/>
              </a:rPr>
              <a:t>谢    谢    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E0F05-DC6F-43E5-8F13-55E5FB0E2CA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106987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7"/>
          <p:cNvSpPr/>
          <p:nvPr/>
        </p:nvSpPr>
        <p:spPr>
          <a:xfrm>
            <a:off x="7529040" y="4840200"/>
            <a:ext cx="729000" cy="20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隶书"/>
                <a:ea typeface="隶书"/>
              </a:rPr>
              <a:t>舞  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xin_2820106201134718191216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7"/>
          <p:cNvSpPr/>
          <p:nvPr/>
        </p:nvSpPr>
        <p:spPr>
          <a:xfrm>
            <a:off x="4748400" y="1268280"/>
            <a:ext cx="12776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隶书"/>
                <a:ea typeface="隶书"/>
              </a:rPr>
              <a:t>放 烟 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286206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7"/>
          <p:cNvSpPr/>
          <p:nvPr/>
        </p:nvSpPr>
        <p:spPr>
          <a:xfrm>
            <a:off x="7086960" y="189000"/>
            <a:ext cx="15634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隶书"/>
                <a:ea typeface="隶书"/>
              </a:rPr>
              <a:t>挂  灯  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%E8%BF%87%E5%B9%B4%E4%BA%86%EF%BC%88%E5%A7%9C%E5%B0%91%E5%8D%8E%E6%91%84%EF%BC%89_JPG_jpg"/>
          <p:cNvPicPr/>
          <p:nvPr/>
        </p:nvPicPr>
        <p:blipFill>
          <a:blip r:embed="rId1"/>
          <a:stretch/>
        </p:blipFill>
        <p:spPr>
          <a:xfrm>
            <a:off x="-10800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9"/>
          <p:cNvSpPr/>
          <p:nvPr/>
        </p:nvSpPr>
        <p:spPr>
          <a:xfrm>
            <a:off x="-220320" y="1773360"/>
            <a:ext cx="12776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隶书"/>
                <a:ea typeface="隶书"/>
              </a:rPr>
              <a:t>贴  春  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61_8944_46e5374cb1583aa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56116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6"/>
          <p:cNvSpPr/>
          <p:nvPr/>
        </p:nvSpPr>
        <p:spPr>
          <a:xfrm>
            <a:off x="900000" y="5803920"/>
            <a:ext cx="7777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隶书"/>
              </a:rPr>
              <a:t>全 家 人 围 坐 观 看 春 节 联 欢 晚 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0d81a3c5460e25f2d10060d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200904231757509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1403280" y="620280"/>
            <a:ext cx="66247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元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在字典中的解释有以下六种，你认为在这里是哪种解释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）开始的，第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）为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）主要、根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）元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）构成一个整体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）货币单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>
            <a:hlinkClick r:id="rId3" action="ppaction://hlinksldjump"/>
          </p:cNvPr>
          <p:cNvSpPr/>
          <p:nvPr/>
        </p:nvSpPr>
        <p:spPr>
          <a:xfrm>
            <a:off x="1258920" y="386064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"/>
                <a:ea typeface="隶书"/>
              </a:rPr>
              <a:t>元日：农历正月初一，即春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200904231759406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763560" y="17114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Arial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自读要求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900000" y="4292640"/>
            <a:ext cx="78123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边读边把不懂的字或词用圈圈起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914400" y="2492280"/>
            <a:ext cx="8229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把整首诗读通、读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900000" y="3573360"/>
            <a:ext cx="79549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通过自己的朗读，试着把节律画出来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20090423175750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7"/>
          <p:cNvSpPr/>
          <p:nvPr/>
        </p:nvSpPr>
        <p:spPr>
          <a:xfrm>
            <a:off x="1403280" y="765000"/>
            <a:ext cx="33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324000" y="18900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资料库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971640" y="1052640"/>
            <a:ext cx="619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一岁除：一年已尽。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隶书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971640" y="1700280"/>
            <a:ext cx="6948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屠苏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r>
              <a:rPr b="0" lang="zh-CN" sz="2800" spc="-1" strike="noStrike">
                <a:solidFill>
                  <a:srgbClr val="ffff66"/>
                </a:solidFill>
                <a:latin typeface="隶书"/>
                <a:ea typeface="隶书"/>
              </a:rPr>
              <a:t>指屠苏酒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古代习俗，大年初一全家合饮这种用屠苏草浸泡的酒，以驱邪避瘟疫，求得长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1042920" y="2924280"/>
            <a:ext cx="6913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曈曈：太阳初升时光亮耀眼的样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1042920" y="3357720"/>
            <a:ext cx="7056360" cy="13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新桃，旧符：古代一种风俗，农历正月初一时人们用桃木板写上神茶、郁垒两位神灵的名字，悬挂在门旁，用来压邪。</a:t>
            </a:r>
            <a:r>
              <a:rPr b="0" lang="zh-CN" sz="2800" spc="-1" strike="noStrike">
                <a:solidFill>
                  <a:srgbClr val="ffff66"/>
                </a:solidFill>
                <a:latin typeface="Arial"/>
                <a:ea typeface="隶书"/>
              </a:rPr>
              <a:t>现在则指春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15:26:39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31:21Z</dcterms:modified>
  <cp:revision>1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