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4251-A49F-4EE2-9565-4D13FC26C8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62E9-B124-493A-A7AA-8859022A5A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14FE-955F-4720-9E51-5D5646D5F1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3A3D-BB0D-4581-A05C-70A7F4B219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7393-E4DD-4F43-9397-20A5AE7319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101E-90FA-47E7-839F-FA2669EF9D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生听写一类生字后再板演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9A9-D5C2-4AE6-988F-0C57FB9D73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D265-A5A3-4BD5-B467-159547B62E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生甲：“种窗帘”是怎么回事呢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学生乙：“窗帘”可以种吗？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随着录音看课文，看能不能在文中找到答案。点击播放声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5281-5102-4874-B6AF-1709B0F818F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请学生分读课文，标出自然段序号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分阶段讲解课文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播放声音，第一、二自然段，种下种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指名读第三段。 绿窗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生齐读第四自然段。 花窗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生自由学习第五自然段。 金色的窗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8E2-FFC9-4460-84CB-CE85F7B7D8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C388-7DDB-434D-900E-05E851C101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学生结尾段后讨论问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由学生自选片段，老师随机指导朗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E97A-B4A7-4A18-A742-135C5362B11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E1B4-5032-4ECB-9973-19A3978826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18C-34B2-49FD-AB7E-C34025A9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FB6-1B44-4474-BBE8-8943F52B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1C4-CF5A-4921-9AB0-703E3797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C5C-7CA7-4E99-BD26-D5E824E3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185-0B9E-49C0-B693-59BB1828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0719-E6B5-49F6-9DA8-19F57787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EB2-CE44-4FEA-B35B-F2E61A97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6A3-6AF4-4F66-8BA7-4E96EF98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E60-3E3F-4585-BCDB-D48BCEA9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C20D-8ECD-4D76-9785-0F5DF9A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8F36-22D7-4B93-B0B9-6D8A52F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616-153D-4928-B173-8037AE8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EAC7-F589-474D-A11C-874E065481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课本花"/>
          <p:cNvPicPr/>
          <p:nvPr/>
        </p:nvPicPr>
        <p:blipFill>
          <a:blip r:embed="rId1"/>
          <a:stretch/>
        </p:blipFill>
        <p:spPr>
          <a:xfrm>
            <a:off x="5710320" y="681120"/>
            <a:ext cx="3433680" cy="5862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课本花"/>
          <p:cNvPicPr/>
          <p:nvPr/>
        </p:nvPicPr>
        <p:blipFill>
          <a:blip r:embed="rId2"/>
          <a:stretch/>
        </p:blipFill>
        <p:spPr>
          <a:xfrm>
            <a:off x="0" y="695160"/>
            <a:ext cx="4106880" cy="5848560"/>
          </a:xfrm>
          <a:prstGeom prst="rect">
            <a:avLst/>
          </a:prstGeom>
          <a:ln w="0">
            <a:noFill/>
          </a:ln>
        </p:spPr>
      </p:pic>
      <p:sp>
        <p:nvSpPr>
          <p:cNvPr id="50" name="副标题 2"/>
          <p:cNvSpPr/>
          <p:nvPr/>
        </p:nvSpPr>
        <p:spPr>
          <a:xfrm>
            <a:off x="563400" y="339840"/>
            <a:ext cx="64008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湘教版小学二年级语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4" descr=""/>
          <p:cNvPicPr/>
          <p:nvPr/>
        </p:nvPicPr>
        <p:blipFill>
          <a:blip r:embed="rId3"/>
          <a:stretch/>
        </p:blipFill>
        <p:spPr>
          <a:xfrm>
            <a:off x="1611360" y="2428920"/>
            <a:ext cx="5929200" cy="1938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5"/>
          <p:cNvSpPr/>
          <p:nvPr/>
        </p:nvSpPr>
        <p:spPr>
          <a:xfrm>
            <a:off x="3133080" y="563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899720" y="5764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f6228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4f6228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668160" y="2771640"/>
            <a:ext cx="76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绿藤上开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丽的小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668160" y="4498920"/>
            <a:ext cx="76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家的窗帘是陶陶种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668160" y="3395520"/>
            <a:ext cx="76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绿藤上开出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朵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丽的小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668160" y="5167440"/>
            <a:ext cx="76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家的窗帘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呢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是陶陶种的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椭圆 11"/>
          <p:cNvSpPr/>
          <p:nvPr/>
        </p:nvSpPr>
        <p:spPr>
          <a:xfrm>
            <a:off x="3730680" y="3919680"/>
            <a:ext cx="129960" cy="129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12"/>
          <p:cNvSpPr/>
          <p:nvPr/>
        </p:nvSpPr>
        <p:spPr>
          <a:xfrm>
            <a:off x="2919240" y="5703840"/>
            <a:ext cx="130320" cy="130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13"/>
          <p:cNvSpPr/>
          <p:nvPr/>
        </p:nvSpPr>
        <p:spPr>
          <a:xfrm>
            <a:off x="5762520" y="5703840"/>
            <a:ext cx="130320" cy="130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9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较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981760" y="1219320"/>
            <a:ext cx="316224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4680" y="1219320"/>
            <a:ext cx="430056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练习"/>
          <p:cNvPicPr/>
          <p:nvPr/>
        </p:nvPicPr>
        <p:blipFill>
          <a:blip r:embed="rId1"/>
          <a:stretch/>
        </p:blipFill>
        <p:spPr>
          <a:xfrm>
            <a:off x="6423120" y="760320"/>
            <a:ext cx="1474560" cy="461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句子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305240" y="696960"/>
            <a:ext cx="1676520" cy="525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课文大意"/>
          <p:cNvPicPr/>
          <p:nvPr/>
        </p:nvPicPr>
        <p:blipFill>
          <a:blip r:embed="rId4"/>
          <a:stretch/>
        </p:blipFill>
        <p:spPr>
          <a:xfrm>
            <a:off x="2381400" y="754200"/>
            <a:ext cx="14824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1"/>
                            </p:stCondLst>
                            <p:childTnLst>
                              <p:par>
                                <p:cTn id="3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/>
          <p:cNvSpPr/>
          <p:nvPr/>
        </p:nvSpPr>
        <p:spPr>
          <a:xfrm>
            <a:off x="668160" y="2771640"/>
            <a:ext cx="420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句子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519120" y="3586320"/>
            <a:ext cx="94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发芽了，（　　 ）的。芽儿长高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　 　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425520" y="4883040"/>
            <a:ext cx="954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慢地，绿藤上开出（　 　）（  　 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4037040" y="358128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嫩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7"/>
          <p:cNvSpPr/>
          <p:nvPr/>
        </p:nvSpPr>
        <p:spPr>
          <a:xfrm>
            <a:off x="1014480" y="409248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绿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4951440" y="489888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朵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6888240" y="4898880"/>
            <a:ext cx="247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颜六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5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7905600" y="1219320"/>
            <a:ext cx="12384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680" y="1219320"/>
            <a:ext cx="622476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8" descr="练习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229440" y="696960"/>
            <a:ext cx="1676160" cy="525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句子"/>
          <p:cNvPicPr/>
          <p:nvPr/>
        </p:nvPicPr>
        <p:blipFill>
          <a:blip r:embed="rId3"/>
          <a:stretch/>
        </p:blipFill>
        <p:spPr>
          <a:xfrm>
            <a:off x="43052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课文大意"/>
          <p:cNvPicPr/>
          <p:nvPr/>
        </p:nvPicPr>
        <p:blipFill>
          <a:blip r:embed="rId4"/>
          <a:stretch/>
        </p:blipFill>
        <p:spPr>
          <a:xfrm>
            <a:off x="2381400" y="757080"/>
            <a:ext cx="148248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9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7905600" y="1219320"/>
            <a:ext cx="12384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4680" y="1219320"/>
            <a:ext cx="622476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练习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229440" y="696960"/>
            <a:ext cx="1676160" cy="525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句子"/>
          <p:cNvPicPr/>
          <p:nvPr/>
        </p:nvPicPr>
        <p:blipFill>
          <a:blip r:embed="rId3"/>
          <a:stretch/>
        </p:blipFill>
        <p:spPr>
          <a:xfrm>
            <a:off x="43052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课文大意"/>
          <p:cNvPicPr/>
          <p:nvPr/>
        </p:nvPicPr>
        <p:blipFill>
          <a:blip r:embed="rId4"/>
          <a:stretch/>
        </p:blipFill>
        <p:spPr>
          <a:xfrm>
            <a:off x="2381400" y="757080"/>
            <a:ext cx="1482480" cy="4651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638280" y="2716200"/>
            <a:ext cx="7416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看拼音，写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h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ē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j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ī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  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  )        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u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 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zh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ō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hu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   )       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1314360" y="391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314360" y="3660840"/>
            <a:ext cx="616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唱     歌                    金    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欢   乐                      中    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"/>
          <p:cNvSpPr/>
          <p:nvPr/>
        </p:nvSpPr>
        <p:spPr>
          <a:xfrm>
            <a:off x="638280" y="6165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9"/>
          <p:cNvSpPr/>
          <p:nvPr/>
        </p:nvSpPr>
        <p:spPr>
          <a:xfrm>
            <a:off x="6888240" y="4898880"/>
            <a:ext cx="247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7905600" y="1219320"/>
            <a:ext cx="12384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4680" y="1219320"/>
            <a:ext cx="622476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练习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229440" y="696960"/>
            <a:ext cx="1676160" cy="525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句子"/>
          <p:cNvPicPr/>
          <p:nvPr/>
        </p:nvPicPr>
        <p:blipFill>
          <a:blip r:embed="rId3"/>
          <a:stretch/>
        </p:blipFill>
        <p:spPr>
          <a:xfrm>
            <a:off x="43052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课文大意"/>
          <p:cNvPicPr/>
          <p:nvPr/>
        </p:nvPicPr>
        <p:blipFill>
          <a:blip r:embed="rId4"/>
          <a:stretch/>
        </p:blipFill>
        <p:spPr>
          <a:xfrm>
            <a:off x="2381400" y="757080"/>
            <a:ext cx="1482480" cy="465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"/>
          <p:cNvSpPr/>
          <p:nvPr/>
        </p:nvSpPr>
        <p:spPr>
          <a:xfrm>
            <a:off x="0" y="2408400"/>
            <a:ext cx="94377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比一比，再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（　　　 ）      化（　　　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吹（    　 ）      华（     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（       ）      峰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（       ）      蜂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20760" y="3622680"/>
            <a:ext cx="152280" cy="72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4560840" y="3622680"/>
            <a:ext cx="243000" cy="687240"/>
          </a:xfrm>
          <a:custGeom>
            <a:avLst/>
            <a:gdLst>
              <a:gd name="textAreaLeft" fmla="*/ 155160 w 243000"/>
              <a:gd name="textAreaRight" fmla="*/ 243360 w 243000"/>
              <a:gd name="textAreaTop" fmla="*/ 17640 h 687240"/>
              <a:gd name="textAreaBottom" fmla="*/ 669600 h 68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3"/>
          <p:cNvSpPr/>
          <p:nvPr/>
        </p:nvSpPr>
        <p:spPr>
          <a:xfrm>
            <a:off x="309600" y="5337000"/>
            <a:ext cx="152280" cy="721080"/>
          </a:xfrm>
          <a:custGeom>
            <a:avLst/>
            <a:gdLst>
              <a:gd name="textAreaLeft" fmla="*/ 97200 w 152280"/>
              <a:gd name="textAreaRight" fmla="*/ 152640 w 152280"/>
              <a:gd name="textAreaTop" fmla="*/ 18720 h 721080"/>
              <a:gd name="textAreaBottom" fmla="*/ 702360 h 7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4"/>
          <p:cNvSpPr/>
          <p:nvPr/>
        </p:nvSpPr>
        <p:spPr>
          <a:xfrm>
            <a:off x="4603680" y="5334120"/>
            <a:ext cx="152640" cy="720720"/>
          </a:xfrm>
          <a:custGeom>
            <a:avLst/>
            <a:gdLst>
              <a:gd name="textAreaLeft" fmla="*/ 97560 w 152640"/>
              <a:gd name="textAreaRight" fmla="*/ 153000 w 152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474920" y="3355920"/>
            <a:ext cx="15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欢 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吹 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6200640" y="3327480"/>
            <a:ext cx="8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 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 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1800000" y="5086440"/>
            <a:ext cx="8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 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满 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6154560" y="5019840"/>
            <a:ext cx="8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山 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蜜 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9"/>
          <p:cNvSpPr/>
          <p:nvPr/>
        </p:nvSpPr>
        <p:spPr>
          <a:xfrm>
            <a:off x="6888240" y="4898880"/>
            <a:ext cx="247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7905600" y="1219320"/>
            <a:ext cx="12384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4680" y="1219320"/>
            <a:ext cx="622476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练习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229440" y="696960"/>
            <a:ext cx="1676160" cy="525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句子"/>
          <p:cNvPicPr/>
          <p:nvPr/>
        </p:nvPicPr>
        <p:blipFill>
          <a:blip r:embed="rId3"/>
          <a:stretch/>
        </p:blipFill>
        <p:spPr>
          <a:xfrm>
            <a:off x="43052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课文大意"/>
          <p:cNvPicPr/>
          <p:nvPr/>
        </p:nvPicPr>
        <p:blipFill>
          <a:blip r:embed="rId4"/>
          <a:stretch/>
        </p:blipFill>
        <p:spPr>
          <a:xfrm>
            <a:off x="2381400" y="757080"/>
            <a:ext cx="1482480" cy="465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0" y="2476440"/>
            <a:ext cx="914400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三、造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慢慢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喜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817640" y="4102200"/>
            <a:ext cx="6561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V="1">
            <a:off x="2468520" y="5213520"/>
            <a:ext cx="6675480" cy="10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78200" y="6343560"/>
            <a:ext cx="7165800" cy="111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4138560" y="3357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弯弯的月亮好像小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5722560" y="4665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子发出嫩嫩的芽，慢慢地，芽儿长高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4106160" y="552924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喜欢彩色的窗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7CB7-766F-40C0-8305-B6BF0ECF15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1325520"/>
            <a:ext cx="91440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 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    f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ch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   hu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两       满       蜂       唱       欢      华      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蜜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唱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喜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龙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满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演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欢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才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龙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      t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     pén   téng         xǐ     ā     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帘       陶       盆       藤          喜     啊     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窗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陶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花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绿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喜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布帘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陶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脸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藤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喜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52440" y="204840"/>
            <a:ext cx="445284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记</a:t>
            </a:r>
            <a:endParaRPr b="1" lang="en-US" sz="4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0" y="1581120"/>
            <a:ext cx="9728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9c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9c0"/>
                </a:solidFill>
                <a:latin typeface="楷体_GB2312"/>
                <a:ea typeface="楷体_GB2312"/>
              </a:rPr>
              <a:t>两          满        蜂         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2135160" y="1219320"/>
            <a:ext cx="700884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680" y="1219320"/>
            <a:ext cx="47808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练习"/>
          <p:cNvPicPr/>
          <p:nvPr/>
        </p:nvPicPr>
        <p:blipFill>
          <a:blip r:embed="rId1"/>
          <a:stretch/>
        </p:blipFill>
        <p:spPr>
          <a:xfrm>
            <a:off x="6423120" y="757080"/>
            <a:ext cx="1474560" cy="462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复习字词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58640" y="693720"/>
            <a:ext cx="1676520" cy="52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句子"/>
          <p:cNvPicPr/>
          <p:nvPr/>
        </p:nvPicPr>
        <p:blipFill>
          <a:blip r:embed="rId3"/>
          <a:stretch/>
        </p:blipFill>
        <p:spPr>
          <a:xfrm>
            <a:off x="4502160" y="757080"/>
            <a:ext cx="1474920" cy="462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课文大意"/>
          <p:cNvPicPr/>
          <p:nvPr/>
        </p:nvPicPr>
        <p:blipFill>
          <a:blip r:embed="rId4"/>
          <a:stretch/>
        </p:blipFill>
        <p:spPr>
          <a:xfrm>
            <a:off x="2581200" y="757080"/>
            <a:ext cx="1474920" cy="4622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8"/>
          <p:cNvSpPr/>
          <p:nvPr/>
        </p:nvSpPr>
        <p:spPr>
          <a:xfrm>
            <a:off x="0" y="1246320"/>
            <a:ext cx="27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会写的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0" y="1704960"/>
            <a:ext cx="9144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i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m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       fē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ch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   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                              ＿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78000" y="4343400"/>
            <a:ext cx="30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会读的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88800" y="5802480"/>
            <a:ext cx="736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219240" y="5597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陶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绿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255600" y="5002200"/>
            <a:ext cx="8888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i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  t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    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é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    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é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ā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l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ǐ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490680" y="3102120"/>
            <a:ext cx="7499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uān             hu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á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l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＿＿          中＿＿            ＿＿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858960" y="363204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9c0"/>
                </a:solidFill>
                <a:latin typeface="Arial"/>
              </a:rPr>
              <a:t>欢               华               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93640" y="1252440"/>
            <a:ext cx="884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9c0"/>
                </a:solidFill>
                <a:latin typeface="Arial"/>
              </a:rPr>
              <a:t>窗帘      两个      花盆      爬满      绿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9c0"/>
                </a:solidFill>
                <a:latin typeface="Arial"/>
              </a:rPr>
              <a:t>蜜蜂      唱歌      喜欢      中华      龙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66640" y="3421080"/>
            <a:ext cx="88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嫩嫩的     绿绿的     一根根     一朵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7960" y="45194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绿色的窗帘             金色的窗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彩色的窗帘             五颜六色的小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2463840" y="152280"/>
            <a:ext cx="3120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00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我会积累</a:t>
            </a:r>
            <a:endParaRPr b="1" lang="en-US" sz="1800" spc="1" strike="noStrike">
              <a:ln w="12600">
                <a:solidFill>
                  <a:srgbClr val="0000ff"/>
                </a:solidFill>
                <a:round/>
              </a:ln>
              <a:solidFill>
                <a:srgbClr val="00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9"/>
          <p:cNvSpPr/>
          <p:nvPr/>
        </p:nvSpPr>
        <p:spPr>
          <a:xfrm>
            <a:off x="4005360" y="2830680"/>
            <a:ext cx="266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种窗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0"/>
          <p:cNvSpPr/>
          <p:nvPr/>
        </p:nvSpPr>
        <p:spPr>
          <a:xfrm>
            <a:off x="2984760" y="164160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4060800" y="1219320"/>
            <a:ext cx="50832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680" y="1219320"/>
            <a:ext cx="23796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练习"/>
          <p:cNvPicPr/>
          <p:nvPr/>
        </p:nvPicPr>
        <p:blipFill>
          <a:blip r:embed="rId1"/>
          <a:stretch/>
        </p:blipFill>
        <p:spPr>
          <a:xfrm>
            <a:off x="6423120" y="760320"/>
            <a:ext cx="1474560" cy="46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句子"/>
          <p:cNvPicPr/>
          <p:nvPr/>
        </p:nvPicPr>
        <p:blipFill>
          <a:blip r:embed="rId3"/>
          <a:stretch/>
        </p:blipFill>
        <p:spPr>
          <a:xfrm>
            <a:off x="4503600" y="760320"/>
            <a:ext cx="1474920" cy="461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课文大意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384280" y="696960"/>
            <a:ext cx="167652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09第九课 种窗帘.mp3" descr=""/>
          <p:cNvPicPr/>
          <p:nvPr/>
        </p:nvPicPr>
        <p:blipFill>
          <a:blip r:embed="rId5"/>
          <a:stretch/>
        </p:blipFill>
        <p:spPr>
          <a:xfrm>
            <a:off x="7962840" y="5311800"/>
            <a:ext cx="90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9115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6"/>
          <p:cNvSpPr/>
          <p:nvPr/>
        </p:nvSpPr>
        <p:spPr>
          <a:xfrm>
            <a:off x="595440" y="1716120"/>
            <a:ext cx="243684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金色窗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5"/>
          <p:cNvSpPr/>
          <p:nvPr/>
        </p:nvSpPr>
        <p:spPr>
          <a:xfrm>
            <a:off x="595440" y="1716120"/>
            <a:ext cx="243684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花窗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595440" y="1716120"/>
            <a:ext cx="243684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绿窗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金色的窗帘"/>
          <p:cNvPicPr/>
          <p:nvPr/>
        </p:nvPicPr>
        <p:blipFill>
          <a:blip r:embed="rId1"/>
          <a:stretch/>
        </p:blipFill>
        <p:spPr>
          <a:xfrm>
            <a:off x="3836880" y="1544760"/>
            <a:ext cx="4891320" cy="490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课本花-花窗帘"/>
          <p:cNvPicPr/>
          <p:nvPr/>
        </p:nvPicPr>
        <p:blipFill>
          <a:blip r:embed="rId2"/>
          <a:stretch/>
        </p:blipFill>
        <p:spPr>
          <a:xfrm>
            <a:off x="3835440" y="1544760"/>
            <a:ext cx="4890960" cy="4903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绿窗帘"/>
          <p:cNvPicPr/>
          <p:nvPr/>
        </p:nvPicPr>
        <p:blipFill>
          <a:blip r:embed="rId3"/>
          <a:stretch/>
        </p:blipFill>
        <p:spPr>
          <a:xfrm>
            <a:off x="3836880" y="1544760"/>
            <a:ext cx="4891320" cy="490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小女孩种花"/>
          <p:cNvPicPr/>
          <p:nvPr/>
        </p:nvPicPr>
        <p:blipFill>
          <a:blip r:embed="rId4"/>
          <a:stretch/>
        </p:blipFill>
        <p:spPr>
          <a:xfrm>
            <a:off x="3836880" y="1544760"/>
            <a:ext cx="4891320" cy="4903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3"/>
          <p:cNvSpPr/>
          <p:nvPr/>
        </p:nvSpPr>
        <p:spPr>
          <a:xfrm>
            <a:off x="574560" y="1763640"/>
            <a:ext cx="2770200" cy="90648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hòng zh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种  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060800" y="1219320"/>
            <a:ext cx="50832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680" y="1219320"/>
            <a:ext cx="23796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练习"/>
          <p:cNvPicPr/>
          <p:nvPr/>
        </p:nvPicPr>
        <p:blipFill>
          <a:blip r:embed="rId5"/>
          <a:stretch/>
        </p:blipFill>
        <p:spPr>
          <a:xfrm>
            <a:off x="6423120" y="760320"/>
            <a:ext cx="1474560" cy="46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复习字词"/>
          <p:cNvPicPr/>
          <p:nvPr/>
        </p:nvPicPr>
        <p:blipFill>
          <a:blip r:embed="rId6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句子"/>
          <p:cNvPicPr/>
          <p:nvPr/>
        </p:nvPicPr>
        <p:blipFill>
          <a:blip r:embed="rId7"/>
          <a:stretch/>
        </p:blipFill>
        <p:spPr>
          <a:xfrm>
            <a:off x="4503600" y="760320"/>
            <a:ext cx="1474920" cy="461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课文大意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2384280" y="696960"/>
            <a:ext cx="1676520" cy="525240"/>
          </a:xfrm>
          <a:prstGeom prst="rect">
            <a:avLst/>
          </a:prstGeom>
          <a:ln w="0">
            <a:noFill/>
          </a:ln>
        </p:spPr>
      </p:pic>
      <p:pic>
        <p:nvPicPr>
          <p:cNvPr id="98" name="09第九课 种窗帘.mp3" descr=""/>
          <p:cNvPicPr/>
          <p:nvPr/>
        </p:nvPicPr>
        <p:blipFill>
          <a:blip r:embed="rId9"/>
          <a:stretch/>
        </p:blipFill>
        <p:spPr>
          <a:xfrm>
            <a:off x="8420040" y="5722920"/>
            <a:ext cx="5446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9115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矩形 18" descr=""/>
          <p:cNvPicPr/>
          <p:nvPr/>
        </p:nvPicPr>
        <p:blipFill>
          <a:blip r:embed="rId1"/>
          <a:stretch/>
        </p:blipFill>
        <p:spPr>
          <a:xfrm>
            <a:off x="3760920" y="4521240"/>
            <a:ext cx="974520" cy="92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853920" y="3392640"/>
            <a:ext cx="20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楷体_GB2312"/>
              </a:rPr>
              <a:t>嫩嫩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楷体_GB2312"/>
              </a:rPr>
              <a:t>绿绿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2" descr="总结窗帘的变化"/>
          <p:cNvPicPr/>
          <p:nvPr/>
        </p:nvPicPr>
        <p:blipFill>
          <a:blip r:embed="rId2"/>
          <a:stretch/>
        </p:blipFill>
        <p:spPr>
          <a:xfrm>
            <a:off x="473040" y="1677960"/>
            <a:ext cx="3624120" cy="701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68160" y="2665440"/>
            <a:ext cx="15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绿窗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403440" y="2665440"/>
            <a:ext cx="14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花窗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7"/>
          <p:cNvCxnSpPr>
            <a:stCxn id="102" idx="3"/>
            <a:endCxn id="103" idx="1"/>
          </p:cNvCxnSpPr>
          <p:nvPr/>
        </p:nvCxnSpPr>
        <p:spPr>
          <a:xfrm>
            <a:off x="2234880" y="2957040"/>
            <a:ext cx="1168920" cy="252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05" name="直接箭头连接符 8"/>
          <p:cNvCxnSpPr>
            <a:stCxn id="103" idx="3"/>
            <a:endCxn id="103" idx="1"/>
          </p:cNvCxnSpPr>
          <p:nvPr/>
        </p:nvCxnSpPr>
        <p:spPr>
          <a:xfrm>
            <a:off x="4876560" y="2957040"/>
            <a:ext cx="1262520" cy="252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06" name="TextBox 10"/>
          <p:cNvSpPr/>
          <p:nvPr/>
        </p:nvSpPr>
        <p:spPr>
          <a:xfrm>
            <a:off x="3468600" y="3417840"/>
            <a:ext cx="26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Calibri"/>
                <a:ea typeface="楷体_GB2312"/>
              </a:rPr>
              <a:t>五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楷体_GB2312"/>
              </a:rPr>
              <a:t>颜</a:t>
            </a:r>
            <a:r>
              <a:rPr b="0" lang="zh-CN" sz="2400" spc="-1" strike="noStrike">
                <a:solidFill>
                  <a:srgbClr val="0009c0"/>
                </a:solidFill>
                <a:latin typeface="Calibri"/>
                <a:ea typeface="楷体_GB2312"/>
              </a:rPr>
              <a:t>六</a:t>
            </a:r>
            <a:r>
              <a:rPr b="0" lang="zh-CN" sz="2400" spc="-1" strike="noStrike">
                <a:solidFill>
                  <a:srgbClr val="7030a0"/>
                </a:solidFill>
                <a:latin typeface="Calibri"/>
                <a:ea typeface="楷体_GB2312"/>
              </a:rPr>
              <a:t>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的小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6688080" y="341784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叶黄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藤黄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6138720" y="2665440"/>
            <a:ext cx="30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色的窗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884160" y="5492880"/>
            <a:ext cx="76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先写绿色的窗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289080" y="480996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矩形 17" descr=""/>
          <p:cNvPicPr/>
          <p:nvPr/>
        </p:nvPicPr>
        <p:blipFill>
          <a:blip r:embed="rId3"/>
          <a:stretch/>
        </p:blipFill>
        <p:spPr>
          <a:xfrm>
            <a:off x="893880" y="4521240"/>
            <a:ext cx="1125360" cy="92376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9" descr=""/>
          <p:cNvPicPr/>
          <p:nvPr/>
        </p:nvPicPr>
        <p:blipFill>
          <a:blip r:embed="rId4"/>
          <a:stretch/>
        </p:blipFill>
        <p:spPr>
          <a:xfrm>
            <a:off x="6764400" y="4521240"/>
            <a:ext cx="1125360" cy="923760"/>
          </a:xfrm>
          <a:prstGeom prst="rect">
            <a:avLst/>
          </a:prstGeom>
          <a:ln w="0">
            <a:noFill/>
          </a:ln>
        </p:spPr>
      </p:pic>
      <p:sp>
        <p:nvSpPr>
          <p:cNvPr id="113" name="矩形 6"/>
          <p:cNvSpPr/>
          <p:nvPr/>
        </p:nvSpPr>
        <p:spPr>
          <a:xfrm>
            <a:off x="4060800" y="1219320"/>
            <a:ext cx="50832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4680" y="1219320"/>
            <a:ext cx="23796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8" descr="练习"/>
          <p:cNvPicPr/>
          <p:nvPr/>
        </p:nvPicPr>
        <p:blipFill>
          <a:blip r:embed="rId5"/>
          <a:stretch/>
        </p:blipFill>
        <p:spPr>
          <a:xfrm>
            <a:off x="6423120" y="760320"/>
            <a:ext cx="1474560" cy="461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复习字词"/>
          <p:cNvPicPr/>
          <p:nvPr/>
        </p:nvPicPr>
        <p:blipFill>
          <a:blip r:embed="rId6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句子"/>
          <p:cNvPicPr/>
          <p:nvPr/>
        </p:nvPicPr>
        <p:blipFill>
          <a:blip r:embed="rId7"/>
          <a:stretch/>
        </p:blipFill>
        <p:spPr>
          <a:xfrm>
            <a:off x="4503600" y="760320"/>
            <a:ext cx="1474920" cy="461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课文大意"/>
          <p:cNvPicPr/>
          <p:nvPr/>
        </p:nvPicPr>
        <p:blipFill>
          <a:blip r:embed="rId8">
            <a:lum bright="20000"/>
          </a:blip>
          <a:stretch/>
        </p:blipFill>
        <p:spPr>
          <a:xfrm>
            <a:off x="2384280" y="696960"/>
            <a:ext cx="16765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0"/>
          <p:cNvSpPr/>
          <p:nvPr/>
        </p:nvSpPr>
        <p:spPr>
          <a:xfrm>
            <a:off x="1447920" y="20080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668160" y="2771640"/>
            <a:ext cx="769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家人为什么喜欢这彩色的窗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68160" y="3976560"/>
            <a:ext cx="802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你是陶陶家中的一员，你喜欢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季节的窗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讨 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4060800" y="1219320"/>
            <a:ext cx="50832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4680" y="1219320"/>
            <a:ext cx="23796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7" descr="练习"/>
          <p:cNvPicPr/>
          <p:nvPr/>
        </p:nvPicPr>
        <p:blipFill>
          <a:blip r:embed="rId1"/>
          <a:stretch/>
        </p:blipFill>
        <p:spPr>
          <a:xfrm>
            <a:off x="6423120" y="760320"/>
            <a:ext cx="1474560" cy="461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句子"/>
          <p:cNvPicPr/>
          <p:nvPr/>
        </p:nvPicPr>
        <p:blipFill>
          <a:blip r:embed="rId3"/>
          <a:stretch/>
        </p:blipFill>
        <p:spPr>
          <a:xfrm>
            <a:off x="4503600" y="760320"/>
            <a:ext cx="1474920" cy="461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课文大意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384280" y="696960"/>
            <a:ext cx="16765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668160" y="2771640"/>
            <a:ext cx="814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到陶陶种的美丽的窗帘，你会想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668160" y="3976560"/>
            <a:ext cx="769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家人都喜欢这彩色的窗帘，他们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怎样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482760" y="1692360"/>
            <a:ext cx="2436480" cy="631800"/>
          </a:xfrm>
          <a:prstGeom prst="flowChartAlternateProcess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4060800" y="1219320"/>
            <a:ext cx="50832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4680" y="1219320"/>
            <a:ext cx="2379600" cy="20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7" descr="练习"/>
          <p:cNvPicPr/>
          <p:nvPr/>
        </p:nvPicPr>
        <p:blipFill>
          <a:blip r:embed="rId1"/>
          <a:stretch/>
        </p:blipFill>
        <p:spPr>
          <a:xfrm>
            <a:off x="6423120" y="760320"/>
            <a:ext cx="1474560" cy="46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复习字词"/>
          <p:cNvPicPr/>
          <p:nvPr/>
        </p:nvPicPr>
        <p:blipFill>
          <a:blip r:embed="rId2"/>
          <a:stretch/>
        </p:blipFill>
        <p:spPr>
          <a:xfrm>
            <a:off x="458640" y="757080"/>
            <a:ext cx="148284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句子"/>
          <p:cNvPicPr/>
          <p:nvPr/>
        </p:nvPicPr>
        <p:blipFill>
          <a:blip r:embed="rId3"/>
          <a:stretch/>
        </p:blipFill>
        <p:spPr>
          <a:xfrm>
            <a:off x="4503600" y="760320"/>
            <a:ext cx="1474920" cy="46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课文大意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2384280" y="696960"/>
            <a:ext cx="16765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3:33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5:48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