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chimes.wav" ContentType="audio/x-wav"/>
  <Override PartName="/ppt/media/image16.jpeg" ContentType="image/jpe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4.jpeg" ContentType="image/jpeg"/>
  <Override PartName="/ppt/media/image13.jpeg" ContentType="image/jpeg"/>
  <Override PartName="/ppt/media/image4.png" ContentType="image/pn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0F6E-BCE7-47A7-A1F6-D1D00F5C742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4357-FCF3-469E-8F20-194521BD8894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122-2874-4B19-BAB5-DE64BC301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0604-67FC-4589-ABD4-8613996C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B23-7695-4029-B080-6794EC947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37B6-67FC-458A-A16B-E72C3DA2E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DD0-E6D1-44C9-B241-9C409D0F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6BD6-9829-4184-ADE5-B1E3AA92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D75-93B2-41C4-8E05-6FD9DB09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0B37-C936-4E10-A32B-97A81E89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89E5-75E1-487A-86F8-32047206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CA56-36A1-4852-86DE-99F4424D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9137-512F-4050-8494-2F31DCB8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1C2-3433-4DDF-AFD5-24D7E50C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5571-9082-4B4F-B75D-6E0FB5DA5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2916360" y="2506680"/>
            <a:ext cx="3168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早晨</a:t>
            </a:r>
            <a:endParaRPr b="1" lang="en-US" sz="18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49" name="xydzc.mp3" descr=""/>
          <p:cNvPicPr/>
          <p:nvPr/>
        </p:nvPicPr>
        <p:blipFill>
          <a:blip r:embed="rId3"/>
          <a:stretch/>
        </p:blipFill>
        <p:spPr>
          <a:xfrm>
            <a:off x="8820000" y="6534000"/>
            <a:ext cx="324000" cy="324000"/>
          </a:xfrm>
          <a:prstGeom prst="rect">
            <a:avLst/>
          </a:prstGeom>
          <a:ln w="0">
            <a:noFill/>
          </a:ln>
        </p:spPr>
      </p:pic>
      <p:sp>
        <p:nvSpPr>
          <p:cNvPr id="50" name="矩形 6"/>
          <p:cNvSpPr/>
          <p:nvPr/>
        </p:nvSpPr>
        <p:spPr>
          <a:xfrm>
            <a:off x="1861920" y="580536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22778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af0cde1c7ef060b4ad51337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981080" y="685800"/>
            <a:ext cx="563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太阳初升，带来光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1116000" y="2492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天空突然闪出一丝阳光。夜的黑暗将悄悄地躲藏到山谷和石缝中去，躲藏到浓密的树叶里去，躲藏到沾满露水的乱草丛中去。山顶露出愉悦的笑容，仿佛在对夜的淡淡的阴影说：“别害怕，这是太阳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5"/>
          <p:cNvSpPr txBox="1"/>
          <p:nvPr/>
        </p:nvSpPr>
        <p:spPr>
          <a:xfrm>
            <a:off x="2700360" y="5300640"/>
            <a:ext cx="1008000" cy="43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拟人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pic>
        <p:nvPicPr>
          <p:cNvPr id="79" name="Picture 6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  <p:sp>
        <p:nvSpPr>
          <p:cNvPr id="80" name="Line 8"/>
          <p:cNvSpPr/>
          <p:nvPr/>
        </p:nvSpPr>
        <p:spPr>
          <a:xfrm>
            <a:off x="2050920" y="335772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9"/>
          <p:cNvSpPr/>
          <p:nvPr/>
        </p:nvSpPr>
        <p:spPr>
          <a:xfrm>
            <a:off x="5940360" y="3357720"/>
            <a:ext cx="649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10"/>
          <p:cNvSpPr/>
          <p:nvPr/>
        </p:nvSpPr>
        <p:spPr>
          <a:xfrm>
            <a:off x="3059280" y="378936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1"/>
          <p:cNvSpPr/>
          <p:nvPr/>
        </p:nvSpPr>
        <p:spPr>
          <a:xfrm>
            <a:off x="2700360" y="4221000"/>
            <a:ext cx="1727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ac0acf13e8e1bc4c5aaf53c4"/>
          <p:cNvPicPr/>
          <p:nvPr/>
        </p:nvPicPr>
        <p:blipFill>
          <a:blip r:embed="rId1"/>
          <a:stretch/>
        </p:blipFill>
        <p:spPr>
          <a:xfrm>
            <a:off x="-228600" y="-15228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1600200" y="53352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海浪迎接太阳的壮观场面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258920" y="206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海浪迎接太阳的壮观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6"/>
          <p:cNvSpPr/>
          <p:nvPr/>
        </p:nvSpPr>
        <p:spPr>
          <a:xfrm>
            <a:off x="1116000" y="3068640"/>
            <a:ext cx="7199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海浪高高地昂起雪白的脑袋，向太阳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躬，好像美丽的宫嫔在向国王朝拜，并且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唱着：“欢迎你呀，世界的主宰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3780000" y="3573360"/>
            <a:ext cx="6490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9"/>
          <p:cNvSpPr/>
          <p:nvPr/>
        </p:nvSpPr>
        <p:spPr>
          <a:xfrm>
            <a:off x="7596360" y="357336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0"/>
          <p:cNvSpPr/>
          <p:nvPr/>
        </p:nvSpPr>
        <p:spPr>
          <a:xfrm>
            <a:off x="1258920" y="4292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1"/>
          <p:cNvSpPr/>
          <p:nvPr/>
        </p:nvSpPr>
        <p:spPr>
          <a:xfrm>
            <a:off x="2556000" y="4869000"/>
            <a:ext cx="360036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258920" y="206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海浪迎接太阳的壮观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6"/>
          <p:cNvSpPr/>
          <p:nvPr/>
        </p:nvSpPr>
        <p:spPr>
          <a:xfrm>
            <a:off x="971640" y="2924280"/>
            <a:ext cx="7632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和煦的太阳微微含笑：这些波浪整夜戏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着，不停地翻滚。现在它们披头散发， 身上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色的衣裳皱皱巴巴，天鹅绒的长披纱也被搅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乱七八糟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"/>
          <p:cNvSpPr/>
          <p:nvPr/>
        </p:nvSpPr>
        <p:spPr>
          <a:xfrm>
            <a:off x="2987640" y="3429000"/>
            <a:ext cx="20160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26920" y="2637000"/>
            <a:ext cx="770436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“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早上好！”太阳升到海面上说，“早上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美丽的浪花！不过你们玩够了，安静一下吧！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是你们继续这样高高地蹦跳，孩子们将不能在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水中洗澡！应该让世界上的一切都能得到各自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享受，不是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258920" y="206064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海浪迎接太阳的壮观场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qw30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380880" y="609480"/>
            <a:ext cx="79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太阳带给万物的快乐、美好的生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2009217234149250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01300000329092125688799774582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200891092152410_2"/>
          <p:cNvPicPr/>
          <p:nvPr/>
        </p:nvPicPr>
        <p:blipFill>
          <a:blip r:embed="rId4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4224370_070831044605_2"/>
          <p:cNvPicPr/>
          <p:nvPr/>
        </p:nvPicPr>
        <p:blipFill>
          <a:blip r:embed="rId5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971640" y="206064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太阳带给万物的快乐、美好的生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39"/>
          <p:cNvPicPr/>
          <p:nvPr/>
        </p:nvPicPr>
        <p:blipFill>
          <a:blip r:embed="rId2"/>
          <a:stretch/>
        </p:blipFill>
        <p:spPr>
          <a:xfrm>
            <a:off x="1979640" y="2924280"/>
            <a:ext cx="5054400" cy="33703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1332000" y="270828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读一读文中你最欣赏的语句或语段，品一品它的语言特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5" descr="感受领悟"/>
          <p:cNvPicPr/>
          <p:nvPr/>
        </p:nvPicPr>
        <p:blipFill>
          <a:blip r:embed="rId1"/>
          <a:stretch/>
        </p:blipFill>
        <p:spPr>
          <a:xfrm>
            <a:off x="971640" y="1628640"/>
            <a:ext cx="1890720" cy="513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感受领悟"/>
          <p:cNvPicPr/>
          <p:nvPr/>
        </p:nvPicPr>
        <p:blipFill>
          <a:blip r:embed="rId1"/>
          <a:stretch/>
        </p:blipFill>
        <p:spPr>
          <a:xfrm>
            <a:off x="971640" y="1628640"/>
            <a:ext cx="1890720" cy="51300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763640" y="3068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文中融入了作者怎样的情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1763640" y="3933720"/>
            <a:ext cx="62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学习文章后，你得到了哪些收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360" y="2276640"/>
            <a:ext cx="56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每天早晨我们都要走出家门来到学校，一路上你留心观察过早晨的景色吗？你看到了怎样的景色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小女孩"/>
          <p:cNvPicPr/>
          <p:nvPr/>
        </p:nvPicPr>
        <p:blipFill>
          <a:blip r:embed="rId1"/>
          <a:stretch/>
        </p:blipFill>
        <p:spPr>
          <a:xfrm>
            <a:off x="1116000" y="2565360"/>
            <a:ext cx="1967040" cy="3279960"/>
          </a:xfrm>
          <a:prstGeom prst="rect">
            <a:avLst/>
          </a:prstGeom>
          <a:ln w="0">
            <a:noFill/>
          </a:ln>
        </p:spPr>
      </p:pic>
      <p:sp>
        <p:nvSpPr>
          <p:cNvPr id="53" name="WordArt 8"/>
          <p:cNvSpPr txBox="1"/>
          <p:nvPr/>
        </p:nvSpPr>
        <p:spPr>
          <a:xfrm>
            <a:off x="1476360" y="1125360"/>
            <a:ext cx="18288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畅所欲言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push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33520" y="99072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融入了作者怎样的情感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438280"/>
            <a:ext cx="571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676520" y="21337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赞美早晨的美丽景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"/>
          <p:cNvSpPr/>
          <p:nvPr/>
        </p:nvSpPr>
        <p:spPr>
          <a:xfrm>
            <a:off x="3581280" y="27432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1981080" y="41911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爱自然、爱生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1"/>
          <p:cNvSpPr/>
          <p:nvPr/>
        </p:nvSpPr>
        <p:spPr>
          <a:xfrm>
            <a:off x="1353960" y="5991120"/>
            <a:ext cx="56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990720" y="380880"/>
            <a:ext cx="640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再读课文，完成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838080" y="1295280"/>
            <a:ext cx="762012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）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）海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 ）蜥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花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蜜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鸟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 ）人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            ）蔷薇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371600" y="13716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和煦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371600" y="198108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顽皮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4572000" y="3733920"/>
            <a:ext cx="1905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1219320" y="327672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带着露珠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295280" y="39625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贪心不足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1295280" y="4572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唱着歌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1295280" y="51814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勤劳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1295280" y="5867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微笑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1371600" y="2590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惬意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3"/>
          <p:cNvSpPr/>
          <p:nvPr/>
        </p:nvSpPr>
        <p:spPr>
          <a:xfrm>
            <a:off x="3733920" y="1600200"/>
            <a:ext cx="2133360" cy="1828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4"/>
          <p:cNvSpPr/>
          <p:nvPr/>
        </p:nvSpPr>
        <p:spPr>
          <a:xfrm>
            <a:off x="3733920" y="35053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 flipV="1">
            <a:off x="3962520" y="3657240"/>
            <a:ext cx="1904760" cy="24382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6095880" y="32004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7"/>
          <p:cNvSpPr/>
          <p:nvPr/>
        </p:nvSpPr>
        <p:spPr>
          <a:xfrm>
            <a:off x="3733920" y="2209680"/>
            <a:ext cx="2057400" cy="12193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8"/>
          <p:cNvSpPr/>
          <p:nvPr/>
        </p:nvSpPr>
        <p:spPr>
          <a:xfrm>
            <a:off x="3733920" y="2895480"/>
            <a:ext cx="1981080" cy="53352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9"/>
          <p:cNvSpPr/>
          <p:nvPr/>
        </p:nvSpPr>
        <p:spPr>
          <a:xfrm flipV="1">
            <a:off x="3657600" y="3581280"/>
            <a:ext cx="2209680" cy="6098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V="1">
            <a:off x="3733920" y="3657240"/>
            <a:ext cx="2057400" cy="1143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21"/>
          <p:cNvSpPr/>
          <p:nvPr/>
        </p:nvSpPr>
        <p:spPr>
          <a:xfrm flipV="1">
            <a:off x="3733920" y="3733920"/>
            <a:ext cx="2057400" cy="16761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2590920" y="53352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85800" y="1828800"/>
            <a:ext cx="7772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本文作者抓住（             ）刚刚升起时的特点，以（             ）、（            ）、（            ）和（           ）为主要描写对象，用准确优美的文字，从不同角度描绘了（           ）日出时独有的美景，抒发了作者对早晨由衷的（           ）之情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3809880" y="57913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4572000" y="18288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太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3429000" y="2286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大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617220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1447920" y="28195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3809880" y="28195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1523880" y="38098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早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648320" y="4267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赞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684360" y="2708280"/>
            <a:ext cx="8135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小练笔：和老师、同学或父母一起享受清晨、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黄昏、雨后</a:t>
            </a:r>
            <a:r>
              <a:rPr b="1" lang="en-US" sz="2800" spc="-1" strike="noStrike">
                <a:solidFill>
                  <a:srgbClr val="008000"/>
                </a:solidFill>
                <a:latin typeface="宋体"/>
              </a:rPr>
              <a:t>……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然后把自己的所见所感记录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阅读拓展：推荐阅读高尔基的作品：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童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人间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我的大学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拓展学习"/>
          <p:cNvPicPr/>
          <p:nvPr/>
        </p:nvPicPr>
        <p:blipFill>
          <a:blip r:embed="rId1"/>
          <a:stretch/>
        </p:blipFill>
        <p:spPr>
          <a:xfrm>
            <a:off x="900000" y="1484280"/>
            <a:ext cx="2151000" cy="5317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4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A7C0-1274-4A53-8884-9B14884935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6a84a74ba10bb1c383025c77"/>
          <p:cNvPicPr/>
          <p:nvPr/>
        </p:nvPicPr>
        <p:blipFill>
          <a:blip r:embed="rId1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4952880" y="260280"/>
            <a:ext cx="4083120" cy="20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高尔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68-193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苏联无产阶级作家，社会主义现实主义文学的奠基人。他出身贫苦，幼年丧父，十一岁就为生计在社会上奔波，当过装卸工、面包房工人。这些经历对他的思想和创作产生了重要的影响。代表作品有：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童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人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的大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母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5"/>
          <p:cNvSpPr txBox="1"/>
          <p:nvPr/>
        </p:nvSpPr>
        <p:spPr>
          <a:xfrm>
            <a:off x="1476360" y="836640"/>
            <a:ext cx="18288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读文要求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87280" y="2637000"/>
            <a:ext cx="7201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读准字音，读通句子，将易读错的字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录到本子上，并注上拼音，多读几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1676520" y="533520"/>
            <a:ext cx="53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检查预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914400" y="1295280"/>
            <a:ext cx="7772400" cy="58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填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注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醇 （            ）  薇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写一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ū   gōng             chún   hòu                    wěn   ru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 )           (                  )                (                  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è sè                qiè     yì                     xīngsōng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            )          (                 )               (          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多音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缝                                  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63640" y="234936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课文主要描写了哪些美好的景物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整体感知"/>
          <p:cNvPicPr/>
          <p:nvPr/>
        </p:nvPicPr>
        <p:blipFill>
          <a:blip r:embed="rId1"/>
          <a:stretch/>
        </p:blipFill>
        <p:spPr>
          <a:xfrm>
            <a:off x="1116000" y="1413000"/>
            <a:ext cx="2017800" cy="41724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763640" y="3213000"/>
            <a:ext cx="7380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太阳  海浪  蜥蜴  花儿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蜜蜂  知更鸟  人们  蔷薇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1547640" y="4941720"/>
            <a:ext cx="67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读读自己喜欢的描写美好景物的句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685800" y="1600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找出课文中主要描写了哪些美好的事物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838080" y="2590920"/>
            <a:ext cx="6400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太阳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1-2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海浪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3-5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蜥蜴、花儿、蜜蜂、知更鸟、人们、蔷薇花、（</a:t>
            </a: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6-13</a:t>
            </a:r>
            <a:r>
              <a:rPr b="1" lang="zh-CN" sz="3200" spc="-1" strike="noStrike">
                <a:solidFill>
                  <a:srgbClr val="8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050920" y="2349360"/>
            <a:ext cx="55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作者描绘了怎样的美的画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整体感知"/>
          <p:cNvPicPr/>
          <p:nvPr/>
        </p:nvPicPr>
        <p:blipFill>
          <a:blip r:embed="rId1"/>
          <a:stretch/>
        </p:blipFill>
        <p:spPr>
          <a:xfrm>
            <a:off x="1116000" y="1413000"/>
            <a:ext cx="2017800" cy="417240"/>
          </a:xfrm>
          <a:prstGeom prst="rect">
            <a:avLst/>
          </a:prstGeom>
          <a:ln w="0">
            <a:noFill/>
          </a:ln>
        </p:spPr>
      </p:pic>
      <p:sp>
        <p:nvSpPr>
          <p:cNvPr id="68" name="WordArt 6"/>
          <p:cNvSpPr txBox="1"/>
          <p:nvPr/>
        </p:nvSpPr>
        <p:spPr>
          <a:xfrm>
            <a:off x="1619280" y="3284640"/>
            <a:ext cx="1008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美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9" name="AutoShape 7"/>
          <p:cNvSpPr/>
          <p:nvPr/>
        </p:nvSpPr>
        <p:spPr>
          <a:xfrm>
            <a:off x="2843280" y="3284640"/>
            <a:ext cx="504720" cy="2232000"/>
          </a:xfrm>
          <a:custGeom>
            <a:avLst/>
            <a:gdLst>
              <a:gd name="textAreaLeft" fmla="*/ 322560 w 504720"/>
              <a:gd name="textAreaRight" fmla="*/ 505080 w 50472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475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8"/>
          <p:cNvSpPr txBox="1"/>
          <p:nvPr/>
        </p:nvSpPr>
        <p:spPr>
          <a:xfrm>
            <a:off x="3419640" y="3284640"/>
            <a:ext cx="1636560" cy="58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自然美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71" name="WordArt 9"/>
          <p:cNvSpPr txBox="1"/>
          <p:nvPr/>
        </p:nvSpPr>
        <p:spPr>
          <a:xfrm>
            <a:off x="3419640" y="4869000"/>
            <a:ext cx="1728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生活美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ransition>
    <p:push dir="d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细读感悟"/>
          <p:cNvPicPr/>
          <p:nvPr/>
        </p:nvPicPr>
        <p:blipFill>
          <a:blip r:embed="rId1"/>
          <a:stretch/>
        </p:blipFill>
        <p:spPr>
          <a:xfrm>
            <a:off x="1042920" y="1341360"/>
            <a:ext cx="2016360" cy="540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1187280" y="213372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太阳初升，带来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20071026114850227_2"/>
          <p:cNvPicPr/>
          <p:nvPr/>
        </p:nvPicPr>
        <p:blipFill>
          <a:blip r:embed="rId2"/>
          <a:stretch/>
        </p:blipFill>
        <p:spPr>
          <a:xfrm>
            <a:off x="3132000" y="2924280"/>
            <a:ext cx="3122640" cy="363528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0T06:04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0:28:05Z</dcterms:modified>
  <cp:revision>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