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538D-29E6-4BC7-A338-C2C0DF20C9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B79D-F638-4362-9FE1-8BE908518F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486-A299-493B-8C62-A349F53D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119-3E3E-4428-86B8-3BBF329F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C60-D31A-4062-BADD-255CFCD8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B8F-6E8A-4EE9-B874-C824EE99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839-4DB2-4AFB-BA0C-E3424031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71A-D100-46F7-807D-C9EE58E9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14E-8DF2-4177-82A6-4F0B8A4A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291-0221-4208-8DC6-9CD919E3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EA1-850E-430C-A031-04BDD435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F0C-7A3C-48A5-8D3E-14A0DD7C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D12-FAB4-4BC9-AF04-89C48B56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073-881B-48EA-90DB-04D96766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C342-617A-434E-A59F-C709C1D36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19280" y="2276640"/>
            <a:ext cx="6481800" cy="18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祖国多么广大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907920"/>
            <a:ext cx="655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039040" y="59500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55a8d6c3ca5a33040ef477c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276720" y="404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祖国多么广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006120811293991"/>
          <p:cNvPicPr/>
          <p:nvPr/>
        </p:nvPicPr>
        <p:blipFill>
          <a:blip r:embed="rId1"/>
          <a:stretch/>
        </p:blipFill>
        <p:spPr>
          <a:xfrm>
            <a:off x="900000" y="1413000"/>
            <a:ext cx="6840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052640"/>
            <a:ext cx="8497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美丽、富饶、古朴、自然，无任何污染的黑龙江大兴安岭林区，位于祖国的最北边陲，她东连绵延千里的小兴安岭，西依呼伦贝尔大草原，南达肥沃、富庶的松嫩平原，北与俄罗斯联邦隔江相望，境内山峦叠嶂，林莽苍苍，雄浑八万里的疆域，一片粗犷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大兴安岭是我国最北、面积最大的现代化国有林区，总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.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万平方公里，相当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奥地利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3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新加坡。林木蓄积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5.0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亿立方米。占全国总蓄积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.8%,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.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万平方公里，总人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万，边境线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91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里，下辖塔河、漠河、呼玛三县，加格达奇、松岭、新林、呼中四区和十个林业局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巍巍兴安岭，积翠大森林。大兴安岭的林地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万公倾，森林覆盖率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4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％，在浩瀚的绿色海洋中繁衍生息着寒温带马鹿、驯鹿、驼鹿（犴达犴）、梅花鹿、棕熊、紫貂、飞龙、野鸡、棒鸡、天鹅、獐、狍、野猪、雪兔等各种珍禽异兽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余种，野生植物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余种，成为我国高纬度地区不可多得的野生动、植物乐园。在千山万壑间纵横流淌着甘河，多布库尔、那都里、呼玛、额木尔等二十多条大小河流，最终注入了边陲人民的母亲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黑龙江。这里盛产鲟鳇鱼、哲罗、细鳞、江雪鱼等珍贵的冷水鱼类，用“棒打獐子瓢舀鱼，野鸡飞到饭锅里”来形容这里的野生动物资源实在不为过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780000" y="26028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大兴安岭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633240" y="781200"/>
            <a:ext cx="787752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600120" y="785880"/>
            <a:ext cx="7943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539640" y="3125880"/>
            <a:ext cx="8425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帕米尔高原位干中亚东南部、中国的西端，地跨塔吉克斯坦、中国和阿富汗。。“帕米尔”是塔吉克语“世界屋脊”之意，高原海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7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拥有许多高峰。帕米尔高原早在中国汉代就以“葱岭”相称，因多野葱或山崖葱翠而得名。帕米尔高原实际上不是一个平坦的高原面，而是由几组山脉和山脉之间宽阔的谷地和盆地构成。根据地形特点。帕米尔高原分为东西两部分：东帕米尔地形较开阔坦荡，由两条西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东南方向的山脉和一组河谷湖盆构成，绝对高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。相对高度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。西帕米尔则由若干条大致平行的东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西南方向的山脉谷地构成，地形相对高差大，以高山深谷为特征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3405240" y="9810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帕米尔高原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276720" y="404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祖国多么广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2006120811293991"/>
          <p:cNvPicPr/>
          <p:nvPr/>
        </p:nvPicPr>
        <p:blipFill>
          <a:blip r:embed="rId1"/>
          <a:stretch/>
        </p:blipFill>
        <p:spPr>
          <a:xfrm>
            <a:off x="900000" y="1413000"/>
            <a:ext cx="6840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642960" y="771480"/>
            <a:ext cx="78580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8864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9640" y="90792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经省份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黑龙江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域面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流域面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7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方公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中国黑龙江支流，中国与俄罗斯的界河。上游由乌拉河和道比河汇合而成。两河均发源于锡霍特山脉西南坡，东北流到哈巴罗夫斯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伯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黑龙江汇合。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公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6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流域面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7,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方公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2,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方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 江面宽阔，水流缓漫。主要支流有松阿察河、穆稜河、挠力河等。干流有一长段曾引起中苏边界纠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969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双方制定在中苏国境水域的航行规则。乌苏里江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月左右封冻期。乌拉河口以下可通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我们伟大的祖国地域辽阔，景色美丽多姿，激发热爱作国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认读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132000" y="765000"/>
            <a:ext cx="29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祖国多么广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2006120811293991"/>
          <p:cNvPicPr/>
          <p:nvPr/>
        </p:nvPicPr>
        <p:blipFill>
          <a:blip r:embed="rId1"/>
          <a:stretch/>
        </p:blipFill>
        <p:spPr>
          <a:xfrm>
            <a:off x="900000" y="1413000"/>
            <a:ext cx="6840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18488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98efa80f2f2238f037d122d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39640" y="981000"/>
            <a:ext cx="799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长江是中国第一大河，干流全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39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公里（以沱沱河为源），一般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3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公里。流域总面积一百八十余万平方公里，年平均入海水量约九千六百余亿立方米。流域介于北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°30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5°45′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东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0°33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2°25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面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万平方公里（不包括淮河流域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约占全国土地总面积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/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居世界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位。古时简称江，六朝以后才有大江和长江之称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3780000" y="404640"/>
            <a:ext cx="1400040" cy="588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长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2006120811293991"/>
          <p:cNvPicPr/>
          <p:nvPr/>
        </p:nvPicPr>
        <p:blipFill>
          <a:blip r:embed="rId1"/>
          <a:stretch/>
        </p:blipFill>
        <p:spPr>
          <a:xfrm>
            <a:off x="1042920" y="981000"/>
            <a:ext cx="6840720" cy="4967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3276720" y="8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祖国多么广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01300000235480122181094983920"/>
          <p:cNvPicPr/>
          <p:nvPr/>
        </p:nvPicPr>
        <p:blipFill>
          <a:blip r:embed="rId1"/>
          <a:stretch/>
        </p:blipFill>
        <p:spPr>
          <a:xfrm>
            <a:off x="1332000" y="83664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jhp2000404a"/>
          <p:cNvPicPr/>
          <p:nvPr/>
        </p:nvPicPr>
        <p:blipFill>
          <a:blip r:embed="rId1"/>
          <a:srcRect l="0" t="0" r="-128" b="0"/>
          <a:stretch/>
        </p:blipFill>
        <p:spPr>
          <a:xfrm>
            <a:off x="1403280" y="907920"/>
            <a:ext cx="626580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87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河是中国第二大河，全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46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，流域面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多平方千米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黄河发源于青藏高原巴颜喀拉山北麓海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的约古宗列盆地，流经青海、四川、甘肃、宁夏、内蒙古、山西、陕西、河南、山东九个省、自治区，最后注入渤海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美丽而古老的黄河，是中华民族的摇篮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河之水天上来，奔流到海不复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这就是唐朝大诗人李白对黄河的赞叹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3780000" y="404640"/>
            <a:ext cx="1400040" cy="44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黄河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1763640" y="1197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海南岛上，鲜花已经盛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589752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下雪"/>
          <p:cNvPicPr/>
          <p:nvPr/>
        </p:nvPicPr>
        <p:blipFill>
          <a:blip r:embed="rId1"/>
          <a:stretch/>
        </p:blipFill>
        <p:spPr>
          <a:xfrm>
            <a:off x="2771640" y="2421000"/>
            <a:ext cx="385128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763640" y="90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大兴安岭，雪花还在飘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4643280" y="1800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276720" y="765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祖国多么广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2006120811293991"/>
          <p:cNvPicPr/>
          <p:nvPr/>
        </p:nvPicPr>
        <p:blipFill>
          <a:blip r:embed="rId1"/>
          <a:stretch/>
        </p:blipFill>
        <p:spPr>
          <a:xfrm>
            <a:off x="900000" y="1413000"/>
            <a:ext cx="6840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826920" y="98100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当帕米尔高原，还挂着满天星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5944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1371600" y="685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Times New Roman"/>
              </a:rPr>
              <a:t>乌苏里江畔，已披上五彩朝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999a1a3779fb1724a07ad3015670099e"/>
          <p:cNvPicPr/>
          <p:nvPr/>
        </p:nvPicPr>
        <p:blipFill>
          <a:blip r:embed="rId1"/>
          <a:stretch/>
        </p:blipFill>
        <p:spPr>
          <a:xfrm>
            <a:off x="2050920" y="1700280"/>
            <a:ext cx="5069160" cy="37735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"/>
          <p:cNvSpPr/>
          <p:nvPr/>
        </p:nvSpPr>
        <p:spPr>
          <a:xfrm>
            <a:off x="1117440" y="6154560"/>
            <a:ext cx="58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55640" y="7650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祖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266640" y="836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小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5571720" y="907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已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515000" y="907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兴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106280" y="17845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imes New Roman"/>
              </a:rPr>
              <a:t>高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338280" y="1844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飘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136560" y="1916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imes New Roman"/>
              </a:rPr>
              <a:t>大兴安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031400" y="299736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大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059280" y="3068640"/>
            <a:ext cx="17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33"/>
                </a:solidFill>
                <a:latin typeface="Times New Roman"/>
              </a:rPr>
              <a:t>挂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5435640" y="2997360"/>
            <a:ext cx="17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星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7588080" y="2997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</a:rPr>
              <a:t>苏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106280" y="4221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imes New Roman"/>
              </a:rPr>
              <a:t>披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338280" y="4221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朝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5714640" y="4221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挽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383480" y="5157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</a:rPr>
              <a:t>乌苏里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421600" y="51577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</a:rPr>
              <a:t>帕米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7353360" y="4149720"/>
            <a:ext cx="17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33"/>
                </a:solidFill>
                <a:latin typeface="Times New Roman"/>
              </a:rPr>
              <a:t>当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990720" y="1219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71640" y="11253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556000" y="1125360"/>
            <a:ext cx="5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379400" y="105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940360" y="1125360"/>
            <a:ext cx="6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06632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65068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6012000" y="227664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37940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994680" y="450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4379400" y="328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2579040" y="458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1066320" y="33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7691040" y="112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6012000" y="3284640"/>
            <a:ext cx="6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761940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7524720" y="3357720"/>
            <a:ext cx="6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2484360" y="3284640"/>
            <a:ext cx="6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38E7-85E9-4F2F-AB3F-1BC08CF840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W020090204345037498709"/>
          <p:cNvPicPr/>
          <p:nvPr/>
        </p:nvPicPr>
        <p:blipFill>
          <a:blip r:embed="rId1"/>
          <a:stretch/>
        </p:blipFill>
        <p:spPr>
          <a:xfrm>
            <a:off x="1547640" y="981000"/>
            <a:ext cx="6085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8e3c67ca33b4d851f31fe703"/>
          <p:cNvPicPr/>
          <p:nvPr/>
        </p:nvPicPr>
        <p:blipFill>
          <a:blip r:embed="rId1"/>
          <a:stretch/>
        </p:blipFill>
        <p:spPr>
          <a:xfrm>
            <a:off x="1258920" y="692280"/>
            <a:ext cx="70200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3ec27ddd3e77f235882dd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539640" y="907920"/>
            <a:ext cx="806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南岛在中国的南部，面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22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平方千米。北隔琼州海峡同雷州半岛相望，是中国第二大岛。 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海南岛地形中间高，四周低。五指山是岛上最著名的山脉，从东南方望去，五峰耸立，形似五指，因此得名。 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海南岛到处是一派热带风光。有大片的热带森林，植物种类多，终年常绿，树干高，树冠参差不齐。另外还有许多独特的生物现象，如板状根、老茎生花等。 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海南岛是中国橡胶、椰子、油棕、剑麻、胡椒等热带经济作物的主要产地。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780000" y="260280"/>
            <a:ext cx="1400040" cy="588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海南岛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2006120811293991"/>
          <p:cNvPicPr/>
          <p:nvPr/>
        </p:nvPicPr>
        <p:blipFill>
          <a:blip r:embed="rId1"/>
          <a:stretch/>
        </p:blipFill>
        <p:spPr>
          <a:xfrm>
            <a:off x="971640" y="836640"/>
            <a:ext cx="6840360" cy="4967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2987640" y="765000"/>
            <a:ext cx="29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祖国多么广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75d3bc1aee541ce5af5133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6:17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6:20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