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8E8E-4354-4321-AF36-DAAD466B036D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8998-E985-43C3-844F-7FABCD84D921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489-E68B-4AAA-9587-36A85506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C17-5A70-4BAB-8D5D-3683EDC8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C24-5859-406C-BA5D-F3D31691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FB6-77FC-4467-8234-C9B218E4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F8A-E1A5-4162-82A1-F128B8EC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C64-5CF3-42B2-9ACB-3DF44551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80A9-A66B-4E94-96D3-294B8113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615-6BC4-496B-B905-158FDF7B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1E5-BADA-41EB-975B-683015E9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D82-C1C5-4411-91D0-358009D6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DAB-0061-471B-BA0D-1B1CC1A0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50B-4305-47F8-A075-30F0610B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04"/>
          <p:cNvPicPr/>
          <p:nvPr/>
        </p:nvPicPr>
        <p:blipFill>
          <a:blip r:embed="rId3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Line 6"/>
          <p:cNvSpPr/>
          <p:nvPr/>
        </p:nvSpPr>
        <p:spPr>
          <a:xfrm>
            <a:off x="1042920" y="1413000"/>
            <a:ext cx="75614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0" name="Picture 3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4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5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5044-D57A-40C3-8517-6359DBC97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692360" y="22860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中 华 巨 龙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f122824e2c7c35e8d1c86aca"/>
          <p:cNvPicPr/>
          <p:nvPr/>
        </p:nvPicPr>
        <p:blipFill>
          <a:blip r:embed="rId1"/>
          <a:stretch/>
        </p:blipFill>
        <p:spPr>
          <a:xfrm>
            <a:off x="7164360" y="1844640"/>
            <a:ext cx="1855800" cy="2722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1692360" y="635040"/>
            <a:ext cx="66247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2183400" y="595008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258920" y="1989000"/>
            <a:ext cx="7416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长城雄伟壮观、气势磅礴、历史悠久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巨大。千百年来，这条巨龙与中华民族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苦同尝、荣辱与共。它集民族之精华，凝九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一国魂；挟昆仑之神威，扬黄河之浩气。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虽历尽坎坷，饱受风霜，但雄姿英爽，斗志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扬，是中华民族的骄傲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初读感知"/>
          <p:cNvPicPr/>
          <p:nvPr/>
        </p:nvPicPr>
        <p:blipFill>
          <a:blip r:embed="rId1"/>
          <a:stretch/>
        </p:blipFill>
        <p:spPr>
          <a:xfrm>
            <a:off x="1187280" y="76500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363840" y="2060640"/>
            <a:ext cx="60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巨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巨龙身上的背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巨龙的鳞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烽火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巨龙的利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090440" y="1773360"/>
            <a:ext cx="2271960" cy="3313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初读感知"/>
          <p:cNvPicPr/>
          <p:nvPr/>
        </p:nvPicPr>
        <p:blipFill>
          <a:blip r:embed="rId2"/>
          <a:stretch/>
        </p:blipFill>
        <p:spPr>
          <a:xfrm>
            <a:off x="1187280" y="76500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187280" y="1989000"/>
            <a:ext cx="777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文介绍了长城雄伟壮观的特点、悠久的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史、巨大的作用以及人们由长城产生的联想等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面的内容，是为了表达作者怎样的思想感情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878360" y="403236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对长城的喜爱、赞美之情以及作者的民族自豪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116000" y="692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阅读思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495680" y="1843920"/>
            <a:ext cx="8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过这一课的学习，你有哪些收获？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671120" y="6580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课堂小结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1042920" y="2833560"/>
            <a:ext cx="8101080" cy="4024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3564000" y="2781360"/>
            <a:ext cx="3508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再见！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1938240" y="5243400"/>
            <a:ext cx="699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4d4d4d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d4d4d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4d4d4d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d4d4d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4d4d4d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d4d4d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4d4d4d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d4d4d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4d4d4d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d4d4d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4d4d4d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d4d4d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4d4d4d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d4d4d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4d4d4d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d4d4d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0C07-1CF9-42B2-BAD6-AABC1ABC55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042920" y="2205000"/>
            <a:ext cx="864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本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感情地朗读课文，理解课文内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句子的深刻含义，体会课文表达的思想感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116000" y="62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学习目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长城  22"/>
          <p:cNvPicPr/>
          <p:nvPr/>
        </p:nvPicPr>
        <p:blipFill>
          <a:blip r:embed="rId1"/>
          <a:stretch/>
        </p:blipFill>
        <p:spPr>
          <a:xfrm>
            <a:off x="2195640" y="2349360"/>
            <a:ext cx="5351400" cy="3592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长城2"/>
          <p:cNvPicPr/>
          <p:nvPr/>
        </p:nvPicPr>
        <p:blipFill>
          <a:blip r:embed="rId2"/>
          <a:stretch/>
        </p:blipFill>
        <p:spPr>
          <a:xfrm>
            <a:off x="2195640" y="2060640"/>
            <a:ext cx="5371920" cy="402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长城1"/>
          <p:cNvPicPr/>
          <p:nvPr/>
        </p:nvPicPr>
        <p:blipFill>
          <a:blip r:embed="rId3"/>
          <a:stretch/>
        </p:blipFill>
        <p:spPr>
          <a:xfrm>
            <a:off x="2124000" y="1989000"/>
            <a:ext cx="5616720" cy="4213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33"/>
          <p:cNvPicPr/>
          <p:nvPr/>
        </p:nvPicPr>
        <p:blipFill>
          <a:blip r:embed="rId4"/>
          <a:stretch/>
        </p:blipFill>
        <p:spPr>
          <a:xfrm>
            <a:off x="1979640" y="1844640"/>
            <a:ext cx="5970600" cy="4478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3564000" y="692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万里长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042920" y="184932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城是我国古代劳动人民创造的奇迹，因长度逾万里，故又称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里长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自秦朝开始，修筑长城一直是一项大工程。据记载，秦始皇使用了近百万劳动力修筑长城，占全国人口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/20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时没有任何机械，全部劳动都得靠人力，而工作环境又是崇山峻岭、峭壁深壑。可以想象，没有大量的人群进行艰苦的劳动，是无法完成这项巨大工程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564000" y="692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万里长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187280" y="1628640"/>
            <a:ext cx="77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秋战国时期，诸侯各国为了防御别国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，修筑烽火台，用城墙连接起来，形成最早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城。以后历代君王大都加固增修。长城东起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关，西至嘉峪关。明长城的总长度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851.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其中人工墙体长度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259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壕堑和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险长度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92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564000" y="692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万里长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中华人民共和国国歌-义勇军进行曲.mp3" descr=""/>
          <p:cNvPicPr/>
          <p:nvPr/>
        </p:nvPicPr>
        <p:blipFill>
          <a:blip r:embed="rId1"/>
          <a:stretch/>
        </p:blipFill>
        <p:spPr>
          <a:xfrm>
            <a:off x="3419640" y="981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2340000" y="1989000"/>
            <a:ext cx="5040360" cy="4057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长城  22"/>
          <p:cNvPicPr/>
          <p:nvPr/>
        </p:nvPicPr>
        <p:blipFill>
          <a:blip r:embed="rId3"/>
          <a:stretch/>
        </p:blipFill>
        <p:spPr>
          <a:xfrm>
            <a:off x="1763640" y="1989000"/>
            <a:ext cx="6156360" cy="41324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1258920" y="83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齐唱国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332000" y="2205000"/>
            <a:ext cx="7561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雄伟壮观  气势磅礴  盘旋  绵延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屏障  咽喉要地  甘苦同尝  荣辱与共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爽  斗志昂扬  矗立  艰难险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03280" y="765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词语积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116000" y="2492280"/>
            <a:ext cx="756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课文介绍了长城哪能些方面的内容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为什么说长城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伟大民族的象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课文哪部份给你留下了深刻的印象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403280" y="17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自读提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初读感知"/>
          <p:cNvPicPr/>
          <p:nvPr/>
        </p:nvPicPr>
        <p:blipFill>
          <a:blip r:embed="rId1"/>
          <a:stretch/>
        </p:blipFill>
        <p:spPr>
          <a:xfrm>
            <a:off x="1187280" y="76500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1258920" y="2276640"/>
            <a:ext cx="7345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介绍了长城的雄伟壮观、长城的发展历史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城的巨大作用、人们由长城产生的联想等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的内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初读感知"/>
          <p:cNvPicPr/>
          <p:nvPr/>
        </p:nvPicPr>
        <p:blipFill>
          <a:blip r:embed="rId1"/>
          <a:stretch/>
        </p:blipFill>
        <p:spPr>
          <a:xfrm>
            <a:off x="1187280" y="76500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24:59Z</dcterms:modified>
  <cp:revision>1</cp:revision>
  <dc:subject/>
  <dc:title>幻灯片 1</dc:title>
</cp:coreProperties>
</file>