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8B32-476D-4C0A-8DDB-8F45666573A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B80A-2B6D-4423-9DA5-F5502204B34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8D8-45C4-4B3B-9382-4F7793DC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C5D3-9A25-428C-A9A1-E71DA31E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4CD2-BA9C-4D68-BB40-A442589F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057-BE7B-4543-9DC0-76848883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C8B-C548-406F-9DC4-90487E5C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63F-11C9-4072-90A4-71E42245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8C7-E6C4-478F-A894-9F68374E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D00B-A856-424E-947B-DFCA741A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D5D-4613-4B46-A02B-DE7016C0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4A7-4C72-4E6F-8804-3EC6B8C6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9BC-5FAE-43A9-9903-31E90702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293-8002-4A30-B773-9DF58DF7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8BC0-3DC8-45F4-AFDB-8723C5609B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8"/>
          <p:cNvSpPr txBox="1"/>
          <p:nvPr/>
        </p:nvSpPr>
        <p:spPr>
          <a:xfrm>
            <a:off x="1709640" y="1844640"/>
            <a:ext cx="5761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最佳方案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845720" y="5661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25647031_11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235089-120925013P8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2075774_121939023_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21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426960" y="40320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设计方案</a:t>
            </a:r>
            <a:endParaRPr b="1" lang="en-US" sz="4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9640" y="134136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活动方案包括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活动时间、活动地点、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3" action="ppaction://hlinksldjump"/>
              </a:rPr>
              <a:t>活动内容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分组、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4" action="ppaction://hlinksldjump"/>
              </a:rPr>
              <a:t>费用开支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5" action="ppaction://hlinksldjump"/>
              </a:rPr>
              <a:t>注意事项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等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9640" y="549360"/>
            <a:ext cx="80647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活动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标本采集、绘画摄影、观察写景、游戏娱乐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注意事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遵守纪律、服从指挥、互相帮助、注意安全等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>
            <a:hlinkClick r:id="rId1" action="ppaction://hlinksldjump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10800"/>
                </a:moveTo>
                <a:lnTo>
                  <a:pt x="29067" y="3794"/>
                </a:lnTo>
                <a:lnTo>
                  <a:pt x="2906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4"/>
          <p:cNvSpPr/>
          <p:nvPr/>
        </p:nvSpPr>
        <p:spPr>
          <a:xfrm>
            <a:off x="1979640" y="20415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68360" y="692280"/>
            <a:ext cx="842472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费用开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尽量节省，如交通问题，是步行还是租车，又或者是请家长支援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午餐，是自备还是统一购买？等等问题都应该考虑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>
            <a:hlinkClick r:id="rId1" action="ppaction://hlinksldjump"/>
          </p:cNvPr>
          <p:cNvSpPr/>
          <p:nvPr/>
        </p:nvSpPr>
        <p:spPr>
          <a:xfrm>
            <a:off x="8317080" y="6453360"/>
            <a:ext cx="826920" cy="404640"/>
          </a:xfrm>
          <a:custGeom>
            <a:avLst/>
            <a:gdLst>
              <a:gd name="textAreaLeft" fmla="*/ 25920 w 826920"/>
              <a:gd name="textAreaRight" fmla="*/ 801000 w 8269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4122" h="21600">
                <a:moveTo>
                  <a:pt x="0" y="0"/>
                </a:moveTo>
                <a:lnTo>
                  <a:pt x="44122" y="0"/>
                </a:lnTo>
                <a:lnTo>
                  <a:pt x="44122" y="21600"/>
                </a:lnTo>
                <a:lnTo>
                  <a:pt x="0" y="21600"/>
                </a:lnTo>
                <a:close/>
              </a:path>
              <a:path fill="lightenLess" w="44122" h="21600">
                <a:moveTo>
                  <a:pt x="0" y="0"/>
                </a:moveTo>
                <a:lnTo>
                  <a:pt x="44122" y="0"/>
                </a:lnTo>
                <a:lnTo>
                  <a:pt x="42722" y="1400"/>
                </a:lnTo>
                <a:lnTo>
                  <a:pt x="1400" y="1400"/>
                </a:lnTo>
                <a:close/>
              </a:path>
              <a:path fill="darken" w="44122" h="21600">
                <a:moveTo>
                  <a:pt x="44122" y="0"/>
                </a:moveTo>
                <a:lnTo>
                  <a:pt x="44122" y="21600"/>
                </a:lnTo>
                <a:lnTo>
                  <a:pt x="42722" y="20200"/>
                </a:lnTo>
                <a:lnTo>
                  <a:pt x="42722" y="1400"/>
                </a:lnTo>
                <a:close/>
              </a:path>
              <a:path fill="darkenLess" w="44122" h="21600">
                <a:moveTo>
                  <a:pt x="441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22" y="20200"/>
                </a:lnTo>
                <a:close/>
              </a:path>
              <a:path fill="lighten" w="441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22" h="21600">
                <a:moveTo>
                  <a:pt x="15054" y="10800"/>
                </a:moveTo>
                <a:lnTo>
                  <a:pt x="29067" y="3794"/>
                </a:lnTo>
                <a:lnTo>
                  <a:pt x="2906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1116000" y="4451400"/>
            <a:ext cx="865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68360" y="549360"/>
          <a:ext cx="8351640" cy="5156280"/>
        </p:xfrm>
        <a:graphic>
          <a:graphicData uri="http://schemas.openxmlformats.org/drawingml/2006/table">
            <a:tbl>
              <a:tblPr/>
              <a:tblGrid>
                <a:gridCol w="1477440"/>
                <a:gridCol w="2481480"/>
                <a:gridCol w="1873080"/>
                <a:gridCol w="2519640"/>
              </a:tblGrid>
              <a:tr h="71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活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估计费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快乐指数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1979640" y="2060640"/>
            <a:ext cx="4824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813F-A7C0-448F-AA75-33F30CF03A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6:56:5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1:18Z</dcterms:modified>
  <cp:revision>10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