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EE0F-59CF-48C5-A0F2-6E1002E67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BD07-A4A4-49CA-B4C6-6EFFB756D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C3AB-1F48-4B70-9526-4AEDE5C31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3B07-D9EE-44D5-8B35-0C9C6FD1F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7261-E752-4E6A-A418-0659112A2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1A05-5D9D-4C36-9B69-34F54B1A6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222D-E01C-4DAE-8F3F-4C0BDDE24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BDB1-9B75-4292-B4E0-79A36ACE3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6044-DA14-40C2-87C9-40E46D875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D338-D93C-46AD-8728-2DB3A3355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3E92-64F5-44D4-A8A6-18EB028E8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0446-3A1E-46AF-8086-9475F24A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A8E4-5E65-4117-8ED4-7D64B23A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983-466D-40D4-8E2B-015B0172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E77D-DE62-4583-92C1-5D758437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528-BE60-4DF8-B554-4D82C88E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6656-4A48-4B91-9723-A743AEB4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01F0-CEBC-4A33-B61E-DE832F6F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28D8-8BC3-4B29-9AF7-D94A88A9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066-A26D-476A-9563-117B1E36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8560-0AFF-4574-8F82-3D9BE42D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9B23-DB40-4288-9999-17F6BA1C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2E8-795A-4FB7-95B0-426C172E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B191-AF8A-444C-BDFB-C3AA91259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1209600" y="1405080"/>
            <a:ext cx="6481800" cy="439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（湘教版）二年级语文下册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747800" y="2867040"/>
            <a:ext cx="54054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微软雅黑"/>
              </a:rPr>
              <a:t>在树林里</a:t>
            </a:r>
            <a:endParaRPr b="1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827000" y="5589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尼尼和莉莉一起到树林里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           ）和（             ）一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        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5"/>
          <p:cNvSpPr txBox="1"/>
          <p:nvPr/>
        </p:nvSpPr>
        <p:spPr>
          <a:xfrm>
            <a:off x="1258920" y="260280"/>
            <a:ext cx="380988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知识链接：</a:t>
            </a:r>
            <a:endParaRPr b="0" lang="en-US" sz="60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B15D-8F2F-44D6-91EE-1B4BDD4FAFE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学习目标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生字，并要求会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借助拼音，正确流利地朗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品味大自然的美，做一个诚实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45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0" y="3573360"/>
            <a:ext cx="91440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5"/>
          <p:cNvSpPr/>
          <p:nvPr/>
        </p:nvSpPr>
        <p:spPr>
          <a:xfrm>
            <a:off x="961920" y="2970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08000" y="981000"/>
            <a:ext cx="858996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词语注音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撕碎（         ）     羞愧（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垃圾（         ）     饮料（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识字加油站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心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息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­­­­­­­­­­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休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)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(    )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)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(    )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(     )=(    )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imes New Roman"/>
                <a:ea typeface="幼圆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精读课文，理解内容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第一自然段，说说本文中讲了哪两个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到森林里去玩，带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听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感悟升华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课文中体会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今后，我们的行为举止应该注意些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"/>
          <p:cNvSpPr/>
          <p:nvPr/>
        </p:nvSpPr>
        <p:spPr>
          <a:xfrm>
            <a:off x="1830240" y="4898880"/>
            <a:ext cx="54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词语归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树林     小山     休息     唱歌     蛋壳    停止    报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称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作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6:42:2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2:17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