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9191E-DADB-4F21-8526-37F212E83842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4B88-A879-4051-872F-4DDC0908A4AD}" type="slidenum">
              <a:rPr b="1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675-0856-45E9-B90A-B67B9553F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4CC-2E3B-4784-947D-5C8F8ADE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D6D6-4415-4637-B56B-5AB8CF8F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1DEE-C692-45AB-999C-199106E7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B98E-6906-4D79-861A-1ECD712D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CDC-1A24-4215-B317-AB5ED21C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CE8-A59D-41F4-92CF-61EBC5A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92BB-9108-4C21-BDB1-90ABCF28C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52F5-964D-4461-B4C1-70A292BD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CF5A-6863-4ADF-A63F-22E6A0B1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1DE0-22FB-4213-89CB-9307E692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B781-FE99-43CB-BB88-1249067A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F88E-F396-4B0B-8EDF-CE2B210C8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baike.baidu.com/view/2647.htm" TargetMode="External"/><Relationship Id="rId2" Type="http://schemas.openxmlformats.org/officeDocument/2006/relationships/hyperlink" Target="http://baike.baidu.com/view/2636.htm" TargetMode="External"/><Relationship Id="rId3" Type="http://schemas.openxmlformats.org/officeDocument/2006/relationships/hyperlink" Target="http://baike.baidu.com/subview/1002310/5110541.htm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601640" y="1447920"/>
            <a:ext cx="58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这条小鱼在乎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6652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914400"/>
            <a:ext cx="8001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演一演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来演一演小男孩救鱼的过程，去感受一下小男孩挽救小鱼时的认真、执着和辛苦！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312920" y="5460840"/>
            <a:ext cx="65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EC69-7215-4ED9-9238-7499997146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1"/>
          <p:cNvSpPr/>
          <p:nvPr/>
        </p:nvSpPr>
        <p:spPr>
          <a:xfrm>
            <a:off x="2514600" y="457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52280" y="1619280"/>
            <a:ext cx="88394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鱼的处境如何？它们在乎什么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男孩是怎么做的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男孩明明知道水洼里的小鱼救不过来，为什么还要把小鱼一条条地扔进大海？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这条小鱼在乎.mp3" descr=""/>
          <p:cNvPicPr/>
          <p:nvPr/>
        </p:nvPicPr>
        <p:blipFill>
          <a:blip r:embed="rId1"/>
          <a:stretch/>
        </p:blipFill>
        <p:spPr>
          <a:xfrm>
            <a:off x="7620120" y="5334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9774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dongtuq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5" descr="动图"/>
          <p:cNvPicPr/>
          <p:nvPr/>
        </p:nvPicPr>
        <p:blipFill>
          <a:blip r:embed="rId2"/>
          <a:stretch/>
        </p:blipFill>
        <p:spPr>
          <a:xfrm>
            <a:off x="4724280" y="342900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1" descr="2008616224529395_2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429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2" descr="u=1547645196,375802193&amp;fm=21&amp;gp=0"/>
          <p:cNvPicPr/>
          <p:nvPr/>
        </p:nvPicPr>
        <p:blipFill>
          <a:blip r:embed="rId4"/>
          <a:stretch/>
        </p:blipFill>
        <p:spPr>
          <a:xfrm>
            <a:off x="0" y="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228600" y="1143000"/>
            <a:ext cx="8534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暴风雨后的一个早晨，一位先生来到海边散步。他沿着海边走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在沙滩的浅水洼里，有许多被昨夜的暴风雨卷上岸来的小鱼。它们被       浅水洼里，尽管大海近在咫尺，却回不去了。用不了多久，浅水洼里的水就会被沙粒        ，被太阳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，这些小鱼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就会       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800600" y="28195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困在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6248520" y="3930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吸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85800" y="44640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蒸干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4876920" y="4495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干死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762120" y="556272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鱼的处境非常危险，面临着死亡的威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1447920" y="5335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小鱼的处境如何？它们在乎什么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09480" y="1752480"/>
            <a:ext cx="8153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在每个水洼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腰去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里面的小鱼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把它们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海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838080" y="3581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连串动词的运用，表现出小男孩对挽救小鱼生命的认真和执着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209680" y="17524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边走边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4648320" y="173664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停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1600200" y="234648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弯下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1"/>
          <p:cNvSpPr/>
          <p:nvPr/>
        </p:nvSpPr>
        <p:spPr>
          <a:xfrm>
            <a:off x="3809880" y="23464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捡起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7620120" y="236232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743200" y="297180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扔回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0" y="4495680"/>
            <a:ext cx="79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停”“用力”将小男孩挽救小鱼的认真、费力和辛苦展现出来了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2219400" y="9144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男孩是怎么做的呢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85800" y="91440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90440" y="533520"/>
            <a:ext cx="868680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位先生忍不住走过去对小男孩说：“孩子，水洼里有成百上千条小鱼，你是救不过来的。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“我知道。”小男孩头也不抬地回答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你为什么还在扔？谁在乎呢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条小鱼在乎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小男孩一边回答，一边捡起一条小鱼扔进大海。“这条在乎，这条也在乎！还有这一条、这一条、这一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228600" y="152280"/>
            <a:ext cx="85345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男孩的回答是：“这条小鱼在乎！”这句话表明小男孩是站在每条小鱼个体的角度来看的。一条小鱼就是一条生命，挽救一条小鱼就等于挽救了一个生命。虽然他救不完，但他要尽自己最大的努力来挽救每一条生命。体现了小男孩对弱小生命的关爱。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04920" y="4495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是一个善良、有爱心、关爱生命的小男孩。他的一次小小的行动对小鱼是莫大的帮助，挽救了小鱼的生命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dur="indefinite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5"/>
          <p:cNvSpPr/>
          <p:nvPr/>
        </p:nvSpPr>
        <p:spPr>
          <a:xfrm>
            <a:off x="0" y="-152280"/>
            <a:ext cx="899172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活中还有许许多多需要我们去关注的生命，每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是“世界动物日”，呼吁人们要保护动物，关爱生命！你还知道哪些关爱生命的故事？说出来大家听听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救狗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590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小刺猬"/>
          <p:cNvPicPr/>
          <p:nvPr/>
        </p:nvPicPr>
        <p:blipFill>
          <a:blip r:embed="rId2"/>
          <a:stretch/>
        </p:blipFill>
        <p:spPr>
          <a:xfrm>
            <a:off x="4114800" y="4495680"/>
            <a:ext cx="5029200" cy="2819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大熊猫"/>
          <p:cNvPicPr/>
          <p:nvPr/>
        </p:nvPicPr>
        <p:blipFill>
          <a:blip r:embed="rId3"/>
          <a:stretch/>
        </p:blipFill>
        <p:spPr>
          <a:xfrm>
            <a:off x="0" y="2057400"/>
            <a:ext cx="4276800" cy="4800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1"/>
          <p:cNvSpPr/>
          <p:nvPr/>
        </p:nvSpPr>
        <p:spPr>
          <a:xfrm>
            <a:off x="4648320" y="220968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4423680" y="2514600"/>
            <a:ext cx="789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大熊猫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8157240" y="198108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狗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8157240" y="4876920"/>
            <a:ext cx="7898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刺猬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28600" y="8377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徐秀娟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4—198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女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出生于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黑龙江省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齐齐哈尔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个满族渔民家庭，一个养鹤世家。她从小就受到了良好的家庭教育。徐秀娟小时候常帮着父母喂小鹤，潜移默化中也爱上了丹顶鹤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为寻找走失的天鹅溺水牺牲，被追为烈士，誉为“中国第一位驯鹤姑娘”。以她的事迹谱写的歌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一个真实的故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曾被广泛传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一个真实的故事.mp3" descr=""/>
          <p:cNvPicPr/>
          <p:nvPr/>
        </p:nvPicPr>
        <p:blipFill>
          <a:blip r:embed="rId4"/>
          <a:stretch/>
        </p:blipFill>
        <p:spPr>
          <a:xfrm>
            <a:off x="701028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7613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1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19Z</dcterms:modified>
  <cp:revision>4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