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4A4-D916-4079-B834-3AB4DDE166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BD37-7C17-402C-9DF4-9578DC22C68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A8D-005E-43D7-B9F9-C2406733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F5F-21C9-477F-A8DC-20AB769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6A8-77AB-4E9D-940A-B4A94423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2C5-9A1F-4C57-8AFE-F7915614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D01-E3DD-4ADE-88BF-0A847A5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6A6-42C7-459F-9042-210449A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0FF-7B5F-4BA2-ABB1-E94FBBD7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CA6-F6AF-4CAC-9CE9-632D8B16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B75-62AF-4ABF-ACDB-478AB0E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4373-1933-4369-8210-D081286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ACE-5B28-4FB0-99D2-99185FA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51E-7AF5-4664-8463-66FBA89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4108-1A60-438A-826F-ECAD82E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84E-BC47-4B83-9161-0D72E189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DA5-4164-4B90-A4CF-0C529E9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8A8-9672-4C01-A71E-08C34BF7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2C42-85B1-4683-8C16-69F5E65A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666-9A53-4376-A66E-95D7D47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E15-CE23-4CCF-B092-12C6F42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45E-E19E-49A3-8B9B-9C5B642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569-928F-4566-9F16-6F833D8D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219-C4B6-40C9-98FC-C3D4270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3F5-855F-415A-9C1D-F413BCD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5D8-1B2B-4DA4-9630-B3F95D19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9D11-D2F2-4304-A460-61F2ABE40F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BE3B-C16A-40E4-A678-E9B86D92461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rcRect l="0" t="0" r="0" b="5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1908000" y="1844640"/>
            <a:ext cx="532800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华文中宋"/>
              </a:rPr>
              <a:t>祖先的摇篮</a:t>
            </a:r>
            <a:endParaRPr b="1" lang="en-US" sz="66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107" name="矩形 5" descr=""/>
          <p:cNvPicPr/>
          <p:nvPr/>
        </p:nvPicPr>
        <p:blipFill>
          <a:blip r:embed="rId2"/>
          <a:stretch/>
        </p:blipFill>
        <p:spPr>
          <a:xfrm>
            <a:off x="1628640" y="5661000"/>
            <a:ext cx="64026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130000032043812323852246138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W020080317363940429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59ead379f48d636c0dd7da0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>
            <a:hlinkClick r:id="rId2" action="ppaction://hlinksldjump"/>
          </p:cNvPr>
          <p:cNvSpPr/>
          <p:nvPr/>
        </p:nvSpPr>
        <p:spPr>
          <a:xfrm>
            <a:off x="7885080" y="5877000"/>
            <a:ext cx="1258920" cy="720720"/>
          </a:xfrm>
          <a:custGeom>
            <a:avLst/>
            <a:gdLst>
              <a:gd name="textAreaLeft" fmla="*/ 46440 w 1258920"/>
              <a:gd name="textAreaRight" fmla="*/ 1212480 w 125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7722" h="21600">
                <a:moveTo>
                  <a:pt x="0" y="0"/>
                </a:moveTo>
                <a:lnTo>
                  <a:pt x="37722" y="0"/>
                </a:lnTo>
                <a:lnTo>
                  <a:pt x="37722" y="21600"/>
                </a:lnTo>
                <a:lnTo>
                  <a:pt x="0" y="21600"/>
                </a:lnTo>
                <a:close/>
              </a:path>
              <a:path fill="lightenLess" w="37722" h="21600">
                <a:moveTo>
                  <a:pt x="0" y="0"/>
                </a:moveTo>
                <a:lnTo>
                  <a:pt x="37722" y="0"/>
                </a:lnTo>
                <a:lnTo>
                  <a:pt x="36322" y="1400"/>
                </a:lnTo>
                <a:lnTo>
                  <a:pt x="1400" y="1400"/>
                </a:lnTo>
                <a:close/>
              </a:path>
              <a:path fill="darken" w="37722" h="21600">
                <a:moveTo>
                  <a:pt x="37722" y="0"/>
                </a:moveTo>
                <a:lnTo>
                  <a:pt x="37722" y="21600"/>
                </a:lnTo>
                <a:lnTo>
                  <a:pt x="36322" y="20200"/>
                </a:lnTo>
                <a:lnTo>
                  <a:pt x="36322" y="1400"/>
                </a:lnTo>
                <a:close/>
              </a:path>
              <a:path fill="darkenLess" w="37722" h="21600">
                <a:moveTo>
                  <a:pt x="37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22" y="20200"/>
                </a:lnTo>
                <a:close/>
              </a:path>
              <a:path fill="lighten" w="37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04000" y="2349360"/>
            <a:ext cx="2160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蔷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e64a48a1f5247f9fc1f1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684360" y="404640"/>
            <a:ext cx="2233440" cy="119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蝈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>
            <a:hlinkClick r:id="rId2" action="ppaction://hlinksldjump"/>
          </p:cNvPr>
          <p:cNvSpPr/>
          <p:nvPr/>
        </p:nvSpPr>
        <p:spPr>
          <a:xfrm>
            <a:off x="6948360" y="5445000"/>
            <a:ext cx="1871640" cy="863640"/>
          </a:xfrm>
          <a:custGeom>
            <a:avLst/>
            <a:gdLst>
              <a:gd name="textAreaLeft" fmla="*/ 55800 w 1871640"/>
              <a:gd name="textAreaRight" fmla="*/ 1815840 w 1871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6800" h="21600">
                <a:moveTo>
                  <a:pt x="0" y="0"/>
                </a:moveTo>
                <a:lnTo>
                  <a:pt x="46800" y="0"/>
                </a:lnTo>
                <a:lnTo>
                  <a:pt x="46800" y="21600"/>
                </a:lnTo>
                <a:lnTo>
                  <a:pt x="0" y="21600"/>
                </a:lnTo>
                <a:close/>
              </a:path>
              <a:path fill="lightenLess" w="46800" h="21600">
                <a:moveTo>
                  <a:pt x="0" y="0"/>
                </a:moveTo>
                <a:lnTo>
                  <a:pt x="46800" y="0"/>
                </a:lnTo>
                <a:lnTo>
                  <a:pt x="45400" y="1400"/>
                </a:lnTo>
                <a:lnTo>
                  <a:pt x="1400" y="1400"/>
                </a:lnTo>
                <a:close/>
              </a:path>
              <a:path fill="darken" w="46800" h="21600">
                <a:moveTo>
                  <a:pt x="46800" y="0"/>
                </a:moveTo>
                <a:lnTo>
                  <a:pt x="46800" y="21600"/>
                </a:lnTo>
                <a:lnTo>
                  <a:pt x="45400" y="20200"/>
                </a:lnTo>
                <a:lnTo>
                  <a:pt x="45400" y="1400"/>
                </a:lnTo>
                <a:close/>
              </a:path>
              <a:path fill="darkenLess" w="46800" h="21600">
                <a:moveTo>
                  <a:pt x="4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00" y="20200"/>
                </a:lnTo>
                <a:close/>
              </a:path>
              <a:path fill="lighten" w="4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【思考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9640" y="1197000"/>
            <a:ext cx="468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95280" y="1123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人类的祖先如何生活在森林里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20-14061Q20002"/>
          <p:cNvPicPr/>
          <p:nvPr/>
        </p:nvPicPr>
        <p:blipFill>
          <a:blip r:embed="rId1"/>
          <a:stretch/>
        </p:blipFill>
        <p:spPr>
          <a:xfrm>
            <a:off x="324000" y="2924280"/>
            <a:ext cx="3958920" cy="371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20100326084217-514958319"/>
          <p:cNvPicPr/>
          <p:nvPr/>
        </p:nvPicPr>
        <p:blipFill>
          <a:blip r:embed="rId2"/>
          <a:stretch/>
        </p:blipFill>
        <p:spPr>
          <a:xfrm>
            <a:off x="4645080" y="2925720"/>
            <a:ext cx="4246560" cy="367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W020130531326334188152_600_344"/>
          <p:cNvPicPr/>
          <p:nvPr/>
        </p:nvPicPr>
        <p:blipFill>
          <a:blip r:embed="rId3"/>
          <a:stretch/>
        </p:blipFill>
        <p:spPr>
          <a:xfrm>
            <a:off x="1692360" y="2925720"/>
            <a:ext cx="58291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【思考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42920" y="1268280"/>
            <a:ext cx="9001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文中说“真有意思”。    你是怎么理解“有意思”这个词的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仔细读课文，想一想，究竟什么“有意思”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692280"/>
            <a:ext cx="849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这些都是作者的想象，是对过去的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，这回忆美好而 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924360" y="4365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遥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835280" y="3141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Arial"/>
              </a:rPr>
              <a:t>回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468360" y="6280200"/>
            <a:ext cx="59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82560" y="415800"/>
            <a:ext cx="3673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52360" y="18900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"/>
              </a:rPr>
              <a:t>词语积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835280" y="1123920"/>
            <a:ext cx="475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祖先的摇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浓绿的树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古老的原始森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39640" y="3789360"/>
            <a:ext cx="80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摘野果          掏鹊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采野蔷薇      逗小松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捉红蜻蜓      逮绿蝈蝈儿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AD9-4B16-47C6-85F9-4C8F11FFF0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【开火车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1052640"/>
            <a:ext cx="83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开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始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树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荫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曾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经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掏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钱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蝈蝈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逮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捕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吗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3c265500eb1331c42a75be3"/>
          <p:cNvPicPr/>
          <p:nvPr/>
        </p:nvPicPr>
        <p:blipFill>
          <a:blip r:embed="rId1"/>
          <a:stretch/>
        </p:blipFill>
        <p:spPr>
          <a:xfrm>
            <a:off x="5940360" y="242100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3c265500eb1331c42a75be3"/>
          <p:cNvPicPr/>
          <p:nvPr/>
        </p:nvPicPr>
        <p:blipFill>
          <a:blip r:embed="rId2"/>
          <a:stretch/>
        </p:blipFill>
        <p:spPr>
          <a:xfrm>
            <a:off x="1692360" y="2349360"/>
            <a:ext cx="1655640" cy="159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3c265500eb1331c42a75be3"/>
          <p:cNvPicPr/>
          <p:nvPr/>
        </p:nvPicPr>
        <p:blipFill>
          <a:blip r:embed="rId3"/>
          <a:stretch/>
        </p:blipFill>
        <p:spPr>
          <a:xfrm>
            <a:off x="611280" y="189000"/>
            <a:ext cx="1655640" cy="1592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796000" y="2708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原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c3c265500eb1331c42a75be3"/>
          <p:cNvPicPr/>
          <p:nvPr/>
        </p:nvPicPr>
        <p:blipFill>
          <a:blip r:embed="rId4"/>
          <a:stretch/>
        </p:blipFill>
        <p:spPr>
          <a:xfrm>
            <a:off x="0" y="4538520"/>
            <a:ext cx="2411280" cy="231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3c265500eb1331c42a75be3"/>
          <p:cNvPicPr/>
          <p:nvPr/>
        </p:nvPicPr>
        <p:blipFill>
          <a:blip r:embed="rId5"/>
          <a:stretch/>
        </p:blipFill>
        <p:spPr>
          <a:xfrm>
            <a:off x="3780000" y="2421000"/>
            <a:ext cx="1655640" cy="159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3c265500eb1331c42a75be3"/>
          <p:cNvPicPr/>
          <p:nvPr/>
        </p:nvPicPr>
        <p:blipFill>
          <a:blip r:embed="rId6"/>
          <a:stretch/>
        </p:blipFill>
        <p:spPr>
          <a:xfrm>
            <a:off x="6659640" y="4451400"/>
            <a:ext cx="2484360" cy="23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3c265500eb1331c42a75be3"/>
          <p:cNvPicPr/>
          <p:nvPr/>
        </p:nvPicPr>
        <p:blipFill>
          <a:blip r:embed="rId7"/>
          <a:stretch/>
        </p:blipFill>
        <p:spPr>
          <a:xfrm>
            <a:off x="6948360" y="26028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3c265500eb1331c42a75be3"/>
          <p:cNvPicPr/>
          <p:nvPr/>
        </p:nvPicPr>
        <p:blipFill>
          <a:blip r:embed="rId8"/>
          <a:stretch/>
        </p:blipFill>
        <p:spPr>
          <a:xfrm>
            <a:off x="4859280" y="26028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3c265500eb1331c42a75be3"/>
          <p:cNvPicPr/>
          <p:nvPr/>
        </p:nvPicPr>
        <p:blipFill>
          <a:blip r:embed="rId9"/>
          <a:stretch/>
        </p:blipFill>
        <p:spPr>
          <a:xfrm>
            <a:off x="3348000" y="4435560"/>
            <a:ext cx="2519280" cy="242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3c265500eb1331c42a75be3"/>
          <p:cNvPicPr/>
          <p:nvPr/>
        </p:nvPicPr>
        <p:blipFill>
          <a:blip r:embed="rId10"/>
          <a:stretch/>
        </p:blipFill>
        <p:spPr>
          <a:xfrm>
            <a:off x="2843280" y="189000"/>
            <a:ext cx="1655640" cy="1592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2771640" y="476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曾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6588000" y="508464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摘野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348000" y="515772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掏雀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0" y="530064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逮蝈蝈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780000" y="263700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思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983280" y="54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意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11280" y="476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回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859280" y="47628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遥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692360" y="2637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浓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【开火车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268280"/>
            <a:ext cx="83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想 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曾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逮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吗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Arial"/>
              </a:rPr>
              <a:t>远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 始   </a:t>
            </a:r>
            <a:r>
              <a:rPr b="1" lang="zh-CN" sz="8000" spc="-1" strike="noStrike">
                <a:solidFill>
                  <a:srgbClr val="990099"/>
                </a:solidFill>
                <a:latin typeface="Arial"/>
              </a:rPr>
              <a:t> 浓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忆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蝈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意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 掏   </a:t>
            </a: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【形近字组词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836640"/>
            <a:ext cx="849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始 开始   意 意思   浓  浓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治 治病   竟 竟然   农  农民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想 想念   曾 曾经   忆  回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相 相识   增 增加   艺  艺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远  远方   运 运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8082008304063123"/>
          <p:cNvPicPr/>
          <p:nvPr/>
        </p:nvPicPr>
        <p:blipFill>
          <a:blip r:embed="rId1"/>
          <a:stretch/>
        </p:blipFill>
        <p:spPr>
          <a:xfrm>
            <a:off x="828720" y="117360"/>
            <a:ext cx="4751280" cy="4159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879240" y="1123920"/>
            <a:ext cx="10947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摇篮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55640" y="450864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"/>
              </a:rPr>
              <a:t>摇篮：比喻成长的生活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"/>
              </a:rPr>
              <a:t>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"/>
              </a:rPr>
              <a:t>黄河流域是我国古代文化的摇篮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【思考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268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6000" spc="-1" strike="no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是祖先的          摇篮。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763640" y="119700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原始森林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3284640"/>
            <a:ext cx="83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默读课文，想一想，原始森林是什么样子？原始森林里都有什么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10_4425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1134616675_31538979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9:47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1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