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.png" ContentType="image/png"/>
  <Override PartName="/ppt/media/image3.jpeg" ContentType="image/jpeg"/>
  <Override PartName="/ppt/media/image12.gif" ContentType="image/gif"/>
  <Override PartName="/ppt/media/chimes.wav" ContentType="audio/x-wav"/>
  <Override PartName="/ppt/media/image6.jpeg" ContentType="image/jpeg"/>
  <Override PartName="/ppt/media/image7.jpeg" ContentType="image/jpeg"/>
  <Override PartName="/ppt/media/image4.png" ContentType="image/png"/>
  <Override PartName="/ppt/media/image8.png" ContentType="image/png"/>
  <Override PartName="/ppt/media/image5.gif" ContentType="image/gif"/>
  <Override PartName="/ppt/media/image9.png" ContentType="image/png"/>
  <Override PartName="/ppt/media/type.wav" ContentType="audio/x-wav"/>
  <Override PartName="/ppt/media/image2.gif" ContentType="image/gif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B1B63-D013-462E-9945-E6D84CE579B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1C253-AD3E-4635-A178-53972FAC458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AB2F-00E1-4149-87C9-9BB1E5831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F546-A294-4ABE-8A20-D4377C22D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8F5F-E5C3-4FEC-902F-8FE6608D5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7BDE-E1B8-4C4B-9DD1-9BF217C9D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7480-CE99-42CB-804B-26CA1FE05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8217-D761-46C2-8071-BBF1340DD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F4B5-5CB8-4DB5-BF67-9DF01EC37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F87C-C1E5-4EBB-8C98-11E903A50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8326-787F-4C70-A246-200DEA931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EEC3-AF8E-4D87-9FC4-BF31EB78A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1536-F61C-4F37-980B-517620549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54FA-1ECB-435A-959C-671AAAF7B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DC7D3-52C6-442B-9F81-3068A09CAEF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.xml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琥珀1"/>
          <p:cNvPicPr/>
          <p:nvPr/>
        </p:nvPicPr>
        <p:blipFill>
          <a:blip r:embed="rId1"/>
          <a:srcRect l="12850" t="4865" r="13890" b="20554"/>
          <a:stretch/>
        </p:blipFill>
        <p:spPr>
          <a:xfrm>
            <a:off x="5010120" y="1125360"/>
            <a:ext cx="4019760" cy="5115240"/>
          </a:xfrm>
          <a:prstGeom prst="rect">
            <a:avLst/>
          </a:prstGeom>
          <a:ln w="0">
            <a:noFill/>
          </a:ln>
        </p:spPr>
      </p:pic>
      <p:sp>
        <p:nvSpPr>
          <p:cNvPr id="49" name="WordArt 3"/>
          <p:cNvSpPr txBox="1"/>
          <p:nvPr/>
        </p:nvSpPr>
        <p:spPr>
          <a:xfrm>
            <a:off x="1116000" y="907920"/>
            <a:ext cx="40384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华文彩云"/>
              </a:rPr>
              <a:t>琥珀</a:t>
            </a:r>
            <a:endParaRPr b="1" lang="en-US" sz="96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华文彩云"/>
              <a:ea typeface="华文彩云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531360" y="558972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187560" y="876240"/>
            <a:ext cx="164268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松脂球形成的条件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3276720" y="83808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.</a:t>
            </a:r>
            <a:r>
              <a:rPr b="0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松树林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2286000" y="190512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经典粗圆简"/>
                <a:ea typeface="经典粗圆简"/>
              </a:rPr>
              <a:t>    </a:t>
            </a:r>
            <a:r>
              <a:rPr b="0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.</a:t>
            </a:r>
            <a:r>
              <a:rPr b="0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夏天</a:t>
            </a:r>
            <a:r>
              <a:rPr b="0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---</a:t>
            </a:r>
            <a:r>
              <a:rPr b="0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天气炎热到松树流出松脂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2286000" y="3429000"/>
            <a:ext cx="624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经典粗圆简"/>
                <a:ea typeface="经典粗圆简"/>
              </a:rPr>
              <a:t>    </a:t>
            </a:r>
            <a:r>
              <a:rPr b="0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.</a:t>
            </a:r>
            <a:r>
              <a:rPr b="0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凑巧</a:t>
            </a:r>
            <a:r>
              <a:rPr b="0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---</a:t>
            </a:r>
            <a:r>
              <a:rPr b="0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蜘蛛和苍蝇在一起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3276720" y="5105520"/>
            <a:ext cx="487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.</a:t>
            </a:r>
            <a:r>
              <a:rPr b="0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松脂不断往下滴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琥珀的形成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152280" y="228600"/>
            <a:ext cx="8915400" cy="58140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幼圆"/>
              </a:rPr>
              <a:t>几十年，几百年，几千年，时间一转眼就过去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1" dur="3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YW00064"/>
          <p:cNvPicPr/>
          <p:nvPr/>
        </p:nvPicPr>
        <p:blipFill>
          <a:blip r:embed="rId1"/>
          <a:stretch/>
        </p:blipFill>
        <p:spPr>
          <a:xfrm>
            <a:off x="228600" y="228600"/>
            <a:ext cx="7086600" cy="63244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3"/>
          <p:cNvSpPr/>
          <p:nvPr/>
        </p:nvSpPr>
        <p:spPr>
          <a:xfrm>
            <a:off x="8173800" y="228600"/>
            <a:ext cx="729000" cy="6400800"/>
          </a:xfrm>
          <a:prstGeom prst="rect">
            <a:avLst/>
          </a:prstGeom>
          <a:noFill/>
          <a:ln w="7632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幼圆"/>
              </a:rPr>
              <a:t>又是几千年过去了，那些松脂球成了化石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0" y="-1440"/>
            <a:ext cx="9144000" cy="686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1477800" y="1009800"/>
            <a:ext cx="5686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自由读第三段，思考：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松脂球是怎样变成化石的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文本框 1"/>
          <p:cNvSpPr/>
          <p:nvPr/>
        </p:nvSpPr>
        <p:spPr>
          <a:xfrm>
            <a:off x="200160" y="5641920"/>
            <a:ext cx="735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板尽在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SUN_094"/>
          <p:cNvPicPr/>
          <p:nvPr/>
        </p:nvPicPr>
        <p:blipFill>
          <a:blip r:embed="rId1"/>
          <a:stretch/>
        </p:blipFill>
        <p:spPr>
          <a:xfrm>
            <a:off x="533520" y="838080"/>
            <a:ext cx="3276360" cy="5562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SUN_007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4"/>
          <p:cNvSpPr/>
          <p:nvPr/>
        </p:nvSpPr>
        <p:spPr>
          <a:xfrm>
            <a:off x="2247840" y="76212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cc"/>
                </a:solidFill>
                <a:latin typeface="隶书"/>
                <a:ea typeface="隶书"/>
              </a:rPr>
              <a:t>变成化石的条件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762120" y="236232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幼圆"/>
                <a:ea typeface="幼圆"/>
              </a:rPr>
              <a:t>1.</a:t>
            </a:r>
            <a:r>
              <a:rPr b="0" lang="zh-CN" sz="4000" spc="-1" strike="noStrike">
                <a:solidFill>
                  <a:srgbClr val="ff0000"/>
                </a:solidFill>
                <a:latin typeface="幼圆"/>
                <a:ea typeface="幼圆"/>
              </a:rPr>
              <a:t>时间漫长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4572000" y="2362320"/>
            <a:ext cx="350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幼圆"/>
                <a:ea typeface="幼圆"/>
              </a:rPr>
              <a:t>2.</a:t>
            </a:r>
            <a:r>
              <a:rPr b="0" lang="zh-CN" sz="4000" spc="-1" strike="noStrike">
                <a:solidFill>
                  <a:srgbClr val="ffff00"/>
                </a:solidFill>
                <a:latin typeface="幼圆"/>
                <a:ea typeface="幼圆"/>
              </a:rPr>
              <a:t>陆沉水漫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838080" y="457200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幼圆"/>
                <a:ea typeface="幼圆"/>
              </a:rPr>
              <a:t>3.</a:t>
            </a:r>
            <a:r>
              <a:rPr b="0" lang="zh-CN" sz="4000" spc="-1" strike="noStrike">
                <a:solidFill>
                  <a:srgbClr val="0000ff"/>
                </a:solidFill>
                <a:latin typeface="幼圆"/>
                <a:ea typeface="幼圆"/>
              </a:rPr>
              <a:t>松林淹没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4572000" y="457200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幼圆"/>
                <a:ea typeface="幼圆"/>
              </a:rPr>
              <a:t>4.</a:t>
            </a:r>
            <a:r>
              <a:rPr b="0" lang="zh-CN" sz="4000" spc="-1" strike="noStrike">
                <a:solidFill>
                  <a:srgbClr val="00ff00"/>
                </a:solidFill>
                <a:latin typeface="幼圆"/>
                <a:ea typeface="幼圆"/>
              </a:rPr>
              <a:t>泥沙掩埋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26662-0DD8-427A-9165-A15E5331588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609480" y="105264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琥珀是松脂球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7278840" y="1042920"/>
            <a:ext cx="158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（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×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3405960" y="1944720"/>
            <a:ext cx="118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琥珀的形成差不多要一万年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7759800" y="184788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（√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3213720" y="289548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琥珀里都要有两只虫子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7357680" y="2838600"/>
            <a:ext cx="132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×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609480" y="3962520"/>
            <a:ext cx="533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琥珀只可以作装饰品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7357680" y="3828960"/>
            <a:ext cx="132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×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3090240" y="4952880"/>
            <a:ext cx="67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海洋与琥珀的形成有关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7759800" y="497196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（√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12" descr="图片1"/>
          <p:cNvPicPr/>
          <p:nvPr/>
        </p:nvPicPr>
        <p:blipFill>
          <a:blip r:embed="rId1"/>
          <a:stretch/>
        </p:blipFill>
        <p:spPr>
          <a:xfrm>
            <a:off x="250920" y="260280"/>
            <a:ext cx="1000080" cy="7621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3"/>
          <p:cNvSpPr/>
          <p:nvPr/>
        </p:nvSpPr>
        <p:spPr>
          <a:xfrm>
            <a:off x="1332000" y="33336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黑体"/>
              </a:rPr>
              <a:t>练一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501480" y="1038240"/>
            <a:ext cx="2349720" cy="14346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这块琥珀的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隶书"/>
              </a:rPr>
              <a:t>特点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762120" y="36878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透明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762120" y="470844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内有两个小东西</a:t>
            </a:r>
            <a:r>
              <a:rPr b="1" lang="zh-CN" sz="3200" spc="-1" strike="noStrike">
                <a:solidFill>
                  <a:srgbClr val="ff66cc"/>
                </a:solidFill>
                <a:latin typeface="楷体_GB2312"/>
                <a:ea typeface="楷体_GB2312"/>
              </a:rPr>
              <a:t>（苍蝇、蜘蛛）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762120" y="56833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在它们的腿周围显出好几圈黑色的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圆环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6" descr="琥珀20"/>
          <p:cNvPicPr/>
          <p:nvPr/>
        </p:nvPicPr>
        <p:blipFill>
          <a:blip r:embed="rId1"/>
          <a:stretch/>
        </p:blipFill>
        <p:spPr>
          <a:xfrm>
            <a:off x="3200400" y="304920"/>
            <a:ext cx="5562720" cy="41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7848720" y="593640"/>
            <a:ext cx="990360" cy="46659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  <a:ea typeface="经典细空黑"/>
              </a:rPr>
              <a:t>化石的价值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380880" y="297000"/>
            <a:ext cx="746784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幼圆"/>
              </a:rPr>
              <a:t>从那块琥珀，我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幼圆"/>
              </a:rPr>
              <a:t>可以推测发生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幼圆"/>
              </a:rPr>
              <a:t>一万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幼圆"/>
              </a:rPr>
              <a:t>前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幼圆"/>
              </a:rPr>
              <a:t>故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幼圆"/>
              </a:rPr>
              <a:t>的详细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幼圆"/>
              </a:rPr>
              <a:t>形，并且可以知道，在远古时代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幼圆"/>
              </a:rPr>
              <a:t>世界上就已经有苍蝇和蜘蛛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4" descr="LEFTFLAS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458200" y="6172200"/>
            <a:ext cx="457200" cy="44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1332000" y="162864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华文行楷"/>
                <a:ea typeface="华文行楷"/>
              </a:rPr>
              <a:t>、听故事。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1187280" y="2468520"/>
            <a:ext cx="756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、说感受：这是一个（        ）的故事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11"/>
          <p:cNvSpPr/>
          <p:nvPr/>
        </p:nvSpPr>
        <p:spPr>
          <a:xfrm>
            <a:off x="3203640" y="2349360"/>
            <a:ext cx="73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684360" y="260280"/>
            <a:ext cx="7334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Times New Roman"/>
              </a:rPr>
              <a:t>学习要求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0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默读第二段，想想苍蝇和蜘蛛怎么会同时被包在一个松脂球里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738360" y="3603600"/>
            <a:ext cx="73627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826920" y="2925720"/>
            <a:ext cx="702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这是一只什么样的苍蝇，什么样的蜘蛛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828720" y="4221000"/>
            <a:ext cx="7007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为什么科学家推测苍蝇快乐，蜘蛛小心翼翼呢？这和后面的结果有什么关系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hp12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3"/>
          <p:cNvSpPr/>
          <p:nvPr/>
        </p:nvSpPr>
        <p:spPr>
          <a:xfrm>
            <a:off x="152280" y="7920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蜘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1066680" y="71604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 u="sng">
                <a:solidFill>
                  <a:srgbClr val="ff3300"/>
                </a:solidFill>
                <a:uFillTx/>
                <a:latin typeface="Times New Roman"/>
                <a:ea typeface="楷体_GB2312"/>
              </a:rPr>
              <a:t>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1828800" y="79200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扑过去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3276720" y="716040"/>
            <a:ext cx="144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 u="sng">
                <a:solidFill>
                  <a:srgbClr val="ff3300"/>
                </a:solidFill>
                <a:uFillTx/>
                <a:latin typeface="Times New Roman"/>
                <a:ea typeface="楷体_GB2312"/>
              </a:rPr>
              <a:t>突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76320" y="1859040"/>
            <a:ext cx="44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发生了一件可怕的事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152280" y="303228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一大滴松脂从树上滴下来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76320" y="4068720"/>
            <a:ext cx="144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 u="sng">
                <a:solidFill>
                  <a:srgbClr val="ff3300"/>
                </a:solidFill>
                <a:uFillTx/>
                <a:latin typeface="Times New Roman"/>
                <a:ea typeface="楷体_GB2312"/>
              </a:rPr>
              <a:t>刚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1219320" y="414504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落在树干上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152280" y="52117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把苍蝇和蜘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2590920" y="505944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 u="sng">
                <a:solidFill>
                  <a:srgbClr val="ff3300"/>
                </a:solidFill>
                <a:uFillTx/>
                <a:latin typeface="Times New Roman"/>
                <a:ea typeface="楷体_GB2312"/>
              </a:rPr>
              <a:t>一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3"/>
          <p:cNvSpPr/>
          <p:nvPr/>
        </p:nvSpPr>
        <p:spPr>
          <a:xfrm>
            <a:off x="3657600" y="52117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包在里头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-34920" y="-25560"/>
            <a:ext cx="9178920" cy="6883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1122480" y="1287360"/>
            <a:ext cx="7122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齐读第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到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然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思考：要形成这个奇特的松脂球必须具备什么条件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琥珀的形成2"/>
          <p:cNvPicPr/>
          <p:nvPr/>
        </p:nvPicPr>
        <p:blipFill>
          <a:blip r:embed="rId1"/>
          <a:stretch/>
        </p:blipFill>
        <p:spPr>
          <a:xfrm>
            <a:off x="0" y="0"/>
            <a:ext cx="9144000" cy="50292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3"/>
          <p:cNvSpPr/>
          <p:nvPr/>
        </p:nvSpPr>
        <p:spPr>
          <a:xfrm>
            <a:off x="76320" y="5286240"/>
            <a:ext cx="8991360" cy="64260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松脂继续滴下来，盖住了原来的，最后积成一个松脂球，把两只小虫重重包裹在里面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7T13:45:01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58:30Z</dcterms:modified>
  <cp:revision>3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