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888-75A8-4421-9FEC-4893603835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E7F4-F006-42B9-A099-917BF1FA27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24732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4732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4" descr="手.png"/>
          <p:cNvPicPr/>
          <p:nvPr/>
        </p:nvPicPr>
        <p:blipFill>
          <a:blip r:embed="rId2"/>
          <a:stretch/>
        </p:blipFill>
        <p:spPr>
          <a:xfrm>
            <a:off x="8358120" y="642960"/>
            <a:ext cx="2766960" cy="20350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2" descr="11.png"/>
          <p:cNvPicPr/>
          <p:nvPr/>
        </p:nvPicPr>
        <p:blipFill>
          <a:blip r:embed="rId3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0" descr="5.png"/>
          <p:cNvPicPr/>
          <p:nvPr/>
        </p:nvPicPr>
        <p:blipFill>
          <a:blip r:embed="rId4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4.png"/>
          <p:cNvPicPr/>
          <p:nvPr/>
        </p:nvPicPr>
        <p:blipFill>
          <a:blip r:embed="rId5"/>
          <a:stretch/>
        </p:blipFill>
        <p:spPr>
          <a:xfrm>
            <a:off x="396720" y="11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3.png"/>
          <p:cNvPicPr/>
          <p:nvPr/>
        </p:nvPicPr>
        <p:blipFill>
          <a:blip r:embed="rId6"/>
          <a:stretch/>
        </p:blipFill>
        <p:spPr>
          <a:xfrm>
            <a:off x="127080" y="127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6" descr="2-2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5" descr="2-1.png"/>
          <p:cNvPicPr/>
          <p:nvPr/>
        </p:nvPicPr>
        <p:blipFill>
          <a:blip r:embed="rId8"/>
          <a:stretch/>
        </p:blipFill>
        <p:spPr>
          <a:xfrm>
            <a:off x="-33480" y="-23760"/>
            <a:ext cx="9139320" cy="6854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框.pn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" descr=""/>
          <p:cNvPicPr/>
          <p:nvPr/>
        </p:nvPicPr>
        <p:blipFill>
          <a:blip r:embed="rId1"/>
          <a:srcRect l="0" t="-49" r="-34" b="0"/>
          <a:stretch/>
        </p:blipFill>
        <p:spPr>
          <a:xfrm>
            <a:off x="1123920" y="3068640"/>
            <a:ext cx="4208400" cy="2940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684360" y="990000"/>
            <a:ext cx="77724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蒹 葭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865440" y="60976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692360" y="191628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想象诗的画意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189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试用这样的一句话来描绘诗中优美的画面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6920" y="170028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读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句，我仿佛看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了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__________,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让我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55640" y="335772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：读“蒹葭苍苍，白露为霜”一句，我仿佛看到了萧瑟的秋风中苇丛起伏，芦花白茫茫一片，让我感受到清冷的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50920" y="24199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首诗抒发了诗人什么情感？大家是怎么体会到这种情感的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866960" y="371628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思念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457360" y="458136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执著、坚贞不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66360" y="544500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可望而不可即的惆怅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1258920" y="18900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细读：感受诗人的情感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822680" y="259200"/>
            <a:ext cx="384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想象</a:t>
            </a: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伊人</a:t>
            </a: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华文行楷"/>
              </a:rPr>
              <a:t>”</a:t>
            </a: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的形象</a:t>
            </a: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2211840"/>
            <a:ext cx="9002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苦苦追寻的“伊人”是怎样的一个形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755640" y="2574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追寻的路上，我们热烈地期盼和追寻这美好，也许追求的前路不能实现，但路上的风景我们的希望足以温暖我们无悔的青春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ine tree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Zi"/>
          <p:cNvPicPr/>
          <p:nvPr/>
        </p:nvPicPr>
        <p:blipFill>
          <a:blip r:embed="rId2"/>
          <a:stretch/>
        </p:blipFill>
        <p:spPr>
          <a:xfrm>
            <a:off x="6588000" y="476280"/>
            <a:ext cx="1262160" cy="142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0" y="54936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比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有什么不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、内容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重于叙事，从诗中可以看到小伙子从爱上淑女到追求她，追求不到又在幻想中得到她这样一条线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中却没有明确的故事，三章反复咏叹，突出主人公追寻之路的艰险与漫长，渲染主人公感情的绵长持久，表现出主人公不能走近伊人，又永远点亮希望的情感状态。情感韵味更浓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ine tree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14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-360" y="836640"/>
            <a:ext cx="876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表现手法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特点更加突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蒹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形象交相辉映，浑然一体，用做起兴的事物与所要描绘的对象形成一个完整的艺术世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含蓄美体现在以下几个方面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文字简约。通过简约的文字将主人公那痴迷执着的形象含蓄地表现出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形象朦胧。虽然主人公的执着和追慕对象的高洁的形象令人深刻，但在外貌等方面却显得朦胧让人遐想无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余音绕梁。诗只写寻求之难，伊人“宛在”，便戛然而止，结果如何，给读者留下了想象的余地。这就是所谓“含不尽之意于言外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  <a:ea typeface="楷体_GB2312"/>
              </a:rPr>
              <a:t>总结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60360" y="184464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音乐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0516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建筑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26036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含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76720" y="23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章叠句、一唱三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987640" y="33577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字简约、形象朦胧、余音绕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诗经简介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341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我国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最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一部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诗歌总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它收集了从西周初年到春秋中叶大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年间的诗歌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0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。本只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或举其整数城“诗三百”。后被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列为经典之一，故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8360" y="4292640"/>
            <a:ext cx="809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雅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95280" y="5300640"/>
            <a:ext cx="842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基本表现手法为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赋、比   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533520" y="907920"/>
            <a:ext cx="2995560" cy="916920"/>
            <a:chOff x="533520" y="907920"/>
            <a:chExt cx="2995560" cy="916920"/>
          </a:xfrm>
        </p:grpSpPr>
        <p:sp>
          <p:nvSpPr>
            <p:cNvPr id="96" name="Rectangle 3"/>
            <p:cNvSpPr/>
            <p:nvPr/>
          </p:nvSpPr>
          <p:spPr>
            <a:xfrm>
              <a:off x="590760" y="907920"/>
              <a:ext cx="293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朗读课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533520" y="907920"/>
              <a:ext cx="293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66"/>
                  </a:solidFill>
                  <a:latin typeface="Arial"/>
                  <a:ea typeface="华文行楷"/>
                </a:rPr>
                <a:t>朗读课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6"/>
          <p:cNvSpPr txBox="1"/>
          <p:nvPr/>
        </p:nvSpPr>
        <p:spPr>
          <a:xfrm>
            <a:off x="1568520" y="3213000"/>
            <a:ext cx="576252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黑体"/>
              </a:rPr>
              <a:t>初读：感受诗的音韵美</a:t>
            </a:r>
            <a:endParaRPr b="1" lang="en-US" sz="1800" spc="1" strike="noStrike">
              <a:ln w="9360">
                <a:solidFill>
                  <a:srgbClr val="333333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5920"/>
            <a:ext cx="85406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诗经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的“风”“雅”“颂”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19700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风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有十五国风，共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为各国当地的土风民谣。风格清新质朴，民歌情调浓厚，多出自下层人民之手。（“风”和屈原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离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并称为“风骚”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是周朝直接统治地区的音乐。分为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大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和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小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，大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主要用于统治者的朝会宴享，以歌功颂德为主；小雅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多为贵族所作，表现当时知识分子的生活和思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是统治者用于宗庙祭祀的舞乐，包括周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、鲁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、商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内容以颂扬为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02600"/>
            <a:ext cx="854064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Calibri"/>
              </a:rPr>
              <a:t>《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</a:rPr>
              <a:t>诗经</a:t>
            </a:r>
            <a:r>
              <a:rPr b="1" lang="en-US" sz="4800" spc="-1" strike="noStrike">
                <a:solidFill>
                  <a:srgbClr val="c0504d"/>
                </a:solidFill>
                <a:latin typeface="Calibri"/>
              </a:rPr>
              <a:t>》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</a:rPr>
              <a:t>的“赋”“比”“兴”</a:t>
            </a:r>
            <a:br>
              <a:rPr sz="4800"/>
            </a:br>
            <a:endParaRPr b="0" lang="en-US" sz="48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268280"/>
            <a:ext cx="9074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就是陈述铺叙，使诗歌显得整齐匀称，有气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就是比方，以彼物比此物，诗人借一个事物来比喻另一个事物或情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即由此物引起他物，先言他物以引起所咏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比 、兴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首创的修辞形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2"/>
          <p:cNvSpPr/>
          <p:nvPr/>
        </p:nvSpPr>
        <p:spPr>
          <a:xfrm>
            <a:off x="2786040" y="23446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2556000" y="2637000"/>
            <a:ext cx="2520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7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1081080" y="56358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55160"/>
            <a:ext cx="8207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b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363B-6B49-4A3D-9343-434AA13FF0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42920" y="1844640"/>
            <a:ext cx="7777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蒹葭苍苍       所谓伊人       溯 洄从之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蒹葭萋萋        白露未晞        在水之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道阻且跻    水中坻   水之涘  水中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949320" y="19177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jiān  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119480" y="1844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yī r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59240" y="184464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sù  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820880" y="3068640"/>
            <a:ext cx="15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qīq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45280" y="306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886520" y="31417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680200" y="4365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069080" y="43657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c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158160" y="4365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649280" y="443700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Calibri"/>
              </a:rPr>
              <a:t>注意读音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342800" y="117000"/>
            <a:ext cx="34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三节诗有什么特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668040" y="1124640"/>
            <a:ext cx="514080" cy="717840"/>
            <a:chOff x="3668040" y="1124640"/>
            <a:chExt cx="514080" cy="717840"/>
          </a:xfrm>
        </p:grpSpPr>
        <p:sp>
          <p:nvSpPr>
            <p:cNvPr id="113" name="Rectangle 4"/>
            <p:cNvSpPr/>
            <p:nvPr/>
          </p:nvSpPr>
          <p:spPr>
            <a:xfrm>
              <a:off x="3696480" y="112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668040" y="1139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6"/>
          <p:cNvSpPr/>
          <p:nvPr/>
        </p:nvSpPr>
        <p:spPr>
          <a:xfrm>
            <a:off x="4867200" y="592272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97640" y="198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韵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4920" y="270828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、霜、方、长、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萋、晞、湄、跻、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、已、涘、右、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777640" y="198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叠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67280" y="2708280"/>
            <a:ext cx="482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苍、萋萋、采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“所谓伊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溯洄从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溯游从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95280" y="2492280"/>
            <a:ext cx="85708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诗人用了不同的字眼，对景物的形态和变化，反复进行了描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形态  不同时间  不同地点  路途艰难  伊人所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苍       为霜          一方       且长        水中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凄凄       未睎         之湄        且跻        水中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采       未已         之涘        且右        水中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重章叠句、一唱三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2216160" y="1125360"/>
            <a:ext cx="1139040" cy="717840"/>
            <a:chOff x="2216160" y="1125360"/>
            <a:chExt cx="1139040" cy="717840"/>
          </a:xfrm>
        </p:grpSpPr>
        <p:sp>
          <p:nvSpPr>
            <p:cNvPr id="122" name="Rectangle 13"/>
            <p:cNvSpPr/>
            <p:nvPr/>
          </p:nvSpPr>
          <p:spPr>
            <a:xfrm>
              <a:off x="2260080" y="11253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音乐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2216160" y="11397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音乐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4284720" y="1125360"/>
            <a:ext cx="1755720" cy="731880"/>
            <a:chOff x="4284720" y="1125360"/>
            <a:chExt cx="1755720" cy="731880"/>
          </a:xfrm>
        </p:grpSpPr>
        <p:sp>
          <p:nvSpPr>
            <p:cNvPr id="125" name="Rectangle 16"/>
            <p:cNvSpPr/>
            <p:nvPr/>
          </p:nvSpPr>
          <p:spPr>
            <a:xfrm>
              <a:off x="4327560" y="1125360"/>
              <a:ext cx="17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建筑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284720" y="1153800"/>
              <a:ext cx="17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建筑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069200" y="907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227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诗四字一句，节奏鲜明而短促，重章叠句、回环复沓，产生了一唱三叹，余音绕梁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5"/>
          <p:cNvSpPr txBox="1"/>
          <p:nvPr/>
        </p:nvSpPr>
        <p:spPr>
          <a:xfrm>
            <a:off x="1332000" y="1916280"/>
            <a:ext cx="604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译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感知诗歌的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980640"/>
            <a:ext cx="324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所谓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伊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溯洄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从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溯游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从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道阻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且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宛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在水中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白露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未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水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道阻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宛在水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967200" y="111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说的，也指所怀念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74112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逆流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84040" y="212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顺流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059720" y="2703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艰险，指道路难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049640" y="32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好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059000" y="392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851280" y="45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岸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899520" y="51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957120" y="579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中高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640"/>
            <a:ext cx="433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蒹葭采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白露未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在水之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道阻且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宛在水中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42000" y="17733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芦花白灿灿的样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茂盛，众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904920" y="23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83364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20240" y="356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道路迂回曲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853440" y="4359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中的小块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260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试一试，相信你也能用优美的语言来译读余下的两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79640" y="1989000"/>
            <a:ext cx="547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芦苇初出青翠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晨露水变成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伊人呀，你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逆流而上去寻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路艰难又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顺流而下去寻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仿佛在那水中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4:07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2:00:54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