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0.jpeg" ContentType="image/jpeg"/>
  <Override PartName="/ppt/media/type.wav" ContentType="audio/x-wav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7559-D0E0-4EB0-BA7F-E1A9B05BF6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1A63-AE68-4A86-961F-6DAE8B0A45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F4A-748D-4F34-B6D4-9DF5BB10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644-C5AC-4C19-825E-CBFB188A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D90-ADFC-451A-8360-4AF49A5E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997-DF7B-4C36-B630-015FD96E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72C-D7A5-423C-8943-98AE94BE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87B-50AB-45DF-9F1D-9CDEBEE9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E6B-6D92-472C-AABD-EF0D76AC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D1C-266E-405A-8E90-BE57A33D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7DC-D841-423D-BCA8-2DDFECE6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6C0-3266-4DFA-A20E-0BDFE715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ABE-17B7-43C5-8EC1-45EB073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4DF-E8D8-4ABA-9E10-10827DF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0080-F7ED-4011-9B2C-2FC8505C7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琥珀1"/>
          <p:cNvPicPr/>
          <p:nvPr/>
        </p:nvPicPr>
        <p:blipFill>
          <a:blip r:embed="rId1"/>
          <a:srcRect l="0" t="0" r="0" b="18364"/>
          <a:stretch/>
        </p:blipFill>
        <p:spPr>
          <a:xfrm>
            <a:off x="4305240" y="878040"/>
            <a:ext cx="4838760" cy="518292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1106640" y="1413000"/>
            <a:ext cx="40384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彩云"/>
              </a:rPr>
              <a:t>琥珀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865440" y="5661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琥珀的形成2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76320" y="5286240"/>
            <a:ext cx="8991360" cy="642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松脂继续滴下来，盖住了原来的，最后积成一个松脂球，把两只小虫重重包裹在里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47840" y="762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文鼎霹雳体"/>
                <a:ea typeface="文鼎霹雳体"/>
              </a:rPr>
              <a:t>变成化石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23623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文鼎霹雳体"/>
                <a:ea typeface="文鼎霹雳体"/>
              </a:rPr>
              <a:t>1</a:t>
            </a:r>
            <a:r>
              <a:rPr b="0" lang="zh-CN" sz="4000" spc="-1" strike="noStrike">
                <a:solidFill>
                  <a:srgbClr val="ff0066"/>
                </a:solidFill>
                <a:latin typeface="文鼎霹雳体"/>
                <a:ea typeface="文鼎霹雳体"/>
              </a:rPr>
              <a:t>、时间漫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479840" y="23623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文鼎霹雳体"/>
                <a:ea typeface="文鼎霹雳体"/>
              </a:rPr>
              <a:t>2</a:t>
            </a:r>
            <a:r>
              <a:rPr b="0" lang="zh-CN" sz="4000" spc="-1" strike="noStrike">
                <a:solidFill>
                  <a:srgbClr val="cc9900"/>
                </a:solidFill>
                <a:latin typeface="文鼎霹雳体"/>
                <a:ea typeface="文鼎霹雳体"/>
              </a:rPr>
              <a:t>、陆沉水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38080" y="4572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文鼎霹雳体"/>
                <a:ea typeface="文鼎霹雳体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文鼎霹雳体"/>
                <a:ea typeface="文鼎霹雳体"/>
              </a:rPr>
              <a:t>、松树腐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0" y="4572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文鼎霹雳体"/>
                <a:ea typeface="文鼎霹雳体"/>
              </a:rPr>
              <a:t>4</a:t>
            </a:r>
            <a:r>
              <a:rPr b="0" lang="zh-CN" sz="4000" spc="-1" strike="noStrike">
                <a:solidFill>
                  <a:srgbClr val="00ff00"/>
                </a:solidFill>
                <a:latin typeface="文鼎霹雳体"/>
                <a:ea typeface="文鼎霹雳体"/>
              </a:rPr>
              <a:t>、泥沙掩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6">
            <a:hlinkClick r:id="" action="ppaction://hlinkshowjump?jump=lastslide"/>
          </p:cNvPr>
          <p:cNvSpPr/>
          <p:nvPr/>
        </p:nvSpPr>
        <p:spPr>
          <a:xfrm>
            <a:off x="7956720" y="602136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琥珀的形成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85680" y="757080"/>
            <a:ext cx="9244080" cy="5814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经典隶书简"/>
              </a:rPr>
              <a:t>几十年，几百年，几千年，时间一转眼就过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YW00064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8173800" y="228600"/>
            <a:ext cx="729000" cy="640080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又是几千年过去了，那些松脂球成了化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>
            <a:hlinkClick r:id="rId2" action="ppaction://hlinksldjump"/>
          </p:cNvPr>
          <p:cNvSpPr/>
          <p:nvPr/>
        </p:nvSpPr>
        <p:spPr>
          <a:xfrm>
            <a:off x="6588000" y="580536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10800"/>
                </a:moveTo>
                <a:lnTo>
                  <a:pt x="19632" y="3794"/>
                </a:lnTo>
                <a:lnTo>
                  <a:pt x="1963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48720" y="593640"/>
            <a:ext cx="990360" cy="4665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经典细空黑"/>
              </a:rPr>
              <a:t>化石的价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00000" y="1771560"/>
            <a:ext cx="67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淹水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淹水体"/>
              </a:rPr>
              <a:t>从那块琥珀，我们可以推测发生在一万年前的故事的详细情形，并且可以知道，在远古时代，世界上就已经有苍蝇和蜘蛛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endshow"/>
          </p:cNvPr>
          <p:cNvSpPr/>
          <p:nvPr/>
        </p:nvSpPr>
        <p:spPr>
          <a:xfrm>
            <a:off x="838188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101520" y="5273640"/>
            <a:ext cx="66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A1ED-E16F-464A-8C36-72AD98D46E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7621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00000" y="968400"/>
            <a:ext cx="39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经典隶书简"/>
              </a:rPr>
              <a:t>琥珀：琥珀是地质时代植物树脂经过石化的产物，是几千万年以前的松树脂化石，是一种保存完整的实体生物化石。色由微黄到微褐色，半透明，主要用作装饰品，可作中药。琥珀，珍珠和珊瑚为三大有机宝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00000" y="39337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5105520" y="3062160"/>
            <a:ext cx="335268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>
                    <a:alpha val="50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琥珀简介</a:t>
            </a:r>
            <a:endParaRPr b="1" lang="en-US" sz="4000" spc="1" strike="noStrike">
              <a:ln w="12600">
                <a:solidFill>
                  <a:srgbClr val="0000ff"/>
                </a:solidFill>
                <a:round/>
              </a:ln>
              <a:solidFill>
                <a:srgbClr val="ff00ff">
                  <a:alpha val="50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" name="Picture 11" descr="琥珀14"/>
          <p:cNvPicPr/>
          <p:nvPr/>
        </p:nvPicPr>
        <p:blipFill>
          <a:blip r:embed="rId1"/>
          <a:stretch/>
        </p:blipFill>
        <p:spPr>
          <a:xfrm>
            <a:off x="5067360" y="73656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琥珀15"/>
          <p:cNvPicPr/>
          <p:nvPr/>
        </p:nvPicPr>
        <p:blipFill>
          <a:blip r:embed="rId2"/>
          <a:stretch/>
        </p:blipFill>
        <p:spPr>
          <a:xfrm>
            <a:off x="5067360" y="4264200"/>
            <a:ext cx="3467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昆虫琥珀化石9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琥珀1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琥珀16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琥珀13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429000" y="237636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琥 珀欣 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琥珀19"/>
          <p:cNvPicPr/>
          <p:nvPr/>
        </p:nvPicPr>
        <p:blipFill>
          <a:blip r:embed="rId1"/>
          <a:stretch/>
        </p:blipFill>
        <p:spPr>
          <a:xfrm>
            <a:off x="0" y="-19080"/>
            <a:ext cx="4572000" cy="3448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昆虫琥珀化石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昆虫琥珀化石2"/>
          <p:cNvPicPr/>
          <p:nvPr/>
        </p:nvPicPr>
        <p:blipFill>
          <a:blip r:embed="rId3"/>
          <a:stretch/>
        </p:blipFill>
        <p:spPr>
          <a:xfrm>
            <a:off x="0" y="3403440"/>
            <a:ext cx="4572000" cy="345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昆虫琥珀化石3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3"/>
          <p:cNvSpPr/>
          <p:nvPr/>
        </p:nvSpPr>
        <p:spPr>
          <a:xfrm>
            <a:off x="3429000" y="237636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琥 珀欣 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琥珀饰品1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琥珀饰品2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琥珀饰品4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琥珀饰品3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2743200" y="237636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琥珀饰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7"/>
          <p:cNvSpPr/>
          <p:nvPr/>
        </p:nvSpPr>
        <p:spPr>
          <a:xfrm>
            <a:off x="684360" y="907920"/>
            <a:ext cx="7991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琥珀  苍蝇  松脂  拂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渗出  澎湃  黏稠 推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掸翅膀 热辣辣 嗡嗡 沾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晌午 包裹 前俯后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819520" y="45720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课文结构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3520" y="1905120"/>
            <a:ext cx="20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3520" y="2986200"/>
            <a:ext cx="20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33520" y="4114800"/>
            <a:ext cx="20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三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525780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62120" y="2376360"/>
            <a:ext cx="12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" y="351936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2—12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80880" y="4662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3—15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85800" y="580536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6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286000" y="1905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事发生的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286000" y="4114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琥珀的发现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286000" y="2986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琥珀的形成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286000" y="5272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琥珀的科学价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5181480" y="2209680"/>
            <a:ext cx="2819520" cy="2044800"/>
            <a:chOff x="5181480" y="2209680"/>
            <a:chExt cx="2819520" cy="2044800"/>
          </a:xfrm>
        </p:grpSpPr>
        <p:sp>
          <p:nvSpPr>
            <p:cNvPr id="88" name="Text Box 22"/>
            <p:cNvSpPr/>
            <p:nvPr/>
          </p:nvSpPr>
          <p:spPr>
            <a:xfrm>
              <a:off x="5943600" y="2209680"/>
              <a:ext cx="2057400" cy="825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松脂球的形成</a:t>
              </a: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</a:rPr>
                <a:t>                  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2—9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3"/>
            <p:cNvSpPr/>
            <p:nvPr/>
          </p:nvSpPr>
          <p:spPr>
            <a:xfrm>
              <a:off x="5943600" y="3429000"/>
              <a:ext cx="2057400" cy="825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琥珀的形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1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—</a:t>
              </a:r>
              <a:r>
                <a:rPr b="1" lang="en-US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12</a:t>
              </a:r>
              <a:r>
                <a:rPr b="1" lang="zh-CN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5181480" y="2590560"/>
              <a:ext cx="685800" cy="685800"/>
            </a:xfrm>
            <a:prstGeom prst="line">
              <a:avLst/>
            </a:prstGeom>
            <a:ln w="1908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5181480" y="3276720"/>
              <a:ext cx="685800" cy="685800"/>
            </a:xfrm>
            <a:prstGeom prst="line">
              <a:avLst/>
            </a:prstGeom>
            <a:ln w="1908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438120" y="765000"/>
            <a:ext cx="2478240" cy="2044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文鼎ＰＯＰ－４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文鼎ＰＯＰ－４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文鼎ＰＯＰ－４"/>
              </a:rPr>
              <a:t>自然段找找这块琥珀的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文鼎ＰＯＰ－４"/>
              </a:rPr>
              <a:t>特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文鼎ＰＯＰ－４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62120" y="368784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经典隶书简"/>
                <a:ea typeface="经典隶书简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经典隶书简"/>
                <a:ea typeface="经典隶书简"/>
              </a:rPr>
              <a:t>、透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62120" y="4708440"/>
            <a:ext cx="73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经典隶书简"/>
                <a:ea typeface="经典隶书简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经典隶书简"/>
                <a:ea typeface="经典隶书简"/>
              </a:rPr>
              <a:t>、内有两个小东西</a:t>
            </a:r>
            <a:r>
              <a:rPr b="1" lang="zh-CN" sz="32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（苍蝇、蜘蛛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62120" y="56833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经典隶书简"/>
                <a:ea typeface="经典隶书简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经典隶书简"/>
                <a:ea typeface="经典隶书简"/>
              </a:rPr>
              <a:t>、在它们的腿周围显出好几圈黑色的</a:t>
            </a:r>
            <a:r>
              <a:rPr b="1" lang="zh-CN" sz="3200" spc="-1" strike="noStrike">
                <a:solidFill>
                  <a:srgbClr val="000000"/>
                </a:solidFill>
                <a:latin typeface="经典隶书简"/>
                <a:ea typeface="经典隶书简"/>
              </a:rPr>
              <a:t>圆环</a:t>
            </a:r>
            <a:r>
              <a:rPr b="1" lang="zh-CN" sz="3200" spc="-1" strike="noStrike">
                <a:solidFill>
                  <a:srgbClr val="ff3300"/>
                </a:solidFill>
                <a:latin typeface="经典隶书简"/>
                <a:ea typeface="经典隶书简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琥珀20"/>
          <p:cNvPicPr/>
          <p:nvPr/>
        </p:nvPicPr>
        <p:blipFill>
          <a:blip r:embed="rId1"/>
          <a:stretch/>
        </p:blipFill>
        <p:spPr>
          <a:xfrm>
            <a:off x="320040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87560" y="876240"/>
            <a:ext cx="1642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松脂球形成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276720" y="83808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、松树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0" y="19051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    </a:t>
            </a:r>
            <a:r>
              <a:rPr b="1" lang="en-US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、夏天</a:t>
            </a:r>
            <a:r>
              <a:rPr b="1" lang="en-US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----</a:t>
            </a:r>
            <a:r>
              <a:rPr b="1" lang="zh-CN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老松树渗出厚厚的松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0" y="34290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    </a:t>
            </a:r>
            <a:r>
              <a:rPr b="1" lang="en-US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、凑巧</a:t>
            </a:r>
            <a:r>
              <a:rPr b="1" lang="en-US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----</a:t>
            </a:r>
            <a:r>
              <a:rPr b="1" lang="zh-CN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蜘蛛和苍蝇在一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276720" y="5105520"/>
            <a:ext cx="53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松脂不断往下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5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25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