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19.jpeg" ContentType="image/jpeg"/>
  <Override PartName="/ppt/media/type.wav" ContentType="audio/x-wav"/>
  <Override PartName="/ppt/media/image20.jpeg" ContentType="image/jpeg"/>
  <Override PartName="/ppt/media/image15.jpeg" ContentType="image/jpeg"/>
  <Override PartName="/ppt/media/image21.png" ContentType="image/png"/>
  <Override PartName="/ppt/media/image13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1.gif" ContentType="image/gif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F925-3D98-4277-8D28-02DBBB90F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E24F-FAAC-4771-8FFB-2CA053B12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4F8B-3BF7-4445-9F0E-1228FDD3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页眉占位符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10_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课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U1_Reading2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48C66-BBF1-4C43-96FD-39C10F616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C630-CF2E-4AA0-A2E1-EF6651AA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F024-6D6B-49CC-964D-513A3959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B92-BCD4-440B-9C32-84DC918D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86B-89C3-493A-BBE8-B8EBE01F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EE3E-1F91-4221-B4BB-2F48A900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293-E1C7-473A-AE55-E1337ADF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AFED-FA2A-4EE6-BDD5-E1431282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1787-DFAE-4849-BB31-1D507E6B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464-B077-48D6-95B2-E0423A3E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B1F-750C-435A-8ADD-D500951B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01E-27F2-4196-97CF-C54B383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2FE-6A3B-42A0-96E3-35C2B345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3F58-523D-4FEE-ACEA-794B83761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1"/>
          <p:cNvSpPr/>
          <p:nvPr/>
        </p:nvSpPr>
        <p:spPr>
          <a:xfrm>
            <a:off x="2062080" y="1495440"/>
            <a:ext cx="46846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cc99"/>
                </a:solidFill>
                <a:latin typeface="华文中宋"/>
                <a:ea typeface="华文中宋"/>
              </a:rPr>
              <a:t>琥  珀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467280" y="60336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54328127417"/>
          <p:cNvPicPr/>
          <p:nvPr/>
        </p:nvPicPr>
        <p:blipFill>
          <a:blip r:embed="rId1"/>
          <a:stretch/>
        </p:blipFill>
        <p:spPr>
          <a:xfrm>
            <a:off x="7196040" y="603360"/>
            <a:ext cx="1293840" cy="1174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琥珀16"/>
          <p:cNvPicPr/>
          <p:nvPr/>
        </p:nvPicPr>
        <p:blipFill>
          <a:blip r:embed="rId2"/>
          <a:stretch/>
        </p:blipFill>
        <p:spPr>
          <a:xfrm>
            <a:off x="2119320" y="3270240"/>
            <a:ext cx="4572000" cy="3019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966960" y="539640"/>
            <a:ext cx="68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楷体_GB2312"/>
              </a:rPr>
              <a:t>冀教版小学</a:t>
            </a: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语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矩形 10"/>
          <p:cNvSpPr/>
          <p:nvPr/>
        </p:nvSpPr>
        <p:spPr>
          <a:xfrm>
            <a:off x="1679400" y="605484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819520" y="45720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课文结构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73120" y="19162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33520" y="2986200"/>
            <a:ext cx="21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533520" y="4114800"/>
            <a:ext cx="216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三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533520" y="5257800"/>
            <a:ext cx="22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部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762120" y="2376360"/>
            <a:ext cx="12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57200" y="3519360"/>
            <a:ext cx="21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2-12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80880" y="4662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3-15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85800" y="580536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16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"/>
          <p:cNvSpPr/>
          <p:nvPr/>
        </p:nvSpPr>
        <p:spPr>
          <a:xfrm>
            <a:off x="2286000" y="1905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故事发生的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4"/>
          <p:cNvSpPr/>
          <p:nvPr/>
        </p:nvSpPr>
        <p:spPr>
          <a:xfrm>
            <a:off x="2286000" y="4114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琥珀的发现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2286000" y="29862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琥珀的形成过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2286000" y="5272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琥珀的科学价值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26"/>
          <p:cNvGrpSpPr/>
          <p:nvPr/>
        </p:nvGrpSpPr>
        <p:grpSpPr>
          <a:xfrm>
            <a:off x="5181480" y="2209680"/>
            <a:ext cx="2819520" cy="2044800"/>
            <a:chOff x="5181480" y="2209680"/>
            <a:chExt cx="2819520" cy="2044800"/>
          </a:xfrm>
        </p:grpSpPr>
        <p:sp>
          <p:nvSpPr>
            <p:cNvPr id="97" name="Text Box 22"/>
            <p:cNvSpPr/>
            <p:nvPr/>
          </p:nvSpPr>
          <p:spPr>
            <a:xfrm>
              <a:off x="5943600" y="2209680"/>
              <a:ext cx="2057400" cy="825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松脂球的形成</a:t>
              </a:r>
              <a:r>
                <a:rPr b="0" lang="zh-CN" sz="2400" spc="-1" strike="noStrike">
                  <a:solidFill>
                    <a:srgbClr val="ff0066"/>
                  </a:solidFill>
                  <a:latin typeface="Times New Roman"/>
                </a:rPr>
                <a:t>                  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2-9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23"/>
            <p:cNvSpPr/>
            <p:nvPr/>
          </p:nvSpPr>
          <p:spPr>
            <a:xfrm>
              <a:off x="5943600" y="3429000"/>
              <a:ext cx="2057400" cy="8254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琥珀的形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10-12</a:t>
              </a:r>
              <a:r>
                <a:rPr b="1" lang="zh-CN" sz="2400" spc="-1" strike="noStrike">
                  <a:solidFill>
                    <a:srgbClr val="ff0066"/>
                  </a:solidFill>
                  <a:latin typeface="楷体_GB2312"/>
                  <a:ea typeface="楷体_GB2312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24"/>
            <p:cNvSpPr/>
            <p:nvPr/>
          </p:nvSpPr>
          <p:spPr>
            <a:xfrm flipV="1">
              <a:off x="5181480" y="2590560"/>
              <a:ext cx="685800" cy="685800"/>
            </a:xfrm>
            <a:prstGeom prst="line">
              <a:avLst/>
            </a:prstGeom>
            <a:ln w="1908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25"/>
            <p:cNvSpPr/>
            <p:nvPr/>
          </p:nvSpPr>
          <p:spPr>
            <a:xfrm>
              <a:off x="5181480" y="3276720"/>
              <a:ext cx="685800" cy="685800"/>
            </a:xfrm>
            <a:prstGeom prst="line">
              <a:avLst/>
            </a:prstGeom>
            <a:ln w="19080">
              <a:solidFill>
                <a:srgbClr val="00cc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838080" y="914400"/>
            <a:ext cx="1828800" cy="137376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这块琥珀的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特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62120" y="36878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透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62120" y="470844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内有两个小东西</a:t>
            </a:r>
            <a:r>
              <a:rPr b="1" lang="zh-CN" sz="3200" spc="-1" strike="noStrike">
                <a:solidFill>
                  <a:srgbClr val="ff66cc"/>
                </a:solidFill>
                <a:latin typeface="楷体_GB2312"/>
                <a:ea typeface="楷体_GB2312"/>
              </a:rPr>
              <a:t>（苍蝇、蜘蛛）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62120" y="5683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它们的腿周围显出好几圈黑色的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环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0" descr="琥珀20"/>
          <p:cNvPicPr/>
          <p:nvPr/>
        </p:nvPicPr>
        <p:blipFill>
          <a:blip r:embed="rId1"/>
          <a:stretch/>
        </p:blipFill>
        <p:spPr>
          <a:xfrm>
            <a:off x="3200400" y="304920"/>
            <a:ext cx="556272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1692360" y="1484280"/>
            <a:ext cx="5472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么作者想象的依据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要形成这样的琥珀必须具备哪些条件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hp12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52280" y="792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蜘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7160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828800" y="79200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扑过去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276720" y="71604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突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6320" y="1859040"/>
            <a:ext cx="50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发生了一件可怕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52280" y="3032280"/>
            <a:ext cx="52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一大滴松脂从树上滴下来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76320" y="40687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刚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219320" y="4145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落在树干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152280" y="52117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把苍蝇和蜘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2590920" y="50594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一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3657600" y="5211720"/>
            <a:ext cx="25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包在里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436680" y="6283440"/>
            <a:ext cx="79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26" descr="琥珀的形成2"/>
          <p:cNvPicPr/>
          <p:nvPr/>
        </p:nvPicPr>
        <p:blipFill>
          <a:blip r:embed="rId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27"/>
          <p:cNvSpPr/>
          <p:nvPr/>
        </p:nvSpPr>
        <p:spPr>
          <a:xfrm>
            <a:off x="76320" y="5286240"/>
            <a:ext cx="8991360" cy="6426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松脂继续滴下来，盖住了原来的，最后积成一个松脂球，把两只小虫重重包裹在里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87560" y="876240"/>
            <a:ext cx="1642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松脂球形成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276720" y="83808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.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松树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0" y="19051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    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.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夏天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气炎热到松树流出松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0" y="3429000"/>
            <a:ext cx="660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经典粗圆简"/>
                <a:ea typeface="经典粗圆简"/>
              </a:rPr>
              <a:t>    </a:t>
            </a: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.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凑巧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蜘蛛和苍蝇在一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276720" y="510552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.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松脂不断往下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琥珀的形成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0" y="228600"/>
            <a:ext cx="9067680" cy="5814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几十年，几百年，几千年，时间一转眼就过去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YW00064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324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>
            <a:off x="8173800" y="228600"/>
            <a:ext cx="729000" cy="6400800"/>
          </a:xfrm>
          <a:prstGeom prst="rect">
            <a:avLst/>
          </a:prstGeom>
          <a:noFill/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又是几千年过去了，那些松脂球成了化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3" descr="SUN_094"/>
          <p:cNvPicPr/>
          <p:nvPr/>
        </p:nvPicPr>
        <p:blipFill>
          <a:blip r:embed="rId1"/>
          <a:stretch/>
        </p:blipFill>
        <p:spPr>
          <a:xfrm>
            <a:off x="533520" y="838080"/>
            <a:ext cx="3276360" cy="5562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SUN_007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2247840" y="762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cc"/>
                </a:solidFill>
                <a:latin typeface="隶书"/>
                <a:ea typeface="隶书"/>
              </a:rPr>
              <a:t>变成化石的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62120" y="2362320"/>
            <a:ext cx="359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幼圆"/>
                <a:ea typeface="幼圆"/>
              </a:rPr>
              <a:t>1.</a:t>
            </a:r>
            <a:r>
              <a:rPr b="0" lang="zh-CN" sz="4000" spc="-1" strike="noStrike">
                <a:solidFill>
                  <a:srgbClr val="ff0000"/>
                </a:solidFill>
                <a:latin typeface="幼圆"/>
                <a:ea typeface="幼圆"/>
              </a:rPr>
              <a:t>时间漫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572000" y="236232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幼圆"/>
                <a:ea typeface="幼圆"/>
              </a:rPr>
              <a:t>2.</a:t>
            </a:r>
            <a:r>
              <a:rPr b="0" lang="zh-CN" sz="4000" spc="-1" strike="noStrike">
                <a:solidFill>
                  <a:srgbClr val="ffff00"/>
                </a:solidFill>
                <a:latin typeface="幼圆"/>
                <a:ea typeface="幼圆"/>
              </a:rPr>
              <a:t>陆沉水漫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838080" y="4572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0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松树腐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4572000" y="4572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幼圆"/>
                <a:ea typeface="幼圆"/>
              </a:rPr>
              <a:t>4.</a:t>
            </a:r>
            <a:r>
              <a:rPr b="0" lang="zh-CN" sz="4000" spc="-1" strike="noStrike">
                <a:solidFill>
                  <a:srgbClr val="00ff00"/>
                </a:solidFill>
                <a:latin typeface="幼圆"/>
                <a:ea typeface="幼圆"/>
              </a:rPr>
              <a:t>泥沙掩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848720" y="593640"/>
            <a:ext cx="990360" cy="46659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经典细空黑"/>
              </a:rPr>
              <a:t>化石的价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80880" y="297000"/>
            <a:ext cx="74678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从那块琥珀，我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可以推测发生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一万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故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的详细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形，并且可以知道，在远古时代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世界上就已经有苍蝇和蜘蛛了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457200" y="76212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57200" y="533520"/>
            <a:ext cx="38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琥珀，以其浑然天成的古朴庄重之美，温润中透出典雅之气，深受人们的喜爱，被誉为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蕴藏古史之宝</a:t>
            </a:r>
            <a:r>
              <a:rPr b="0" lang="zh-CN" sz="24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457200" y="2514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琥珀是</a:t>
            </a:r>
            <a:r>
              <a:rPr b="0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000</a:t>
            </a:r>
            <a:r>
              <a:rPr b="0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多万年前松树脂的化石，在琥珀这种化石的植物脂内，常常包裹有植物碎屑和各种远古的小动物。在蜜汁般的色泽内，常常能发现一只苍蝇的翅膀，或者一个小小的甲虫，一丝一缕，清晰可见。可谓变化多端，异彩纷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WordArt 8"/>
          <p:cNvSpPr txBox="1"/>
          <p:nvPr/>
        </p:nvSpPr>
        <p:spPr>
          <a:xfrm>
            <a:off x="5029200" y="2895480"/>
            <a:ext cx="3352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ff"/>
                  </a:solidFill>
                  <a:round/>
                </a:ln>
                <a:solidFill>
                  <a:srgbClr val="ff00ff">
                    <a:alpha val="50000"/>
                  </a:srgbClr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琥珀简介</a:t>
            </a:r>
            <a:endParaRPr b="1" lang="en-US" sz="4000" spc="1" strike="noStrike">
              <a:ln w="12600">
                <a:solidFill>
                  <a:srgbClr val="0000ff"/>
                </a:solidFill>
                <a:round/>
              </a:ln>
              <a:solidFill>
                <a:srgbClr val="ff00ff">
                  <a:alpha val="50000"/>
                </a:srgbClr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" name="Picture 11" descr="琥珀14"/>
          <p:cNvPicPr/>
          <p:nvPr/>
        </p:nvPicPr>
        <p:blipFill>
          <a:blip r:embed="rId1"/>
          <a:stretch/>
        </p:blipFill>
        <p:spPr>
          <a:xfrm>
            <a:off x="5105520" y="399960"/>
            <a:ext cx="3429000" cy="234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琥珀15"/>
          <p:cNvPicPr/>
          <p:nvPr/>
        </p:nvPicPr>
        <p:blipFill>
          <a:blip r:embed="rId2"/>
          <a:stretch/>
        </p:blipFill>
        <p:spPr>
          <a:xfrm>
            <a:off x="5067360" y="4264200"/>
            <a:ext cx="3467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0479-B0F4-4CBB-9094-F869615F20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9" descr="琥珀19"/>
          <p:cNvPicPr/>
          <p:nvPr/>
        </p:nvPicPr>
        <p:blipFill>
          <a:blip r:embed="rId1"/>
          <a:stretch/>
        </p:blipFill>
        <p:spPr>
          <a:xfrm>
            <a:off x="0" y="-19080"/>
            <a:ext cx="4572000" cy="3448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昆虫琥珀化石1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昆虫琥珀化石2"/>
          <p:cNvPicPr/>
          <p:nvPr/>
        </p:nvPicPr>
        <p:blipFill>
          <a:blip r:embed="rId3"/>
          <a:stretch/>
        </p:blipFill>
        <p:spPr>
          <a:xfrm>
            <a:off x="0" y="3403440"/>
            <a:ext cx="4572000" cy="345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昆虫琥珀化石3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3"/>
          <p:cNvSpPr/>
          <p:nvPr/>
        </p:nvSpPr>
        <p:spPr>
          <a:xfrm>
            <a:off x="3429000" y="237636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琥 珀欣 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昆虫琥珀化石4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昆虫琥珀化石5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昆虫琥珀化石6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昆虫琥珀化石8"/>
          <p:cNvPicPr/>
          <p:nvPr/>
        </p:nvPicPr>
        <p:blipFill>
          <a:blip r:embed="rId4"/>
          <a:stretch/>
        </p:blipFill>
        <p:spPr>
          <a:xfrm>
            <a:off x="4572000" y="3429000"/>
            <a:ext cx="4648320" cy="3429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9"/>
          <p:cNvSpPr/>
          <p:nvPr/>
        </p:nvSpPr>
        <p:spPr>
          <a:xfrm>
            <a:off x="3429000" y="2376360"/>
            <a:ext cx="228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琥 珀欣 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琥珀饰品1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琥珀饰品2"/>
          <p:cNvPicPr/>
          <p:nvPr/>
        </p:nvPicPr>
        <p:blipFill>
          <a:blip r:embed="rId2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琥珀饰品4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琥珀饰品3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743200" y="2376360"/>
            <a:ext cx="358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隶书"/>
              </a:rPr>
              <a:t>琥珀饰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1116000" y="907920"/>
            <a:ext cx="71280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ffffcc"/>
                </a:solidFill>
                <a:latin typeface="华文行楷"/>
                <a:ea typeface="华文行楷"/>
              </a:rPr>
              <a:t>自读提示</a:t>
            </a:r>
            <a:r>
              <a:rPr b="1" lang="en-US" sz="4000" spc="-1" strike="noStrike">
                <a:solidFill>
                  <a:srgbClr val="ffffcc"/>
                </a:solidFill>
                <a:latin typeface="华文行楷"/>
                <a:ea typeface="华文行楷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华文行楷"/>
                <a:ea typeface="华文行楷"/>
              </a:rPr>
              <a:t>        </a:t>
            </a:r>
            <a:r>
              <a:rPr b="0" lang="en-US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0" lang="zh-CN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读准字音，读不准的借助工具书或询问同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0" lang="en-US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0" lang="zh-CN" sz="36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边读边画出带生字的词，结合语言环境加以理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762120" y="277020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1692360" y="1268280"/>
            <a:ext cx="597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苍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蝇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森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林        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沾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晌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午        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渗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出        包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逼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近        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淹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没        黏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剩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下        前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俯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后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1835280" y="1700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推测：根据已经知道的事情来想象不知道的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476360" y="1413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默读课文，思考：课文讲了有关琥珀的哪些内容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5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8:21Z</dcterms:modified>
  <cp:revision>4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