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AC5D-5A76-4CA9-9AB4-8057C18F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0E8-F04D-4C21-BFAD-5C99AFC6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BCB-4B61-44DE-94AD-FDF0E238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057-A09E-4636-875F-1DBA626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A7-22F3-4152-91A3-E14F1926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65D-1D83-4801-8770-C1AA769D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C84-5B83-4845-99EE-9004244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200-4DFC-43BD-A4B2-65887D10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2D4-7CEF-4E9C-AC5A-9B9FF3A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9AA-F714-4AC6-A7B3-1FF33F2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F0A-9871-4D4C-A5AA-62B8567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128-6AB0-4E5B-926B-87DBF41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B25-05C7-45C0-BF66-CAC63EE1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050-EAD2-411F-BCDD-0FD1876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215-AA2F-4140-AB96-9D4B8F56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8aa09092dbeef016a60fbd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602080" y="620640"/>
            <a:ext cx="3744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Arial"/>
                <a:ea typeface="楷体_GB2312"/>
              </a:rPr>
              <a:t>鹭 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ars.mp3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842840" y="5278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067280" y="3357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图片1"/>
          <p:cNvPicPr/>
          <p:nvPr/>
        </p:nvPicPr>
        <p:blipFill>
          <a:blip r:embed="rId1"/>
          <a:stretch/>
        </p:blipFill>
        <p:spPr>
          <a:xfrm>
            <a:off x="4427640" y="260280"/>
            <a:ext cx="432108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63840" y="77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图片4"/>
          <p:cNvPicPr/>
          <p:nvPr/>
        </p:nvPicPr>
        <p:blipFill>
          <a:blip r:embed="rId2"/>
          <a:stretch/>
        </p:blipFill>
        <p:spPr>
          <a:xfrm>
            <a:off x="0" y="260280"/>
            <a:ext cx="4330800" cy="5473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250920" y="4724280"/>
            <a:ext cx="799128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24784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55640" y="494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晴天的清晨，每每看见它孤独地站立在小树的绝顶，看来像是不太安稳，而它却很悠然。这是别的鸟很难表现的一种嗜好。人们说它是在望哨，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可它真是在望哨吗？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外拓展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于鹭鸶的诗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49520" y="1607760"/>
            <a:ext cx="40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鹭 鸶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唐 杜牧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雪衣雪发青玉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群捕鱼儿溪影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惊飞远映碧山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树梨花落晚风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87640" y="1628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372360" y="19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286000" y="2833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渔歌子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 张志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塞山前白鹭飞， 桃花流水鳜鱼肥。青箬笠，绿蓑衣， 斜风细雨不须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200903262212217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286000" y="24224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梦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清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常记溪亭日暮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沉醉不知归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兴尽晚回舟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误入藕花深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争渡，争渡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惊起一滩鸥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077dab35ea1089b8a71e12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 rot="21226200">
            <a:off x="2556000" y="1341000"/>
            <a:ext cx="4016160" cy="36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760000"/>
                </a:gradFill>
                <a:latin typeface="宋体"/>
              </a:rPr>
              <a:t>谢谢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760000"/>
                </a:gradFill>
                <a:latin typeface="宋体"/>
              </a:rPr>
              <a:t>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76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3655-81F9-48BE-B28D-ADDAE96274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09360" y="380880"/>
            <a:ext cx="63118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霜衣雪花青玉嘴， 群捕鱼儿溪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惊飞远映碧山去， 一树梨花落晚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35_2119_8c96ba343413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13000002011621218697461271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0100000000000011908821843329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1535040" y="596412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58698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鹭鸶是一首精巧的诗。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色素的配合，身段的大小，一切都很适合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白鹤太大而嫌生硬，可不用说</a:t>
            </a:r>
            <a:r>
              <a:rPr b="1" lang="en-US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即如粉红的朱鹭或灰色的苍鹭，也觉得大了一些，而且太不寻常了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然而鹭鸶却因为它的常见，而被人忘却它的美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那雪白的蓑毛，那全身的流线型结构，那铁色的长喙，那青色的脚，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增一点儿则嫌长，减一点儿则嫌短，素一点儿则嫌白，深一点儿则嫌黑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tar.mp3" descr=""/>
          <p:cNvPicPr/>
          <p:nvPr/>
        </p:nvPicPr>
        <p:blipFill>
          <a:blip r:embed="rId1"/>
          <a:stretch/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班得瑞 - 春野 - 自然音乐.mp3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79280" y="549360"/>
            <a:ext cx="864072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200560" y="-814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24000" y="112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这段话中，分别从哪几个方面描具体写了鹭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这段话在语言描写上有什么特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3234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7044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1692360" y="29034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508720" y="0"/>
            <a:ext cx="363528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鹭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鹭鸶是一首精美的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那雪白的蓑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那全身的流线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那铁色的长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那青色的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增一点儿则嫌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减一点儿则嫌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素一点儿则嫌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深一点儿则嫌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鹭鸶实在是一首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一首韵在骨子里的散文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735_2119_8c96ba343413290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33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33342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0071020122359761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4643280" y="3284640"/>
            <a:ext cx="4284720" cy="32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003640" y="36925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荷花的颜色红里透白，浓一点儿则嫌艳，淡一点儿则嫌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95280" y="1989000"/>
            <a:ext cx="4284720" cy="324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55640" y="263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空中悬浮的白云，浓一点则嫌厚，稀一点则嫌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20061219112703(5)_s_200612191127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1413000"/>
            <a:ext cx="658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战国时宋玉在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登徒子好色赋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中写一位美丽少女时是这样描写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东家之子，增之一分则太长，减之一分则太短，着粉则太白，施朱则太赤。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solidFill>
            <a:srgbClr val="cc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清水田里时有一只两只站着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钓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鱼，整个的田便成了一幅嵌在玻璃框里的画面。田的大小好像有心人为鹭鸶设计的镜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晴天的清晨，每每看见它孤独地站立在小树的绝顶，看来像是不太安稳，而它却很悠然。这是别的鸟很难表现的一种嗜好。人们说它是在望哨，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可它真是在望哨吗？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或许有人会感着美中的不足，鹭鸶不会唱歌。但是鹭鸶的本身不就是一首很优美的歌吗？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不，歌未免太铿锵了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鹭鸶实在是一首诗，一首韵在骨子里的散文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ears.mp3" descr=""/>
          <p:cNvPicPr/>
          <p:nvPr/>
        </p:nvPicPr>
        <p:blipFill>
          <a:blip r:embed="rId1"/>
          <a:stretch/>
        </p:blipFill>
        <p:spPr>
          <a:xfrm>
            <a:off x="75564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班得瑞 - 春野 - 自然音乐.mp3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我等候你-轻音乐.mp3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3047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7044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0883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34f12824fed78c198644f911"/>
          <p:cNvPicPr/>
          <p:nvPr/>
        </p:nvPicPr>
        <p:blipFill>
          <a:blip r:embed="rId1"/>
          <a:stretch/>
        </p:blipFill>
        <p:spPr>
          <a:xfrm>
            <a:off x="0" y="0"/>
            <a:ext cx="4302000" cy="652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90506212658800"/>
          <p:cNvPicPr/>
          <p:nvPr/>
        </p:nvPicPr>
        <p:blipFill>
          <a:blip r:embed="rId2"/>
          <a:stretch/>
        </p:blipFill>
        <p:spPr>
          <a:xfrm>
            <a:off x="4356000" y="260280"/>
            <a:ext cx="4537080" cy="5975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900000" y="4581360"/>
            <a:ext cx="7417080" cy="520560"/>
          </a:xfrm>
          <a:prstGeom prst="rect">
            <a:avLst/>
          </a:prstGeom>
          <a:solidFill>
            <a:srgbClr val="cc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在清水田里时有一只两只站着钓鱼，整个的田便成了一幅嵌在玻璃框里的画面。田的大小好像有心人为鹭鸶设计出的镜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2:31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2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